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99A-13FE-43CF-B8B4-1D04BF7C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E74-C9BC-4B3C-A0B6-61E5FDB2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485-1B84-4EC2-96B6-B5F85412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952-D016-4882-9C4C-6689B8A1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EF9F-6D8C-4BC6-94BC-353BACA7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9C99-5083-4615-BB2E-45CFB5F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11CD-93FC-4482-AD75-B0C11EC6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A031-B9C5-4B14-8649-4D1D92F2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DF37-56FD-4C5E-B592-CE9774B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B7DA-8F2F-4D37-8930-B98E3878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84F2-99F1-4902-B292-84D48BDC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DEA-0385-4EEF-B1E1-F5FB6B30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8011-BC96-406F-A0BD-7B28C1D4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B7DD-CF7B-4F67-90E8-6CD5AD71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835C-9E6B-4AE5-B5BC-11F92AFC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DAD9-F9B2-4DE0-A0EA-107BE310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457C-4CD5-471B-9B2B-D7CDA2C2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249-96E5-4A75-9CD7-040C4D83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2B6-7A34-4F49-A2A5-C6E55F9C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5E1-E229-4077-912A-AAB878F7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9DA-94C7-49EF-A688-637D91C1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358-52B2-4A12-A9EF-16F21D3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92B-947F-4ED6-986A-413BDFD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F89-B9E2-4BFC-B4D2-C5A692DD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6A41-1577-4C0A-8354-609C5197F5D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9917-24FB-4AA5-BA22-F9BE4F0A25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3. Estrategia de licit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gunas definiciones en la estrategia de una licit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finición del produ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Transporte de minerales Chuquica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gmentación / Agreg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Zonificación oxíge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gración / desintegración de la cade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Servicios de agencia de viajes DIREC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étodos de negoci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Gobierno del Estado de Sao Paulo, Br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anejo político institucional de la lici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Plantas PSA en el Hospital Van Bu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es de conting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ómo se va a enfrentar el caso en que la licitación quede desiert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cio razon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Hasta dónde estamos dispuestos a pagar por el servici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licación: constancia del precio ante notari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lo de operación del 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ientos administrativ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sos logísti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lítica de garantías y mul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os 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 de p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o de reaju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mbios de regul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rategia: cómo enfrentar monopolios y oligopol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r más compet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Existen otros proveedores que puedan integrarse a la licitación? (nacionales/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ha impedido que participen de licitaciones anteri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Trampa de la mosca de la fruta - 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a factibilidad de desarrollar nuevos productores/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Producción nacional de repuestos - CODE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rementar el poder de negoci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gar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gregar la caden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métodos de negociación más agre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mitar cuidadosamente las reglas del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e cerrado primer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alificación técnica / competencia por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aje ponderado técnico /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fijo de rondas (2 o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presencial (número indefinido de ron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virtual (precio dinámico limitado por tiem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to marco / contrato de sumin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 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rmas de evaluación y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agregación de productos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glob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por produc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cial por producto / z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modalidad de eval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cio (unitario / tot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ntaje (polinomio de evaluación: precio, calidad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icitación combinato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. el menor precio posible en una lista de 200 prods., adjudicados a no más de 3 prove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citación por zonas con adjudicación parcial, y restricciones inter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de riesg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en qué forma serán abordados los riesgos en el proceso de licitación y en la ejecución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fuentes de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r sus posibles impactos/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medidas de mi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izar responsa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d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ecer los requerimientos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15:37Z</dcterms:modified>
  <cp:revision>8</cp:revision>
  <dc:subject/>
  <dc:title>Cómo enfrentar procesos de compra poco competitivos</dc:title>
</cp:coreProperties>
</file>