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5F1-177D-47E9-9B0D-C7057B6E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1D4-0276-404A-8224-D5ABDE9A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8E9-02DA-4F5E-9621-F6EAE7AD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4E8-21C5-4490-810F-85AD8142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FC0D-BF89-4A7D-9977-1676297C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C213-1F49-4483-B147-3B2E457D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3338-D029-4362-BE45-A0674A94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0C32-F7CC-4378-B491-7AB2A6C8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2BAE-A50F-4826-8AD0-7EE22CCB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9573-4699-41A4-B6CD-69EB4745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A273-978A-458A-B0DA-CA26DAB9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1C3-2571-4732-99A8-816A6B61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9B87-306D-4C65-8D79-17A34D0F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012E-F9F0-443E-AFCD-E5630123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07CA-C0F8-46E8-A722-97E18E94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2D7C-E5C3-4D9E-A748-8A31A2C5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40F3-2BF0-4C5A-AE3B-32076C03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160-DC0F-4471-9305-91BA664E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2F7-AF55-404C-92DC-024D601E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F8D-8E16-40CF-8FF3-8F1816FF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69A-7D65-4D1A-AE79-D1345CFF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C26-1BAB-493D-B4B7-8C2A07CD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6AD-BD34-485D-8D97-8396B03E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C60-5A15-4CC2-B622-96C2F76E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79BF-DB85-472B-890C-0A2C8EE33A7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448F-C14E-424D-BB3F-14302F26DAD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FI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quest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canismo que se usa durante los estudios pre-licitatorios, para realizar consultas públicas y abiertas a los posibles proveedores de un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os de la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er nuevas soluciones que está ofreciendo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 espacio a los proveedores para que propongan modelo de negocios, que den eficiencia a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ar la redacción de las bases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plataforma Chile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ruta 5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l Registro Nacional de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sistema clínico y financiero Integra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cribir los requerimientos en función de los resultados que se quieren obtener y no de la forma de obtener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alizar un análisis en profundidad de los requerimientos, que permita caracterizar los resultados dese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ar una estructuración del problema que asegure el cumplimiento de los objetivos anter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ferencias en la literatura téc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tatement of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vice level agre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54560" y="1916280"/>
            <a:ext cx="2303280" cy="8632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stánd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313992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resultados tienen que obtenerse para satisfacer los requerimien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3139920"/>
            <a:ext cx="223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objetivos deben cumplirse para evaluar satisfactoriamente cada uno de esos result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3139920"/>
            <a:ext cx="22320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ndicadores deben emplearse para evaluar el cumplimiento de los objetiv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es son los estándares para cada uno de estos indicado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tolerancia podemos acept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heck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buena oferta técnica?¿Están claramente especificados los resultados?¿Son realistas los objetivos y met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oferta económica adecuada? ¿Cuentan con los antecedentes para dimensionar la envergadura del proyecto y los costos asociad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stándares de calidad claramente especificados, de modo que todos los participantes puedan evaluar su performanc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Hay restricciones innecesari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claramente definidas las condiciones de entrega? (cantidad, oportunidad, mecanismos de coordinación, tiempos de respuest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 incluido toda la documentación de referencia necesari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tudiado e incorporado normas y estándares de calidad para la definición de las especificaciones del trabajo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pecificado claramente los requerimientos de información al proveedor, en una sección separada? ¿Se han eliminado o aclarado requerimientos de información extraños o ambigu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aluar en qué medida se están satisfaciendo las condiciones de la especificación del trabaj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evaluación de perform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fine la forma en que el personal de la institución evaluará y valorará la performance del proveedor o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 un documento dinámico, que debe ser revisado o modificado cuando las condiciones lo amerit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basado en la premisa que el proveedor o contratista es responsable por el control de calidad de los servicios entrega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ejecución de este plan nunca debe ser entregada al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control de cal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orientado a controlar en forma permanente que los servicios se estén entregando en forma adecua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 ser de responsabilidad del provee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alea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perió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álisis de tend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roalimentación de los cl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orías de c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, Contenidos del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s y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de eval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das correc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tificación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ficación de los reportes de discrepa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 de reclamos de clientes y plan de entren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3. Estrategia de licitació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lgunas definiciones en la estrategia de una licit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finición del produc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Transporte de minerales Chuquica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egmentación / Agreg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Zonificación oxíge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tegración / desintegración de la cade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Servicios de agencia de viajes DIREC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étodos de negoci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Gobierno del Estado de Sao Paulo, Bras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anejo político institucional de la licit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Plantas PSA en el Hospital Van Bu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anes de conting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ómo se va a enfrentar el caso en que la licitación quede desierta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cio razon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Hasta dónde estamos dispuestos a pagar por el servicio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licación: constancia del precio ante notari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delo de operación del contra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dimientos administrativ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sos logístic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lítica de garantías y mult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pectos 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ma de pa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o de reajus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mbios de regul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rategia: cómo enfrentar monopolios y oligopol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r más compet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Existen otros proveedores que puedan integrarse a la licitación? (nacionales/internac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ha impedido que participen de licitaciones anterio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Trampa de la mosca de la fruta - S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a factibilidad de desarrollar nuevos productores/o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Producción nacional de repuestos - CODEL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crementar el poder de negoci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gar de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gregar la caden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r métodos de negociación más agre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mitar cuidadosamente las reglas del ju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 de negoci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tá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bre cerrado primer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alificación técnica / competencia por 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taje ponderado técnico /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b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fijo de rondas (2 o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te a la inversa presencial (número indefinido de ron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te a la inversa virtual (precio dinámico limitado por tiem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rato marco / contrato de suminis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 de negociación I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ormas de evaluación y adjud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agregación de productos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otal glob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otal por produc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cial por producto / zo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modalidad de eval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cio (unitario / tota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untaje (polinomio de evaluación: precio, calidad,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icitación combinator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68280" indent="-289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. el menor precio posible en una lista de 200 prods., adjudicados a no más de 3 provee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8280" indent="-289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citación por zonas con adjudicación parcial, y restricciones inter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de riesg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en qué forma serán abordados los riesgos en el proceso de licitación y en la ejecución del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fuentes de ries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r sus posibles impactos/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medidas de miti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izar responsabi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da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ecer los requerimientos a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4. Especificar la necesida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9-02T12:15:37Z</dcterms:modified>
  <cp:revision>8</cp:revision>
  <dc:subject/>
  <dc:title>Cómo enfrentar procesos de compra poco competitivos</dc:title>
</cp:coreProperties>
</file>