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6A0F-E53E-41D7-AFBB-7AAF260B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8172-1799-429A-8965-92CB3828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923-E58A-4B63-8643-E5936821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3095-3DDA-48A8-94C9-D82C6C555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25C5-ABFE-46B1-8605-B80C0492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E190-E412-40C3-B481-9E1F2E09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FEAE-D4CF-46DC-83AD-20542EE4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BD83-FF53-454A-939A-4BE5CA6B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8141-7036-4ADB-9797-55CE3363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F52E-1D97-485D-9C8E-9BFFA657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E889-0418-4EEB-9C9B-E2296FBF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A95-F9EF-4725-9F34-FD3ED2BB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5113-C217-43E7-B595-ED1C7FFC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7558-E75B-4B29-A4F1-B3511829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94589-C3B1-4651-8B9A-AC5717E7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2C31-C826-4E0E-B92F-05A4F290B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32CB-5749-4DCA-A81D-6C75CC69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778-F58B-4030-A044-CCE8D1C6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289C-6238-4DA7-AAC0-9939036A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81E-9BDB-47A2-94CF-78260111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121-F4A7-4D06-9486-A3C010DD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42E-A364-49B9-A926-980E20CA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5E70-0345-452C-A9E9-8EC0D8E1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019-63D4-4761-9B49-A1E21765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5BB0-4362-4F96-9BF2-75A19E522254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0800-B3B0-484E-916B-231605E1CC6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Gestión estratégica de licitaciones (parte 1)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 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isión del mercad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organizacional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cional / Regional / Inter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erta / Dema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dades físicas / monet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diciones actuales del mercad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álisis de la logíst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cnologías de producción alternativ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costo-efe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ructura de cost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agregación de la cadena de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80000"/>
              </a:lnSpc>
              <a:spcBef>
                <a:spcPts val="3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reras de entrada / sali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uentes alternativas de suminist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37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álisis de factibil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usuari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pectiva de los proveedo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uándo hacer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tes de la li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es de comenzar, el estudio de mercado sirve para detectar las alternativas de solución dispon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urante la preparación, sirve para revisar y mejorar la especificación del tra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pués de la adjudic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egura que los acuerdos alcanzados siguen siendo efectivos en términos de precio, oportunidad y calidad técn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ementos a consider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termine qué información necesita y las preguntas que debe hacer para averiguar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Identifique las fuentes de información disponibles (Internet, asociaciones gremiales, publicaciones especializadas, ferias, etc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Genere otras fuentes de información a partir de brainstorming (puede necesitar más de una sesió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iorice las fuentes de información, dejando las más relevantes y analizando en qué medida satisfacen sus requerimien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repare el cuestionario a realizar. Analice en qué medida contribuye a los objetivos del estud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Use el cuestionario como referencia para conducir la entrevista. Complete un checklist para verificar la inform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gistre las preguntas de los proveedores contact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mend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estudios previos. Considere información de otras institu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volucre a todos los actores relevantes en el proceso de adquisi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tacte a los especialistas en la materia, tanto en el gobierno como en la industria. Analice estrategias y mejores práctic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usque directorios de industria (páginas amarillas, Internet, asociaciones gremiales, directorios comercial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ublique R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se catálogos y publicaciones de los provee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stenga entrevist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téngase al día en sus áreas de especialización, suscribiéndose a revistas, asistiendo a seminarios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o sistémico de gestión de licitac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763640" y="1352520"/>
          <a:ext cx="5616720" cy="536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52520"/>
                    <a:ext cx="5616720" cy="536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1. Equipo de proyecto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 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riterios general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administración de una licitación compleja requiere de especialidades divers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formar equipos multidisciplinar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involucrar a todas las áreas de la organización que tengan alguna relevancia para 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Hay que evaluar cuáles de los conocimientos requeridos no están disponibles y buscarlos externament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Benchm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atación de asesores especia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composición del equipo debe definirse en función del monto involucrado, de la complejidad del proceso y de la disponibilidad de competencias al interior de la organiz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Constitución equipo de proyecto</a:t>
            </a:r>
            <a:br>
              <a:rPr sz="3500"/>
            </a:b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Posibles miembro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rador a cargo del proces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rios relevantes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presupuestari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jurídico (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técn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economía indust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gestión de oper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pecialista en métodos de neg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de 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esor en gestión de riesg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330066"/>
                </a:solidFill>
                <a:latin typeface="Arial"/>
              </a:rPr>
              <a:t>2. Estudios prelicitatorios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l contacto con los proveedor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Una herramienta esencial para diseñar licitaciones efectivas y efici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ipos de contac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ocer innovaciones y tendencias del merc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udios pre-licitato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alizar estrategias de lici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proceso de li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ontactos formales y públicos (según base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urante la ejecución de un contr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miento continu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izar qué restringe la competenc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7200" y="1719360"/>
          <a:ext cx="8229600" cy="4516200"/>
        </p:xfrm>
        <a:graphic>
          <a:graphicData uri="http://schemas.openxmlformats.org/drawingml/2006/table">
            <a:tbl>
              <a:tblPr/>
              <a:tblGrid>
                <a:gridCol w="2746440"/>
                <a:gridCol w="548316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écnicas disponibl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ción industrial de la of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 de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 minoritari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gente relacionada con la industr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de licit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álisis de las operaciones de la industria proveedo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vistas con proveedo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esoría exper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95360" indent="-495360">
                        <a:spcBef>
                          <a:spcPts val="550"/>
                        </a:spcBef>
                        <a:buClr>
                          <a:srgbClr val="330066"/>
                        </a:buClr>
                        <a:buSzPct val="7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mar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studio de mercado: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undament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irse en compradores infor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r a definir la estrategia de licitación y los temas que deberán ser abor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nef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disponibilidad del bien o serv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reconocer las alternativas que ofrece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ga antecedentes para evaluar el monto del contr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especificar mejor las neces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ve para mantenerse al tanto de innovaciones y de las tendencias d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yuda a determinar la estrategia de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 interés en los proveedores por participar de la lici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8-18T20:54:15Z</dcterms:modified>
  <cp:revision>6</cp:revision>
  <dc:subject/>
  <dc:title>Cómo enfrentar procesos de compra poco competitivos</dc:title>
</cp:coreProperties>
</file>