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D877-2F51-4D71-B619-1A641647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DD0-CAFC-4DDB-A927-6FBDEBE2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2338-DE1C-44C2-84E3-2D427795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F34-B8DE-4DDB-BF78-A9D39C00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EF2D-A3BF-4A92-A295-6D6ECD43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BC13-8E0E-4C6A-8CC1-520A0A82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43BC-3761-400A-B4AA-800D60B5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0E04-746B-4D2D-95BB-34FF1853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A246-7D67-411D-9CAE-64568B15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32C7-BC22-49A6-BFCA-32677541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0E84-24A5-4399-A7F0-7F14665F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730-FD7B-4758-8122-8DA324A4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8701-CEC4-4EDD-A842-07E4D8EC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AB32-E129-4C9D-972E-BB9CBA6F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48D4-8E8E-4D68-8E05-D26C4B6F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6532-EB60-462C-A9FF-0AA75492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74C8-5431-4038-A97F-6E7D0E03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3260-67B6-48B2-AA6A-33F0FC33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1BC0-ADE7-4FE9-B105-3452DCAF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1BA7-5BA4-49B3-9B80-44802F18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71D-A5A2-4631-92D0-8A645D8F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FAE-EEDF-4D8A-BE17-AB8837D7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832D-7F45-44ED-80A8-2DCBCFAD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0E2-BDB6-4F51-8C71-B6C4EB83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C762-7416-43EB-B467-A5C51C8FDF1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8390-AE7E-4FFD-89E8-6925ED84205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Gestión estratégica de licitaciones (parte 1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 conteni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sión del merc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structura organizacional del merca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cional / Regional / Intern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erta / Dema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dades físicas / monet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diciones actuales del merca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álisis de la logíst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cnologías de producción alternativ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álisis de costo-efe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structura de cost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agregación de la cadena de 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rreras de entrada / sal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uentes alternativas de suminist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álisis de factibilid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erspectiva de los usua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erspectiva de los proveedor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uándo hacer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s de la lici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tes de comenzar, el estudio de mercado sirve para detectar las alternativas de solución dispon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ante la preparación, sirve para revisar y mejorar la especificación del tra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pués de la adjud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egura que los acuerdos alcanzados siguen siendo efectivos en términos de precio, oportunidad y calidad téc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os a consider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termine qué información necesita y las preguntas que debe hacer para averiguar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dentifique las fuentes de información disponibles (Internet, asociaciones gremiales, publicaciones especializadas, ferias, etc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Genere otras fuentes de información a partir de brainstorming (puede necesitar más de una sesió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iorice las fuentes de información, dejando las más relevantes y analizando en qué medida satisfacen sus requerimien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epare el cuestionario a realizar. Analice en qué medida contribuye a los objetivos del estudi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Use el cuestionario como referencia para conducir la entrevista. Complete un checklist para verificar la inform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gistre las preguntas de los proveedores contacta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omend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ise estudios previos. Considere información de otras instituci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olucre a todos los actores relevantes en el proceso de adquisi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acte a los especialistas en la materia, tanto en el gobierno como en la industria. Analice estrategias y mejores práctic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sque directorios de industria (páginas amarillas, Internet, asociaciones gremiales, directorios comercial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ublique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ise catálogos y publicaciones de los proveedor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stenga entrevist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téngase al día en sus áreas de especialización, suscribiéndose a revistas, asistiendo a seminarios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sistémico de gestión de licit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63640" y="1352520"/>
          <a:ext cx="561672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352520"/>
                    <a:ext cx="561672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1. Equipo de proyect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stitución equipo de proyecto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riterios general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administración de una licitación compleja requiere de especialidades divers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y que formar equipos multidisciplinar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y que involucrar a todas las áreas de la organización que tengan alguna relevancia para el proce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y que evaluar cuáles de los conocimientos requeridos no están disponibles y buscarlos externamen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ench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atación de asesores especial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composición del equipo debe definirse en función del monto involucrado, de la complejidad del proceso y de la disponibilidad de competencias al interior de la organiz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stitución equipo de proyecto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osibles miembr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rador a cargo del proceso (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rios relevantes (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esor presupuestario (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esor jurídico (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ista técn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ista en economía indust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ista en gestión de oper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ista en métodos de negoci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esor de ca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esor en gestión de ries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2. Estudios prelicitatorio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 contacto con los proveedo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a herramienta esencial para diseñar licitaciones efectivas y efici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ipos de conta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man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onocer innovaciones y tendencias del merc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udios pre-licitato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alizar estrategias de 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urante proceso de lici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ontactos formales y públicos (según bas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urante la ejecución de un contr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joramiento continu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alizar qué restringe la competenc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719360"/>
          <a:ext cx="8229600" cy="4516200"/>
        </p:xfrm>
        <a:graphic>
          <a:graphicData uri="http://schemas.openxmlformats.org/drawingml/2006/table">
            <a:tbl>
              <a:tblPr/>
              <a:tblGrid>
                <a:gridCol w="2746440"/>
                <a:gridCol w="548316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cnicas disponib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ón industrial de la ofer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udio de merc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s con proveedores minoritari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s con gente relacionada con la industr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de licit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de las operaciones de la industria proveedor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s con proveedo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 exper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chmar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irse en compradores inform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r a definir la estrategia de licitación y los temas que deberán ser abor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 a determinar la disponibilidad del bien o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 a reconocer las alternativas que ofrece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ga antecedentes para evaluar el monto del contr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 a especificar mejor las neces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ve para mantenerse al tanto de innovaciones y de las tendencias d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 a determinar la estrategia de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 interés en los proveedores por participar de la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9:49:55Z</dcterms:created>
  <dc:creator>Patricio Renner P.</dc:creator>
  <dc:description/>
  <dc:language>en-US</dc:language>
  <cp:lastModifiedBy>Patricio Renner P.</cp:lastModifiedBy>
  <dcterms:modified xsi:type="dcterms:W3CDTF">2004-08-18T20:54:15Z</dcterms:modified>
  <cp:revision>6</cp:revision>
  <dc:subject/>
  <dc:title>Cómo enfrentar procesos de compra poco competitivos</dc:title>
</cp:coreProperties>
</file>