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CEE-6110-4152-9BDA-236DC5E3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DCF-A174-4AC8-88F3-3056405F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62F-31B0-47F5-82ED-80E0D707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434-3C09-463C-ACEA-3CDB08C6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568E-4102-4EEF-AEBA-09DB3FC5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DF85-9084-4010-90F9-AFFD56CA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3A02-7905-4EF7-87FC-014BA4EC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A27F-BC01-4AD1-864B-528601C7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A6F0-BAFB-42F5-B28D-73E30DBD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E923-7EBD-4B86-A05E-1DB752EA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A082-D6B6-4298-A446-A9898B53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322-1290-47DF-86F5-0A9F7644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5DB3-C7BB-4303-A267-E958ED9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9215-709D-4EBD-ACA8-57D402D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6594-348F-4BCA-B2EE-32D17D23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55DF-9CF6-490D-9767-1180BABC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D9EC-7839-4709-BAC5-4CA912E1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8E4-AAF4-4243-A017-805D9873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B5B-8FC6-48F9-AD55-7091C4AA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109-55C4-4C51-8EF3-3BC3801A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3C9-2421-4E3C-971D-7C987420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437-FC20-492C-80CE-5B9226D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998-967C-4D91-B00B-D8EB7BC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1FD-3DAC-4470-93E7-901C62B9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2423-6147-4A5E-BC75-903136735AE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6CA3-F96C-452C-8277-4BCDAFA25FE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 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ión del merc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organizacional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ional / Regional /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erta / Dem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dades físicas / mone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diciones actuales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álisis de la logíst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cnologías de producción alterna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costo-efe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agregación de la caden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reras de entrada / sa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uentes alternativas de suminis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usu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proveed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ándo hacer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s de la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s de comenzar, el estudio de mercado sirve para detectar las alternativas de solución dispon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nte la preparación, sirve para revisar y mejorar la especificación del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pués de la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egura que los acuerdos alcanzados siguen siendo efectivos en términos de precio, oportunidad y calidad té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termine qué información necesita y las preguntas que debe hacer para averiguar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dentifique las fuentes de información disponibles (Internet, asociaciones gremiales, publicaciones especializadas, ferias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enere otras fuentes de información a partir de brainstorming (puede necesitar más de una ses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iorice las fuentes de información, dejando las más relevantes y analizando en qué medida satisfacen sus requerimien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pare el cuestionario a realizar. Analice en qué medida contribuye a los objetivos del estud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e el cuestionario como referencia para conducir la entrevista. Complete un checklist para verificar la inform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gistre las preguntas de los proveedores contact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estudios previos. Considere información de otras institu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olucre a todos los actores relevantes en el proceso de adqui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acte a los especialistas en la materia, tanto en el gobierno como en la industria. Analice estrategias y mejores práct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que directorios de industria (páginas amarillas, Internet, asociaciones gremiales, directorios comerci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qu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catálogos y publicaciones de los provee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stenga entrevist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téngase al día en sus áreas de especialización, suscribiéndose a revistas, asistiendo a seminario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 Equipo de proyect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riterios general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dministración de una licitación compleja requiere de especialidades divers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formar equipos multidisciplinar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involucrar a todas las áreas de la organización que tengan alguna relevancia para 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evaluar cuáles de los conocimientos requeridos no están disponibles y buscarlos externamen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tación de asesores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composición del equipo debe definirse en función del monto involucrado, de la complejidad del proceso y de la disponibilidad de competencias al interior de la organ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osibles miemb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ador a cargo del proces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rios relevantes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presupuestari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jurídic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téc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economía indust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gestión de oper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métodos de neg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de 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en gestión de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2. Estudios prelicitatorio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contacto con los prov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herramienta esencial para diseñar licitaciones efectivas y efici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ipos de conta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ocer innovaciones y tendencias del merc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udios pre-licit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izar estrategias de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proceso de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tactos formales y públicos (según bas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la ejecución de un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miento continu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 qué restringe la compete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719360"/>
          <a:ext cx="8229600" cy="4516200"/>
        </p:xfrm>
        <a:graphic>
          <a:graphicData uri="http://schemas.openxmlformats.org/drawingml/2006/table">
            <a:tbl>
              <a:tblPr/>
              <a:tblGrid>
                <a:gridCol w="2746440"/>
                <a:gridCol w="548316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 dispon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industrial de la of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 de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 minoritari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gente relacionada con la indust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de licit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las operaciones de la industria proveedo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exp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rse en compradores infor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r a definir la estrategia de licitación y los temas que deberán ser abor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disponibilidad del bien o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reconocer las alternativas que ofrece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ga antecedentes para evaluar el monto del 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especificar mejor las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ve para mantenerse al tanto de innovaciones y de las tendencias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estrategia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 interés en los proveedores por participar de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8T20:54:15Z</dcterms:modified>
  <cp:revision>6</cp:revision>
  <dc:subject/>
  <dc:title>Cómo enfrentar procesos de compra poco competitivos</dc:title>
</cp:coreProperties>
</file>