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BFD-B301-425D-8491-3D82C0D4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44A-B1B1-46F8-BF6A-C4661C8C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9CE-6993-43EA-A5EA-C9650BB5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F28-38E0-4DFE-812E-0F73973A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D641-CC10-4F6C-B2E3-F4AFC48F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DFF6-E122-4424-9C8D-548B01DF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FDCD-29A2-4391-9F70-771BA714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CEB1-2B7D-4501-8382-30173B47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7A51-F530-4CFC-AE53-BE4DDAFA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6B21-A9F5-42E2-858C-E102BE2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A6F6-3709-497F-8D30-5777131F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D61-8D39-4E1B-B32C-461732F6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DAAE-9455-4AB8-B3B1-818419C3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3155-FF77-44C7-9B85-9733B6C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B565-6291-4A49-A4B7-DE3D6249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020-828F-4945-A051-E94A1DE8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DB57-83F6-497C-A646-E5582ECC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C0C-03F6-4F5D-AF54-FA077088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ABC-18CF-4975-B24D-92BF863E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BD9-3B07-489C-83F8-7D1CB90D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EE6-A86F-460C-873A-06A9578C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1D8-8B18-4AEA-A8B5-8A75407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D37-80D8-49F6-AAD8-7B348643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C520-DC51-4B6F-B338-1D5CE568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E9B9-BD84-4400-9D37-DF99FAB5ABC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0F6A-A36D-43F7-97CF-C6678E952707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 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ión del merc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organizacional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ional / Regional /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erta / Dem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dades físicas / mone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diciones actuales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álisis de la logíst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cnologías de producción alterna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costo-efe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agregación de la caden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reras de entrada / sa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uentes alternativas de suminis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usu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proveed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ándo hacer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s de la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s de comenzar, el estudio de mercado sirve para detectar las alternativas de solución dispon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nte la preparación, sirve para revisar y mejorar la especificación del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pués de la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egura que los acuerdos alcanzados siguen siendo efectivos en términos de precio, oportunidad y calidad té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termine qué información necesita y las preguntas que debe hacer para averiguar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dentifique las fuentes de información disponibles (Internet, asociaciones gremiales, publicaciones especializadas, ferias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enere otras fuentes de información a partir de brainstorming (puede necesitar más de una ses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iorice las fuentes de información, dejando las más relevantes y analizando en qué medida satisfacen sus requerimien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pare el cuestionario a realizar. Analice en qué medida contribuye a los objetivos del estud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e el cuestionario como referencia para conducir la entrevista. Complete un checklist para verificar la inform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gistre las preguntas de los proveedores contact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estudios previos. Considere información de otras institu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olucre a todos los actores relevantes en el proceso de adqui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acte a los especialistas en la materia, tanto en el gobierno como en la industria. Analice estrategias y mejores práct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que directorios de industria (páginas amarillas, Internet, asociaciones gremiales, directorios comerci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qu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catálogos y publicaciones de los provee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stenga entrevist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téngase al día en sus áreas de especialización, suscribiéndose a revistas, asistiendo a seminario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 Equipo de proyect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riterios general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dministración de una licitación compleja requiere de especialidades divers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formar equipos multidisciplinar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involucrar a todas las áreas de la organización que tengan alguna relevancia para 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evaluar cuáles de los conocimientos requeridos no están disponibles y buscarlos externamen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tación de asesores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composición del equipo debe definirse en función del monto involucrado, de la complejidad del proceso y de la disponibilidad de competencias al interior de la organ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osibles miemb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ador a cargo del proces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rios relevantes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presupuestari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jurídic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téc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economía indust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gestión de oper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métodos de neg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de 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en gestión de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2. Estudios prelicitatorio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contacto con los prov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herramienta esencial para diseñar licitaciones efectivas y efici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ipos de conta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ocer innovaciones y tendencias del merc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udios pre-licit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izar estrategias de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proceso de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tactos formales y públicos (según bas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la ejecución de un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miento continu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 qué restringe la compete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719360"/>
          <a:ext cx="8229600" cy="4516200"/>
        </p:xfrm>
        <a:graphic>
          <a:graphicData uri="http://schemas.openxmlformats.org/drawingml/2006/table">
            <a:tbl>
              <a:tblPr/>
              <a:tblGrid>
                <a:gridCol w="2746440"/>
                <a:gridCol w="548316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 dispon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industrial de la of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 de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 minoritari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gente relacionada con la indust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de licit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las operaciones de la industria proveedo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exp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rse en compradores infor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r a definir la estrategia de licitación y los temas que deberán ser abor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disponibilidad del bien o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reconocer las alternativas que ofrece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ga antecedentes para evaluar el monto del 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especificar mejor las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ve para mantenerse al tanto de innovaciones y de las tendencias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estrategia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 interés en los proveedores por participar de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8T20:54:15Z</dcterms:modified>
  <cp:revision>6</cp:revision>
  <dc:subject/>
  <dc:title>Cómo enfrentar procesos de compra poco competitivos</dc:title>
</cp:coreProperties>
</file>