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F97-476C-46E5-AB16-48A0990F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7660-9D06-4DB3-BB1F-004268F5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73D-253D-4BF9-8EF1-DFC46AD2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E9A-146F-4849-A9C9-9F1D4F8E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CD5B-0588-4EC1-A3EB-150F2084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06DB-BAE0-487A-99D9-65A4A05D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E40A-D7A0-4234-981B-9D49AB8D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9A2A-1199-4AEA-9BF4-A749E9BC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C5DC-1AE6-4C26-8900-55280FA3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E13B-01A4-4FE4-8E2B-9F8BDF44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8CB7-22F5-46F1-9958-A94AAFAF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D08-2AB7-43DC-AFFE-04458661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F564-5EE8-43FD-93BC-1D562BDD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15E3-C986-493C-BE64-65D32EC4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5A15-788E-4F65-9017-E27EB070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B278-F472-43FB-8943-99205158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06FB-798F-4962-9B42-F3B85E90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862-74EC-4CBB-863B-6CCDFE7A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ADC-BE44-4151-9D9C-D54336CC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0C26-63B6-4EE8-8336-64AA62C0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AADB-A18E-425E-B7EB-EB9173F7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E2A-26FF-4D8E-AA63-CF5E00BC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5BF-D2DF-4FBB-9F7B-7A04E3C6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E21-5B11-4764-9C0D-E6BDAC3E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A033-0E80-4D1D-B8A3-584AAC083EC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294F-2B0E-4173-B415-66656C13150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Competitividad y Abastecimi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incipio bás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La única forma de alcanzar precios competitivos en los procesos de compra es generan condiciones favorables para la compet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racterísticas de un mercado competitiv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ización de la ofer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ización de la dema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ogeneidad de los bie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arencia en la información para todos los agentes del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las del juego no discriminator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ales de distribución abiertos y no discriminato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enas de suministro competitivas o regul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mperfecciones de mercado que afectan los procesos de compr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ganización industrial de la ofe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nopoli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ligopoli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ción domi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ganización industrial de la deman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nopson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ligopson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delos de licitación que restringen la competitividad del pro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ripciones imprecisas o ambigu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onocimiento del merc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blemas para acceder a proveedores relevan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pecificación de mar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ases muy restrictivas / perjudiciales a intereses de los proveedo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8-17T14:09:53Z</dcterms:modified>
  <cp:revision>6</cp:revision>
  <dc:subject/>
  <dc:title>Cómo enfrentar procesos de compra poco competitivos</dc:title>
</cp:coreProperties>
</file>