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845-2759-47BA-8818-EF86A6D4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F3E-E042-47B3-B1ED-DE0823E5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BB7-1436-488F-8E56-60FDFA44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40B6-B03E-4D9E-A233-9B1817AD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03D5-45B5-46F8-B791-106BF2AB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82AE-0EF4-47C3-AF76-D31C20E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5BD-29B4-49E3-831B-F57AB294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6578-71D6-40B7-B763-135BDCED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E3D-0811-4F92-ADCD-3FE2B104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E02-B586-4066-A03A-1B0E9F6C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AE47-34F0-4411-B543-CDC1D25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1E3-C1A7-4A6C-9CD8-953D1CCD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2948-B81D-4EF9-A3A0-67758B0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0050-F23A-470E-B9D7-F3E4899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B226-0E77-4318-896B-5CD603BE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531B-6363-433A-98AE-F87D4C3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3C04-2D3A-4B35-B9FD-F6900D9F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8BB-F964-41E4-A8FF-8BDB05F0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212-5E97-4DB4-8412-B4B22E65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9B5-E608-41B6-8B5C-094C7AE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DC0-B83A-443D-8B6B-64F7DC9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6C4-C7D4-4B61-9D01-CB4E7770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36F-989C-412C-9AA8-E0863720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1CA-5D01-49A3-BDDA-7CDA391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CBF2-1380-40A7-AAAA-10BAA165E7D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B377-AA2B-49C7-BE34-C1E59F7662E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ompetitividad y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ncipio bás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a única forma de alcanzar precios competitivos en los procesos de compra es generan condiciones favorables para la compe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acterísticas de un mercado competi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of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dem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idad de los bi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arencia en la información para todos los agentes del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las del juego no discrimin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les de distribución abiertos y no discriminato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enas de suministro competitivas o regul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mperfecciones de mercado que afectan los procesos de compr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ción dom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os de licitación que restringen la competitividad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pciones imprecisas o ambigu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onocimiento del merc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as para acceder a proveedores relev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ción de 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s muy restrictivas / perjudiciales a intereses de los provee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7T14:09:53Z</dcterms:modified>
  <cp:revision>6</cp:revision>
  <dc:subject/>
  <dc:title>Cómo enfrentar procesos de compra poco competitivos</dc:title>
</cp:coreProperties>
</file>