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F922-78F6-4CDC-A08C-9E43E4925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6B0A-7973-410A-BA50-793132DA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4D5B-ED66-4285-9042-12C31C41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896-6C3C-4871-ACD1-1F9FDF78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4B38-2B8F-47AA-91BC-0FB1B912F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CFDC-9BA4-4339-9C9B-203FB242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6208-5219-4EB4-A0E7-700A2E4B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D1E0-154F-4B70-98B2-30409D87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968D-EA78-413F-8C2D-63D501BD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6FDC-FE6E-4325-8F54-09B130D4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9A68-E7BC-475C-BC6A-60E153E6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C982-9B14-4817-A6F0-1D68FFFA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DEE0-8034-43C6-9AE1-2BFAC2D4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3075-DB06-4267-80E1-D5495A89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B317-FA84-4639-BAED-C1193C5B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E33D-361D-4DFB-8927-0890CD91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8521-0D46-4EED-B7CC-7F97C422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B95-55A1-425F-BCA5-EAF8B240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0EFD-3588-49EA-8A57-D62C1E91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D0E8-B054-44EB-A565-5961A781A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343-7BF9-4605-B5AF-14EDEEA3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7971-EC5D-4F65-84AF-6FB7B044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A56-7C97-4DEF-9E59-27B0650F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A04-4C63-4853-A5B7-E2E91238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4365-EDAD-4A04-A900-50DA3931683B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2FD9-BCCB-46D7-B5B9-7A6D84C58A3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000" y="1238040"/>
            <a:ext cx="65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66"/>
                </a:solidFill>
                <a:latin typeface="Arial"/>
              </a:rPr>
              <a:t>Competitividad y Abastecimiento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626920" y="3860280"/>
            <a:ext cx="4465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5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ricio Re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330066"/>
                </a:solidFill>
                <a:uFillTx/>
                <a:latin typeface="Arial"/>
              </a:rPr>
              <a:t>patricio.renner@dyg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incipio básic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La única forma de alcanzar precios competitivos en los procesos de compra es generan condiciones favorables para la compet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aracterísticas de un mercado competitiv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zación de la ofer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omización de la dema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mogeneidad de los bie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arencia en la información para todos los agentes del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glas del juego no discriminato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ales de distribución abiertos y no discriminato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enas de suministro competitivas o regul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Imperfecciones de mercado que afectan los procesos de compra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ación industrial de la ofer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opol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ligopoli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ción domi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7400" indent="-290520">
              <a:lnSpc>
                <a:spcPct val="8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t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rganización industrial de la 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nopson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ligopsoni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delos de licitación que restringen la competitividad del proces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ripciones imprecisas o ambigua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conocimiento del mercad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blemas para acceder a proveedores relevan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pecificación de mar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ases muy restrictivas / perjudiciales a intereses de los proveedo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19:49:55Z</dcterms:created>
  <dc:creator>Patricio Renner P.</dc:creator>
  <dc:description/>
  <dc:language>en-US</dc:language>
  <cp:lastModifiedBy>Patricio Renner P.</cp:lastModifiedBy>
  <dcterms:modified xsi:type="dcterms:W3CDTF">2004-08-17T14:09:53Z</dcterms:modified>
  <cp:revision>6</cp:revision>
  <dc:subject/>
  <dc:title>Cómo enfrentar procesos de compra poco competitivos</dc:title>
</cp:coreProperties>
</file>