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6106-F85F-4997-BB85-9B8B1FE1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65B2-2BCE-4FA9-AD8C-DD2ED4F7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40EA-6BE5-4022-905E-D1044D09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CE00-71CC-4FA3-80F6-D24E3A16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3829-7204-4265-8880-B8C4C995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DF1E-7AC5-4BD2-B46A-239220AF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74FC-5BF9-4576-9FCC-A232BA58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4C4D-AC6B-49E4-B732-63B9D2F5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6DE1-1166-497B-8312-5816532A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01D6-42CE-4335-B016-BD0C0088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2EC6-9ADD-4271-BFF2-2B261D89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6148-0033-4A1A-BAC6-FDBE47D8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B651-90AD-4A1E-BD60-B88A6F68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1B8A-00D2-4162-A774-8D2D692C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EE13-DD0A-40F1-B2A5-A0FF0B73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E0A1-511E-4A79-B60D-D7833287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5C42-5183-437F-8EDB-51663CDF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5B12-92B2-4F36-B391-443CDA23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BD13-BCD7-46A6-BF7D-BF8FD3C4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D59D-1AAA-475B-A3A1-0E58C748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36B0-B9DA-40E6-A376-3E9619BA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DE7C-046D-4461-8F88-B66008BA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632E-0092-4F42-AE0D-E0B74097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9860-9437-481A-8E19-C9D2CBB2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5F6C-7C95-4999-A82B-E8E55DFAE39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CC7E-0FFA-4FB8-90F8-E6025CE14130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Competitividad y Abastecimi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incipio bás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La única forma de alcanzar precios competitivos en los procesos de compra es generan condiciones favorables para la compete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racterísticas de un mercado competitiv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omización de la ofer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omización de la dema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mogeneidad de los bie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arencia en la información para todos los agentes del mer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las del juego no discriminator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ales de distribución abiertos y no discriminato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enas de suministro competitivas o regula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mperfecciones de mercado que afectan los procesos de compr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rganización industrial de la ofer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nopoli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ligopoli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ción domin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rganización industrial de la deman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nopson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ligopson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delos de licitación que restringen la competitividad del proces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scripciones imprecisas o ambigu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sconocimiento del merca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blemas para acceder a proveedores relevan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specificación de marc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ases muy restrictivas / perjudiciales a intereses de los proveedo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9:49:55Z</dcterms:created>
  <dc:creator>Patricio Renner P.</dc:creator>
  <dc:description/>
  <dc:language>en-US</dc:language>
  <cp:lastModifiedBy>Patricio Renner P.</cp:lastModifiedBy>
  <dcterms:modified xsi:type="dcterms:W3CDTF">2004-08-17T14:09:53Z</dcterms:modified>
  <cp:revision>6</cp:revision>
  <dc:subject/>
  <dc:title>Cómo enfrentar procesos de compra poco competitivos</dc:title>
</cp:coreProperties>
</file>