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D97-BBC9-46AC-A2CF-1F8ACDC9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98A-2442-4F70-8643-24FE992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11B-E315-47DE-9A81-09BC2198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521-5DFE-4BC5-9696-E7883BEF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209-32B1-48B3-83E1-74DB042D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FF8E-8582-491F-9A80-B8A506AC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67D0-6FB7-4FCD-B8E1-D86BDB71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2767-A25D-4E92-BEE8-0CDEFC7C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3A90-F42B-44D8-A445-63602CB1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B9F2-924B-4A3E-BA8A-F61677A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43DB-6462-473E-9B92-0E6B202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B8F-30AD-4ABA-88AE-7AD5129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6A68-AF30-4972-80A3-17D6659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88E1-2234-4E24-8308-763C91A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AF15-DC33-4BFA-B466-2ECFF12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FED5-759B-4DCC-A133-DEC08E3E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EB1-D939-4074-9CFD-849B6F82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C7E-9F13-43FD-B4AE-80BC8E20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8C4-B025-4E1B-AF84-25FE183A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0C8-EE89-4413-A232-F3B5FE8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0FC-41CA-446E-9E3A-02FA85FD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95B-F5C0-4141-A436-27A5C95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AA7-9053-4DF2-A3BE-47EB7EC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025-9AE2-411E-86ED-CAB17260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684B-9AE0-42C6-BE72-D1A405319F2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0221-0C37-4C15-AC5D-19F77C42E27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riterios estratégicos para comprar mejo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¿Qué significa comprar bien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Ver el bosqu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3120" y="2490840"/>
            <a:ext cx="878040" cy="2933640"/>
          </a:xfrm>
          <a:prstGeom prst="upArrow">
            <a:avLst>
              <a:gd name="adj1" fmla="val 50000"/>
              <a:gd name="adj2" fmla="val 835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492280"/>
            <a:ext cx="877680" cy="2933640"/>
          </a:xfrm>
          <a:prstGeom prst="downArrow">
            <a:avLst>
              <a:gd name="adj1" fmla="val 50000"/>
              <a:gd name="adj2" fmla="val 835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9280" y="1752480"/>
            <a:ext cx="95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7320" y="17575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ive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4319640" cy="1293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6200" y="27320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0000" y="5037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0360" y="2708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0133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365720"/>
            <a:ext cx="4319640" cy="1581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7120" y="27082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870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8120" y="479736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gil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283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" y="328464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Consol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Focalizar estrategia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2000" y="2494080"/>
            <a:ext cx="4679640" cy="2879280"/>
            <a:chOff x="1332000" y="2494080"/>
            <a:chExt cx="4679640" cy="2879280"/>
          </a:xfrm>
        </p:grpSpPr>
        <p:sp>
          <p:nvSpPr>
            <p:cNvPr id="171" name=""/>
            <p:cNvSpPr/>
            <p:nvPr/>
          </p:nvSpPr>
          <p:spPr>
            <a:xfrm>
              <a:off x="1332000" y="2494080"/>
              <a:ext cx="2286360" cy="139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rec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2000" y="3980160"/>
              <a:ext cx="2286360" cy="139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3980160"/>
              <a:ext cx="2286720" cy="139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494080"/>
              <a:ext cx="2286720" cy="139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2000" y="2852640"/>
            <a:ext cx="165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8640"/>
            <a:ext cx="133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umo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365720"/>
            <a:ext cx="136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es y servicios de us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65720"/>
            <a:ext cx="13302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9400" y="16034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lasificación de las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Generar condiciones de competencia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enas prácticas de li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versión en la gestión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ligencia de merc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experto de los mercados relev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dministración de conte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cripciones claras de los requerimientos son es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Focalizar el control y agilizar las compra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dilema del “exceso” 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mentar una cultura de responsabilidad y aut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orporar TIC para facilitar los cont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gilizar los procesos para compras de menor mo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a directa y cotización, cuando éstos no estén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8-06T14:06:53Z</dcterms:modified>
  <cp:revision>10</cp:revision>
  <dc:subject/>
  <dc:title>Gestión estratégica del sistema de abastecimiento y compras públicas</dc:title>
</cp:coreProperties>
</file>