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49B-2764-4FE2-B514-06705089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9C3-58CC-4AEC-AB72-BF9B5D94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63C-E041-46BF-B3C1-CD4FEBF8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B79-42F2-4FA7-88F2-15F034EA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5E8-92B9-4586-BC45-3748C611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967C-3F4D-408E-95C7-22ADBDD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A032-5EE2-4654-B91F-6595FEA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A5D-38FE-41F3-A3D5-8A97AE01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1F0-AF67-4AB6-B8E0-A8FB5E44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4DB-4738-4AA3-BF18-B8515942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34B-30C3-46C2-9F23-837DCBD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508-5EB5-4EC8-9194-A2B4E55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CD94-1D5D-4AAD-A9CA-8CA022DD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296C-9DB9-4FAC-91B6-FA78D38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F29-8E01-4A83-AD7E-987E3A0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A6A0-EA70-4BB5-B836-CBA87F8C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97B9-4BD6-47B3-9DB5-45D9418C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6B2-43E2-4349-AEE0-9490706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D76-12B7-49DC-8AEE-F43CC05C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07F-40FB-426B-9AC7-94BD82D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4AE-851F-457A-8E28-6179895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5C2-5D9B-422F-BB82-A843B14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100-DBF1-4234-8AC1-470F2DE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9D4-8DAC-47EE-A48B-7FFF826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4DD-0EFD-4257-9C73-B0C29CCCD00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D65C-B817-4788-849A-380B564205E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riterios estratégicos para comprar mejo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¿Qué significa comprar bien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330066"/>
                </a:solidFill>
                <a:latin typeface="Arial"/>
              </a:rPr>
              <a:t>Ver el bosqu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43120" y="2490840"/>
            <a:ext cx="878040" cy="2933640"/>
          </a:xfrm>
          <a:prstGeom prst="upArrow">
            <a:avLst>
              <a:gd name="adj1" fmla="val 50000"/>
              <a:gd name="adj2" fmla="val 8352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7440" y="2492280"/>
            <a:ext cx="877680" cy="2933640"/>
          </a:xfrm>
          <a:prstGeom prst="downArrow">
            <a:avLst>
              <a:gd name="adj1" fmla="val 50000"/>
              <a:gd name="adj2" fmla="val 835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9280" y="1752480"/>
            <a:ext cx="95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37320" y="17575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ivel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276640"/>
            <a:ext cx="4319640" cy="1293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6200" y="27320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0000" y="5037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0360" y="27082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5240" y="501336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4365720"/>
            <a:ext cx="4319640" cy="1581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0360" y="278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7120" y="27082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870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98120" y="479736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Agil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17600" y="3283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4280"/>
              <a:gd name="textAreaBottom" fmla="*/ 88020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480" y="328464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Consoli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Focalizar estrategia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32000" y="2494080"/>
            <a:ext cx="4679640" cy="2879280"/>
            <a:chOff x="1332000" y="2494080"/>
            <a:chExt cx="4679640" cy="2879280"/>
          </a:xfrm>
        </p:grpSpPr>
        <p:sp>
          <p:nvSpPr>
            <p:cNvPr id="171" name=""/>
            <p:cNvSpPr/>
            <p:nvPr/>
          </p:nvSpPr>
          <p:spPr>
            <a:xfrm>
              <a:off x="1332000" y="2494080"/>
              <a:ext cx="2286360" cy="1392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rec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2000" y="3980160"/>
              <a:ext cx="2286360" cy="139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M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3980160"/>
              <a:ext cx="2286720" cy="139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4920" y="2494080"/>
              <a:ext cx="2286720" cy="1392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012000" y="2852640"/>
            <a:ext cx="165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8640"/>
            <a:ext cx="13320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umos de 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4365720"/>
            <a:ext cx="136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teriales y servicios de us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365720"/>
            <a:ext cx="13302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pa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89400" y="16034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Clasificación de las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Generar condiciones de competencia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enas prácticas de lic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versión en la gestión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eligencia de merc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experto de los mercados relev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dministración de conte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scripciones claras de los requerimientos son esen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Focalizar el control y agilizar las compras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dilema del “exceso” de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omentar una cultura de responsabilidad y aut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corporar TIC para facilitar los cont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gilizar los procesos para compras de menor mo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pra directa y cotización, cuando éstos no estén disponi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8-06T14:06:53Z</dcterms:modified>
  <cp:revision>10</cp:revision>
  <dc:subject/>
  <dc:title>Gestión estratégica del sistema de abastecimiento y compras públicas</dc:title>
</cp:coreProperties>
</file>