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0BF1-957B-446A-AA3E-C0B064EC9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815E-0B07-450B-ADD5-DD7C495B5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628C-0108-4B42-9030-DDCBF904B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1092-CC10-4A3C-89DA-FD0BEE203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21705-28D9-42AD-BD50-0A19DE742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9ABE1-057A-46C4-B061-F42AF75FA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1AA78-D33C-4F01-8016-FE7BEA1FE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5369E-9D3D-4BB6-B7F9-77DAB7BC8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2D768-825F-4698-91F6-407683B5A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1F743-D58A-46E1-9331-027CF9D7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F9717-20D9-4504-8FBD-BC002C5D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D175-EB35-4772-A16F-AD5AB72E5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B631B-9646-4635-860C-7505075F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FB872-708B-4F08-81F3-A6CC440E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60636-2FDB-4AAB-99D1-71A9CBC44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BBBA0-AB1E-40D3-84CC-D8F52E4C0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75D55-73B0-4B68-81F6-F5D25E59E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6B56-3DDC-4CDB-BB9E-C10A1853C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BA0B-3EF0-40C2-913A-CBA4DDAA2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59C3-DEFE-4762-9E41-3CC6EE1E7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DD9C-5B19-46C5-B747-147FFC42A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666F-448B-44B5-85F9-BE84AE4B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B6F3-5998-4D9C-B396-53A381B0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237B-5132-4A29-8A90-6C6B17FE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FAFFA-E366-44F7-845E-BFCC6B506A3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3CD8B-C92F-4E6E-A4BF-D18364E7E8D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000" y="1238040"/>
            <a:ext cx="6551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0066"/>
                </a:solidFill>
                <a:latin typeface="Arial"/>
              </a:rPr>
              <a:t>Criterios estratégicos para comprar mejor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626920" y="3860280"/>
            <a:ext cx="4465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5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stión de Abast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ricio Re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330066"/>
                </a:solidFill>
                <a:uFillTx/>
                <a:latin typeface="Arial"/>
              </a:rPr>
              <a:t>patricio.renner@dyg.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330066"/>
                </a:solidFill>
                <a:latin typeface="Arial"/>
              </a:rPr>
              <a:t>¿Qué significa comprar bien?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900" spc="-1" strike="noStrike">
                <a:solidFill>
                  <a:srgbClr val="330066"/>
                </a:solidFill>
                <a:latin typeface="Arial"/>
              </a:rPr>
              <a:t>Ver el bosque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643120" y="2490840"/>
            <a:ext cx="878040" cy="2933640"/>
          </a:xfrm>
          <a:prstGeom prst="upArrow">
            <a:avLst>
              <a:gd name="adj1" fmla="val 50000"/>
              <a:gd name="adj2" fmla="val 8352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97440" y="2492280"/>
            <a:ext cx="877680" cy="2933640"/>
          </a:xfrm>
          <a:prstGeom prst="downArrow">
            <a:avLst>
              <a:gd name="adj1" fmla="val 50000"/>
              <a:gd name="adj2" fmla="val 83562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609280" y="1752480"/>
            <a:ext cx="95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Black"/>
              </a:rPr>
              <a:t>Pre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Black"/>
              </a:rPr>
              <a:t>Uni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37320" y="1757520"/>
            <a:ext cx="103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Black"/>
              </a:rPr>
              <a:t>Nivel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Black"/>
              </a:rPr>
              <a:t>activ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76360" y="2276640"/>
            <a:ext cx="4319640" cy="1293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636200" y="2732040"/>
            <a:ext cx="57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l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20000" y="503712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Ba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950360" y="270828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Ba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935240" y="5013360"/>
            <a:ext cx="57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l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403280" y="4365720"/>
            <a:ext cx="4319640" cy="15811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40360" y="2781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197120" y="2708280"/>
            <a:ext cx="1326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Black"/>
              </a:rPr>
              <a:t>Mejor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Black"/>
              </a:rPr>
              <a:t>negoci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867280" y="48704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098120" y="4797360"/>
            <a:ext cx="104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Black"/>
              </a:rPr>
              <a:t>Agiliz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Black"/>
              </a:rPr>
              <a:t>proces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317600" y="32839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040 h 1214280"/>
              <a:gd name="textAreaBottom" fmla="*/ 88020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13480" y="3284640"/>
            <a:ext cx="1201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Black"/>
              </a:rPr>
              <a:t>Consolid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Black"/>
              </a:rPr>
              <a:t>deman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tricio Renner - D&amp;G Consulto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Focalizar estrategias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332000" y="2494080"/>
            <a:ext cx="4679640" cy="2879280"/>
            <a:chOff x="1332000" y="2494080"/>
            <a:chExt cx="4679640" cy="2879280"/>
          </a:xfrm>
        </p:grpSpPr>
        <p:sp>
          <p:nvSpPr>
            <p:cNvPr id="171" name=""/>
            <p:cNvSpPr/>
            <p:nvPr/>
          </p:nvSpPr>
          <p:spPr>
            <a:xfrm>
              <a:off x="1332000" y="2494080"/>
              <a:ext cx="2286360" cy="1392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Direct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332000" y="3980160"/>
              <a:ext cx="2286360" cy="13932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M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24920" y="3980160"/>
              <a:ext cx="2286720" cy="1393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Opera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24920" y="2494080"/>
              <a:ext cx="2286720" cy="1392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Invers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6012000" y="2852640"/>
            <a:ext cx="1655640" cy="7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fraestruc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quip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oyec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068640"/>
            <a:ext cx="13320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sumos de pro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12000" y="4365720"/>
            <a:ext cx="1366560" cy="7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ateriales y servicios de uso comú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4365720"/>
            <a:ext cx="1330200" cy="7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anten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epa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Oper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589400" y="1603440"/>
            <a:ext cx="418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Clasificación de las comp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tricio Renner - D&amp;G Consulto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330066"/>
                </a:solidFill>
                <a:latin typeface="Arial"/>
              </a:rPr>
              <a:t>Generar condiciones de competencia…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Buenas prácticas de licit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F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Inversión en la gestión del proce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Inteligencia de mercad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nálisis experto de los mercados relevan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Administración de contenid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escripciones claras de los requerimientos son esenci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tricio Renner - D&amp;G Consulto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330066"/>
                </a:solidFill>
                <a:latin typeface="Arial"/>
              </a:rPr>
              <a:t>Focalizar el control y agilizar las compras…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El dilema del “exceso” de contr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Fomentar una cultura de responsabilidad y autonomí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Incorporar TIC para facilitar los contro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Agilizar los procesos para compras de menor mon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ntratos mar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mpra directa y cotización, cuando éstos no estén disponib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tricio Renner - D&amp;G Consulto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2T00:39:46Z</dcterms:created>
  <dc:creator>Patricio Renner P.</dc:creator>
  <dc:description/>
  <dc:language>en-US</dc:language>
  <cp:lastModifiedBy>Patricio Renner P.</cp:lastModifiedBy>
  <dcterms:modified xsi:type="dcterms:W3CDTF">2004-08-06T14:06:53Z</dcterms:modified>
  <cp:revision>10</cp:revision>
  <dc:subject/>
  <dc:title>Gestión estratégica del sistema de abastecimiento y compras públicas</dc:title>
</cp:coreProperties>
</file>