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D4F-BC43-4270-855A-A6CE23FE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1F0C-6ADD-4921-B625-0D80FB80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EB70-9685-412C-87B8-4F591E97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2F1-50D5-46FD-AFE2-5F2F06FE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39E5-EC1A-4928-BAB0-4646CF3E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5FC2-0BF7-4189-8427-E2B9537C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4BBBA-18F2-42EB-9438-56FB656D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AB49A-E65B-4B90-B56E-865DE101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F131-1982-4044-9B7A-4BA4C7A1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0C8-A4E2-4CC5-AEA5-A57BB2CC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B9C4-A5CD-4FB6-9696-9C370210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1804-C699-49F9-8679-8F0080FE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1C92-E466-4813-94A1-37597594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685-851C-4272-B4DC-B667D34D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89C3-7E4C-4DD0-9F04-928CC664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3045-1CF4-4449-864B-1B0385BD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66367-CCD8-4995-B9F7-8E340B887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1E69-D537-400E-8916-85D72856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6B5B-009C-4066-8BBB-729475B0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7970-ECC4-43E3-AC0A-FE05CA6D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9C9-8698-4E41-A3C5-29E9155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9052-C4F6-4E93-90DB-78F824AA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D50F-4AA8-46B6-A03F-C292787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F49-A48C-409C-A5CC-C1ACAF4C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54BF-0DD9-4E82-B57C-BFFBF960781C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151E-2DE2-424F-BF1A-563AC25B23A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Fundamentos de gestión de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nid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visión del progra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Fundamentos de gestión de abastecimien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el paradigma de las compras al paradigma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bjetivos del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roceso de abastec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compras/adquisicione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radicionalm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Disponer de los bienes y servicios que son requeridos por las áreas usuarias en forma oportuna y al menor precio po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rientación al pre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Énfasis fuertemente oper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nfoque de corto-plaz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iderado por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La función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Actualm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inimizar el gasto en bienes y servicios requeridos por una institución para el cumplimiento de su mi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No sólo importan los precios, sino también la pertinencia, oportunidad y calidad de los requerimien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arácter estraté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de largo plaz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iderazgo desde el área de abastecimi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Objetivo del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ficiencia en las compr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foque costo integ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uditabilidad y traza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isibi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oducto – Servic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sarrollo de provee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Optimización del uso de recur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nálisis de gas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-32688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porte a usu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330066"/>
                </a:solidFill>
                <a:latin typeface="Arial"/>
              </a:rPr>
              <a:t>Proceso de abaste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108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PLAN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76360" y="1773360"/>
            <a:ext cx="2376720" cy="107928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NEGO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773360"/>
            <a:ext cx="2376360" cy="1079280"/>
          </a:xfrm>
          <a:custGeom>
            <a:avLst/>
            <a:gdLst>
              <a:gd name="textAreaLeft" fmla="*/ 0 w 2376360"/>
              <a:gd name="textAreaRight" fmla="*/ 2376720 w 2376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81" y="0"/>
                </a:lnTo>
                <a:lnTo>
                  <a:pt x="21600" y="10800"/>
                </a:lnTo>
                <a:lnTo>
                  <a:pt x="18181" y="21600"/>
                </a:lnTo>
                <a:lnTo>
                  <a:pt x="0" y="21600"/>
                </a:lnTo>
                <a:lnTo>
                  <a:pt x="3419" y="10800"/>
                </a:lnTo>
                <a:close/>
              </a:path>
            </a:pathLst>
          </a:custGeom>
          <a:solidFill>
            <a:srgbClr val="66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  </a:t>
            </a: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ENTREG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1080" y="301464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OPTIMIZACIÓN DE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1080" y="3747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INTELIGENCIA DE MERC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1080" y="4481640"/>
            <a:ext cx="6767280" cy="57600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DMINISTRACIÓN DE CONTEN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080" y="521496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ANÁLISIS DE CONSU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080" y="5948280"/>
            <a:ext cx="6767280" cy="576360"/>
          </a:xfrm>
          <a:custGeom>
            <a:avLst/>
            <a:gdLst>
              <a:gd name="textAreaLeft" fmla="*/ 0 w 6767280"/>
              <a:gd name="textAreaRight" fmla="*/ 6767640 w 67672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4" y="0"/>
                </a:lnTo>
                <a:lnTo>
                  <a:pt x="21600" y="10800"/>
                </a:lnTo>
                <a:lnTo>
                  <a:pt x="20664" y="21600"/>
                </a:lnTo>
                <a:lnTo>
                  <a:pt x="0" y="21600"/>
                </a:lnTo>
                <a:lnTo>
                  <a:pt x="936" y="108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 Black"/>
              </a:rPr>
              <a:t>GESTIÓN DE PROV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3139920"/>
            <a:ext cx="5616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rde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imiento del despa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rol de e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3084480"/>
            <a:ext cx="5616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úsqueda de productos/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lección de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g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ci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basta inver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4360" y="3068640"/>
            <a:ext cx="561636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lan anual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cción de oport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finición de métodos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juste de la carga de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ad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tricio Renner - D&amp;G Consultor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2T00:39:46Z</dcterms:created>
  <dc:creator>Patricio Renner P.</dc:creator>
  <dc:description/>
  <dc:language>en-US</dc:language>
  <cp:lastModifiedBy>Patricio Renner P.</cp:lastModifiedBy>
  <dcterms:modified xsi:type="dcterms:W3CDTF">2004-07-29T12:29:23Z</dcterms:modified>
  <cp:revision>7</cp:revision>
  <dc:subject/>
  <dc:title>Gestión estratégica del sistema de abastecimiento y compras públicas</dc:title>
</cp:coreProperties>
</file>