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692-1F28-4D04-97D0-50A738EA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F5F-D4F8-46EA-AD5F-4EE8D04C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EE6-CAD3-4561-BE18-C0F6EBAE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F76-D022-4006-8517-B563D166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B903-D778-43B7-9251-DF26F9BC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C420-044F-49CA-B4C6-570584DA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F3EC-4768-4F32-88D2-EDF8AA40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870F-5495-4CC8-96DA-053B595C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1E79-173D-45C7-958F-2DD5198C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4A96-A196-4835-906F-7D4C0CAA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9985-459A-40EB-834B-35946EA2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D68-1B6E-4B83-91FE-57DE315F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34E4-4C2D-41A9-877E-A5803AD2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AFB0-7627-46F3-8DC2-01214014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075A-4107-4925-B992-1EEC2537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D789-F695-434C-BFFB-9E71EADD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D1FB-63B8-422F-AC96-7808A8AA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68D-2246-4FE7-9F1B-BEC94B42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2CE-2EEF-4A00-AB5E-60F34DA5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832-6CB7-4AAA-AC84-B9D952DF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570-ACC8-4F91-9CAE-A4488BE8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FD9-0076-4940-8B2C-86B1970B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9E5-D6D7-475D-8F03-0CB1CCFF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521-A8C7-4F6C-B99A-EC49F4C1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B69E-6E6B-4704-B197-814B0F2210E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8F34-77E3-466B-8164-CD31037F2A5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Fundamentos de gestión de abastecimi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ni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visión del prog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undamentos de gestión de abastec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l paradigma de las compras al paradigma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roceso de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compras/adquisicion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dicional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sponer de los bienes y servicios que son requeridos por las áreas usuarias en forma oportuna y al menor precio po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rientación a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Énfasis fuertemente oper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foque de corto-pla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iderado por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tu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inimizar el gasto en bienes y servicios requeridos por una institución para el cumplimiento de su mi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 sólo importan los precios, sino también la pertinencia, oportunidad y calidad de los requerimi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ácter estraté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de largo pla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derazgo desde el área de abaste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Objetivo del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ficiencia en las comp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costo integ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ditabilidad y traz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i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ducto –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o de provee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ptimización del uso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álisis de ga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porte a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Proceso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08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PLAN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76360" y="1773360"/>
            <a:ext cx="2376720" cy="107928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NEGO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ENTRE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1080" y="301464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OPTIMIZACIÓN DE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1080" y="3747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INTELIGENCIA DE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4481640"/>
            <a:ext cx="6767280" cy="57600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DMINISTRACIÓN DE CONTEN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080" y="5214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NÁLISIS DE CONSU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080" y="594828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GESTIÓN DE 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139920"/>
            <a:ext cx="561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de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uimiento del 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rol de e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3084480"/>
            <a:ext cx="56163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úsqueda de productos/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lección de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t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basta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3068640"/>
            <a:ext cx="56163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 anual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cción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finición de métodos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juste de la carga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ord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7-29T12:29:23Z</dcterms:modified>
  <cp:revision>7</cp:revision>
  <dc:subject/>
  <dc:title>Gestión estratégica del sistema de abastecimiento y compras públicas</dc:title>
</cp:coreProperties>
</file>