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04346-0D80-40A9-AD38-B96763E9A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DE238-FAB7-4ED6-A98D-3A112FC6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2989B-B3E2-4C2C-AEB5-F511B4826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45AE4-7D53-4584-AE2D-5FF1396D2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9A2A2-1835-4544-A97B-AA628C31A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B2E13-44D6-4B6D-9BEC-B03E54B6C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82E80-EDF6-487E-BC4C-A34E9F68C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DBD4C-FAA8-4697-B962-97FDC58AB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0B16E-C564-4152-AD72-8E63F8BC0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49B6B-4AF3-4D06-B2BE-C75F11BCE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F1F34-687E-437B-AFBE-2BA899D1E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76024-9915-4143-BF7D-3FD043DC9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DA16F-81A0-466D-BFD9-E10994ADE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923C7-11DA-4ED7-90D9-1F21AF531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1BF47-98C5-40E6-A6E4-030D2BBCE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42E8D-031F-4BA1-AE13-AD86B7B65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77D05-AA69-44E6-B47E-2BD003B4F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5154-2156-4E01-9FB8-732110BA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244BF-254E-49D1-A280-297AC52B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5F60-CA0D-48F0-8BE9-F5259CE52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2920-486D-49B1-9C87-3F5F09E61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C056-3F01-46DE-8021-3878EA1F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33E4-B9D5-4FD4-8F76-134D0C00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285A-30F8-4912-8799-AE41EDDB6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AE3E-AF2D-477D-8799-12992578AA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4CBC-FC5D-4180-9BEB-0E885C676D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caso Santiago-Santander sobre concentración bancaria</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3885840" y="5638680"/>
            <a:ext cx="5257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José Tomás Mor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allo de la Comisión</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xistencia de un número considerable de bancos y las menores barreras a la entrada permite concluir que el control del BSCH sobre los bancos Santiago y Santander  no pone en riesgo la competencia</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deja sin efecto el compromiso de reducción de cuota de mercado</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 que mantener vigilancia en localidades de más alta concentració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álisis de competencia en el mercado bancario</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relevan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cadores de concentra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eras a la entra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ías de escal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ción entre concentración y preci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mpeño de la industria bancar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rcado relevant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mo era de esperarse, los bancos querían mostrar que el mercado relevante es gran parte del sistema financiero, mientras la Fiscalía se apoyó en literatura internacional que mostraba una definición más bien acotada.</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aproximación práctica al tema sería enfocarse en los créditos a pymes y personas, desagregados al menos a nivel reg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cadores de concentración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indicadores de concentración para los créditos de consumo sugerían que la fusión del Santiago con el Santander sólo presentaba riesgos en algunas region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al considerar además la fusión   del Chile con el Edwards esos riesgos se generalizab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42" name=""/>
          <p:cNvGraphicFramePr/>
          <p:nvPr/>
        </p:nvGraphicFramePr>
        <p:xfrm>
          <a:off x="533520" y="380880"/>
          <a:ext cx="7924680" cy="5943600"/>
        </p:xfrm>
        <a:graphic>
          <a:graphicData uri="http://schemas.openxmlformats.org/presentationml/2006/ole">
            <p:oleObj progId="Word.Document.12" r:id="rId1" spid="">
              <p:embed/>
              <p:pic>
                <p:nvPicPr>
                  <p:cNvPr id="143" name="" descr=""/>
                  <p:cNvPicPr/>
                  <p:nvPr/>
                </p:nvPicPr>
                <p:blipFill>
                  <a:blip r:embed="rId2"/>
                  <a:stretch/>
                </p:blipFill>
                <p:spPr>
                  <a:xfrm>
                    <a:off x="533520" y="380880"/>
                    <a:ext cx="7924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990720" y="533520"/>
          <a:ext cx="7162560" cy="5400720"/>
        </p:xfrm>
        <a:graphic>
          <a:graphicData uri="http://schemas.openxmlformats.org/presentationml/2006/ole">
            <p:oleObj progId="Word.Document.12" r:id="rId1" spid="">
              <p:embed/>
              <p:pic>
                <p:nvPicPr>
                  <p:cNvPr id="145" name="" descr=""/>
                  <p:cNvPicPr/>
                  <p:nvPr/>
                </p:nvPicPr>
                <p:blipFill>
                  <a:blip r:embed="rId2"/>
                  <a:stretch/>
                </p:blipFill>
                <p:spPr>
                  <a:xfrm>
                    <a:off x="990720" y="533520"/>
                    <a:ext cx="716256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rreras a la entrada</a:t>
            </a:r>
            <a:endParaRPr b="0" lang="en-US" sz="4400" spc="-1" strike="noStrike">
              <a:solidFill>
                <a:srgbClr val="ffcc66"/>
              </a:solidFill>
              <a:latin typeface="Times New Roman"/>
            </a:endParaRPr>
          </a:p>
        </p:txBody>
      </p:sp>
      <p:sp>
        <p:nvSpPr>
          <p:cNvPr id="147" name="PlaceHolder 2"/>
          <p:cNvSpPr>
            <a:spLocks noGrp="1"/>
          </p:cNvSpPr>
          <p:nvPr>
            <p:ph/>
          </p:nvPr>
        </p:nvSpPr>
        <p:spPr>
          <a:xfrm>
            <a:off x="533160" y="1219320"/>
            <a:ext cx="8305560" cy="411480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incidencia en cuanto a la reducción de la barreras legal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repancias en cuanto a las barreras comerciales. ¿Es suficiente la posibilidad de comprar bancos establecido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gún la SBIF, es costoso obtener información sobre la calidad crediticia de los clientes y lograr una sólida base de client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res de otros países coinciden en la importancia de las barreras comerciales</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onomías de escala</a:t>
            </a:r>
            <a:endParaRPr b="0" lang="en-US" sz="4400" spc="-1" strike="noStrike">
              <a:solidFill>
                <a:srgbClr val="ffcc66"/>
              </a:solidFill>
              <a:latin typeface="Times New Roman"/>
            </a:endParaRPr>
          </a:p>
        </p:txBody>
      </p:sp>
      <p:sp>
        <p:nvSpPr>
          <p:cNvPr id="149" name="PlaceHolder 2"/>
          <p:cNvSpPr>
            <a:spLocks noGrp="1"/>
          </p:cNvSpPr>
          <p:nvPr>
            <p:ph/>
          </p:nvPr>
        </p:nvSpPr>
        <p:spPr>
          <a:xfrm>
            <a:off x="380880" y="914400"/>
            <a:ext cx="838224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videncia nacional e internacional ambigu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bajo nacional más reciente (Budnevich et al, 2001)</a:t>
            </a:r>
            <a:r>
              <a:rPr b="0" lang="es-ES" sz="3200" spc="-1" strike="noStrike">
                <a:solidFill>
                  <a:srgbClr val="ffffff"/>
                </a:solidFill>
                <a:latin typeface="Times New Roman"/>
              </a:rPr>
              <a:t> señalaba que las fusiones entre el Chile y el Edwards, y entre el Santiago y el Santander darían origen a bancos de tamaño excesivo</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atizaban este resultado con otras fuentes de eficiencia: absorción de tecnología, mejor diversificación de cartera y un mejor posicionamiento ante la globalización financier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usión del Santiago y Santander no fue buscada </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ción entre concentración y precios</a:t>
            </a:r>
            <a:endParaRPr b="0" lang="en-US" sz="4400" spc="-1" strike="noStrike">
              <a:solidFill>
                <a:srgbClr val="ffcc66"/>
              </a:solidFill>
              <a:latin typeface="Times New Roman"/>
            </a:endParaRPr>
          </a:p>
        </p:txBody>
      </p:sp>
      <p:sp>
        <p:nvSpPr>
          <p:cNvPr id="1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yuda a discriminar entre hipótesis estructura-conducta-desempeño e hipótesis eficiencia-estructura</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Fiscalía aportó evidencia internacional intra países que mostraba efectos negativos de la concentración sobre los consumidores</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s presentaron trabajo con información  entre países que no evidenciaba relación algu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1 </a:t>
            </a:r>
            <a:br>
              <a:rPr sz="4400"/>
            </a:br>
            <a:r>
              <a:rPr b="0" lang="es-ES_tradnl" sz="4400" spc="-1" strike="noStrike">
                <a:solidFill>
                  <a:srgbClr val="ffcc66"/>
                </a:solidFill>
                <a:latin typeface="Times New Roman"/>
              </a:rPr>
              <a:t>Indefinición de la Fiscalía</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stricto rigor, el requerimiento apuntaba a la situación ambigua creada por los dos bancos con un mismo controlador, aunque insinuaba los problemas derivados del aumento de concentración.</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indefinición posiblemente influyó en la inhibición del Fiscal frente al caso Chile-Edwards y en la pasividad en la etapa final del proces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tivación</a:t>
            </a:r>
            <a:endParaRPr b="0" lang="en-US" sz="4400" spc="-1" strike="noStrike">
              <a:solidFill>
                <a:srgbClr val="ffcc66"/>
              </a:solidFill>
              <a:latin typeface="Times New Roman"/>
            </a:endParaRPr>
          </a:p>
        </p:txBody>
      </p:sp>
      <p:sp>
        <p:nvSpPr>
          <p:cNvPr id="1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cargo de la investigación en la Fiscalía durante la primera mitad del caso</a:t>
            </a:r>
            <a:endParaRPr b="0" lang="en-US" sz="32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versos ingredientes que hacen interesante el caso Santiago-Santander:</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modificó la ley de bancos en materia de fusione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fusionaron los bancos Chile y Edwar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ticipación del regulador bancario y de los organismos antimonopol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2</a:t>
            </a:r>
            <a:br>
              <a:rPr sz="4400"/>
            </a:br>
            <a:r>
              <a:rPr b="0" lang="es-ES_tradnl" sz="4400" spc="-1" strike="noStrike">
                <a:solidFill>
                  <a:srgbClr val="ffcc66"/>
                </a:solidFill>
                <a:latin typeface="Times New Roman"/>
              </a:rPr>
              <a:t>Indefinición en el control de fusiones bancarias</a:t>
            </a:r>
            <a:endParaRPr b="0" lang="en-US" sz="4400" spc="-1" strike="noStrike">
              <a:solidFill>
                <a:srgbClr val="ffcc66"/>
              </a:solidFill>
              <a:latin typeface="Times New Roman"/>
            </a:endParaRPr>
          </a:p>
        </p:txBody>
      </p:sp>
      <p:sp>
        <p:nvSpPr>
          <p:cNvPr id="155"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reforma legislativa omitió el rol de los organismos antimonopolios en la materia</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e hecho, la SBIF prescindió de la opinión de esos organismos en el caso Chile-Edward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l fallo, la Comisión Resolutiva defendió sus atribuciones, aunque introdujo una confusión adicional al insinuar que la ley de bancos también resguarda la compet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3</a:t>
            </a:r>
            <a:br>
              <a:rPr sz="4400"/>
            </a:br>
            <a:r>
              <a:rPr b="0" lang="en-US" sz="4400" spc="-1" strike="noStrike">
                <a:solidFill>
                  <a:srgbClr val="ffcc66"/>
                </a:solidFill>
                <a:latin typeface="Times New Roman"/>
              </a:rPr>
              <a:t>Deficiencias en el análisis de competencia</a:t>
            </a:r>
            <a:endParaRPr b="0" lang="en-US" sz="4400" spc="-1" strike="noStrike">
              <a:solidFill>
                <a:srgbClr val="ffcc66"/>
              </a:solidFill>
              <a:latin typeface="Times New Roman"/>
            </a:endParaRPr>
          </a:p>
        </p:txBody>
      </p:sp>
      <p:sp>
        <p:nvSpPr>
          <p:cNvPr id="15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la cantidad y calidad de los antecedentes presentados, se esperaba un análisis profund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 embargo, no hubo definición precisa de mercado relevante, ni de barreras a la entrada, ni un análisis integrador sobre la relación entre concentración y preci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4</a:t>
            </a:r>
            <a:br>
              <a:rPr sz="4400"/>
            </a:br>
            <a:r>
              <a:rPr b="0" lang="en-US" sz="4400" spc="-1" strike="noStrike">
                <a:solidFill>
                  <a:srgbClr val="ffcc66"/>
                </a:solidFill>
                <a:latin typeface="Times New Roman"/>
              </a:rPr>
              <a:t>Ambigüedades de la SBIF</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SBIF fue escasamente conclusiva en su informe a la Comisió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amente fue clara en sostener que la industria está sujeta a presiones competitiv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oblema es que después dijo públicamente que las personas y pequeñas empresas han estado pagando tasas relativamente altas, no justificadas en cost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é podemos decir ahora?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ue la alta rentabilidad del sistem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a rentabilidad concentrada en bancos grandes, pero a los nuevos bancos de las grandes tiendas no les ha ido ma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ntabilidad apropiada para el nivel de riesgo?</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aumento de eficiencia supera a las fuerzas de la competenc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85800" y="7621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65" name=""/>
          <p:cNvGraphicFramePr/>
          <p:nvPr/>
        </p:nvGraphicFramePr>
        <p:xfrm>
          <a:off x="1905120" y="457200"/>
          <a:ext cx="5105160" cy="5943600"/>
        </p:xfrm>
        <a:graphic>
          <a:graphicData uri="http://schemas.openxmlformats.org/presentationml/2006/ole">
            <p:oleObj progId="Excel.Sheet.12" r:id="rId1" spid="">
              <p:embed/>
              <p:pic>
                <p:nvPicPr>
                  <p:cNvPr id="166" name="" descr=""/>
                  <p:cNvPicPr/>
                  <p:nvPr/>
                </p:nvPicPr>
                <p:blipFill>
                  <a:blip r:embed="rId2"/>
                  <a:stretch/>
                </p:blipFill>
                <p:spPr>
                  <a:xfrm>
                    <a:off x="1905120" y="457200"/>
                    <a:ext cx="51051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7" name=""/>
          <p:cNvGraphicFramePr/>
          <p:nvPr/>
        </p:nvGraphicFramePr>
        <p:xfrm>
          <a:off x="228600" y="457200"/>
          <a:ext cx="8534520" cy="5638680"/>
        </p:xfrm>
        <a:graphic>
          <a:graphicData uri="http://schemas.openxmlformats.org/presentationml/2006/ole">
            <p:oleObj progId="Excel.Sheet.12" r:id="rId1" spid="">
              <p:embed/>
              <p:pic>
                <p:nvPicPr>
                  <p:cNvPr id="168" name="" descr=""/>
                  <p:cNvPicPr/>
                  <p:nvPr/>
                </p:nvPicPr>
                <p:blipFill>
                  <a:blip r:embed="rId2"/>
                  <a:stretch/>
                </p:blipFill>
                <p:spPr>
                  <a:xfrm>
                    <a:off x="228600" y="457200"/>
                    <a:ext cx="85345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685800"/>
          <a:ext cx="7925040" cy="5334120"/>
        </p:xfrm>
        <a:graphic>
          <a:graphicData uri="http://schemas.openxmlformats.org/presentationml/2006/ole">
            <p:oleObj progId="Excel.Sheet.12" r:id="rId1" spid="">
              <p:embed/>
              <p:pic>
                <p:nvPicPr>
                  <p:cNvPr id="170" name="" descr=""/>
                  <p:cNvPicPr/>
                  <p:nvPr/>
                </p:nvPicPr>
                <p:blipFill>
                  <a:blip r:embed="rId2"/>
                  <a:stretch/>
                </p:blipFill>
                <p:spPr>
                  <a:xfrm>
                    <a:off x="609480" y="685800"/>
                    <a:ext cx="79250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t>
            </a:r>
            <a:endParaRPr b="0" lang="en-US" sz="4400" spc="-1" strike="noStrike">
              <a:solidFill>
                <a:srgbClr val="ffcc66"/>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ructura de la presentació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ve resumen del cas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de competencia en el mercado bancari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unas conclusi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838080" y="609480"/>
            <a:ext cx="7772400" cy="126036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400" spc="-1" strike="noStrike">
                <a:solidFill>
                  <a:srgbClr val="ffcc66"/>
                </a:solidFill>
                <a:latin typeface="Times New Roman"/>
              </a:rPr>
              <a:t>Descripción del caso</a:t>
            </a:r>
            <a:endParaRPr b="0" lang="en-US" sz="3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sión en España:</a:t>
            </a:r>
            <a:endParaRPr b="0" lang="en-US" sz="2800" spc="-1" strike="noStrike">
              <a:solidFill>
                <a:srgbClr val="ffffff"/>
              </a:solidFill>
              <a:latin typeface="Times New Roman"/>
            </a:endParaRPr>
          </a:p>
        </p:txBody>
      </p:sp>
      <p:sp>
        <p:nvSpPr>
          <p:cNvPr id="107" name=""/>
          <p:cNvSpPr/>
          <p:nvPr/>
        </p:nvSpPr>
        <p:spPr>
          <a:xfrm>
            <a:off x="838080" y="2362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a:t>
            </a:r>
            <a:endParaRPr b="0" lang="en-US" sz="2400" spc="-1" strike="noStrike">
              <a:solidFill>
                <a:srgbClr val="ffffff"/>
              </a:solidFill>
              <a:latin typeface="Times New Roman"/>
            </a:endParaRPr>
          </a:p>
        </p:txBody>
      </p:sp>
      <p:sp>
        <p:nvSpPr>
          <p:cNvPr id="108" name=""/>
          <p:cNvSpPr/>
          <p:nvPr/>
        </p:nvSpPr>
        <p:spPr>
          <a:xfrm>
            <a:off x="838080" y="34290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Central Hispano</a:t>
            </a:r>
            <a:endParaRPr b="0" lang="en-US" sz="2400" spc="-1" strike="noStrike">
              <a:solidFill>
                <a:srgbClr val="ffffff"/>
              </a:solidFill>
              <a:latin typeface="Times New Roman"/>
            </a:endParaRPr>
          </a:p>
        </p:txBody>
      </p:sp>
      <p:sp>
        <p:nvSpPr>
          <p:cNvPr id="109" name=""/>
          <p:cNvSpPr/>
          <p:nvPr/>
        </p:nvSpPr>
        <p:spPr>
          <a:xfrm>
            <a:off x="838080" y="5029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entral Hispano (BSCH)</a:t>
            </a:r>
            <a:endParaRPr b="0" lang="en-US" sz="2400" spc="-1" strike="noStrike">
              <a:solidFill>
                <a:srgbClr val="ffffff"/>
              </a:solidFill>
              <a:latin typeface="Times New Roman"/>
            </a:endParaRPr>
          </a:p>
        </p:txBody>
      </p:sp>
      <p:sp>
        <p:nvSpPr>
          <p:cNvPr id="110" name=""/>
          <p:cNvSpPr/>
          <p:nvPr/>
        </p:nvSpPr>
        <p:spPr>
          <a:xfrm>
            <a:off x="5105520" y="13716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fectos en Chile:</a:t>
            </a:r>
            <a:endParaRPr b="0" lang="en-US" sz="2800" spc="-1" strike="noStrike">
              <a:solidFill>
                <a:srgbClr val="ffffff"/>
              </a:solidFill>
              <a:latin typeface="Times New Roman"/>
            </a:endParaRPr>
          </a:p>
        </p:txBody>
      </p:sp>
      <p:sp>
        <p:nvSpPr>
          <p:cNvPr id="111" name=""/>
          <p:cNvSpPr/>
          <p:nvPr/>
        </p:nvSpPr>
        <p:spPr>
          <a:xfrm>
            <a:off x="51055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hile</a:t>
            </a:r>
            <a:endParaRPr b="0" lang="en-US" sz="2400" spc="-1" strike="noStrike">
              <a:solidFill>
                <a:srgbClr val="ffffff"/>
              </a:solidFill>
              <a:latin typeface="Times New Roman"/>
            </a:endParaRPr>
          </a:p>
        </p:txBody>
      </p:sp>
      <p:sp>
        <p:nvSpPr>
          <p:cNvPr id="112" name=""/>
          <p:cNvSpPr/>
          <p:nvPr/>
        </p:nvSpPr>
        <p:spPr>
          <a:xfrm>
            <a:off x="5105520" y="3581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iago</a:t>
            </a:r>
            <a:endParaRPr b="0" lang="en-US" sz="2400" spc="-1" strike="noStrike">
              <a:solidFill>
                <a:srgbClr val="ffffff"/>
              </a:solidFill>
              <a:latin typeface="Times New Roman"/>
            </a:endParaRPr>
          </a:p>
        </p:txBody>
      </p:sp>
      <p:sp>
        <p:nvSpPr>
          <p:cNvPr id="113" name=""/>
          <p:cNvSpPr/>
          <p:nvPr/>
        </p:nvSpPr>
        <p:spPr>
          <a:xfrm>
            <a:off x="3581280" y="2590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581280" y="3809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2133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6%</a:t>
            </a:r>
            <a:endParaRPr b="0" lang="en-US" sz="2400" spc="-1" strike="noStrike">
              <a:solidFill>
                <a:srgbClr val="ffffff"/>
              </a:solidFill>
              <a:latin typeface="Times New Roman"/>
            </a:endParaRPr>
          </a:p>
        </p:txBody>
      </p:sp>
      <p:sp>
        <p:nvSpPr>
          <p:cNvPr id="116" name=""/>
          <p:cNvSpPr/>
          <p:nvPr/>
        </p:nvSpPr>
        <p:spPr>
          <a:xfrm>
            <a:off x="35812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117" name=""/>
          <p:cNvSpPr/>
          <p:nvPr/>
        </p:nvSpPr>
        <p:spPr>
          <a:xfrm>
            <a:off x="7543800" y="2286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18" name=""/>
          <p:cNvSpPr/>
          <p:nvPr/>
        </p:nvSpPr>
        <p:spPr>
          <a:xfrm>
            <a:off x="7467480" y="342900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19" name=""/>
          <p:cNvSpPr/>
          <p:nvPr/>
        </p:nvSpPr>
        <p:spPr>
          <a:xfrm>
            <a:off x="30492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0" name=""/>
          <p:cNvSpPr/>
          <p:nvPr/>
        </p:nvSpPr>
        <p:spPr>
          <a:xfrm>
            <a:off x="380880" y="51055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1" name=""/>
          <p:cNvSpPr/>
          <p:nvPr/>
        </p:nvSpPr>
        <p:spPr>
          <a:xfrm>
            <a:off x="7162920" y="4876920"/>
            <a:ext cx="198108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800" spc="-1" strike="noStrike">
                <a:solidFill>
                  <a:srgbClr val="ffff00"/>
                </a:solidFill>
                <a:latin typeface="Times New Roman"/>
              </a:rPr>
              <a:t>27%</a:t>
            </a:r>
            <a:endParaRPr b="0" lang="en-US" sz="2800" spc="-1" strike="noStrike">
              <a:solidFill>
                <a:srgbClr val="ffffff"/>
              </a:solidFill>
              <a:latin typeface="Times New Roman"/>
            </a:endParaRPr>
          </a:p>
        </p:txBody>
      </p:sp>
      <p:sp>
        <p:nvSpPr>
          <p:cNvPr id="122" name=""/>
          <p:cNvSpPr/>
          <p:nvPr/>
        </p:nvSpPr>
        <p:spPr>
          <a:xfrm>
            <a:off x="457200" y="4572000"/>
            <a:ext cx="274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467480" y="4495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343400" y="52578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
          <p:cNvSpPr/>
          <p:nvPr/>
        </p:nvSpPr>
        <p:spPr>
          <a:xfrm>
            <a:off x="83808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 la Superintendencia de Banco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a:off x="838080" y="1523880"/>
            <a:ext cx="71629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ifestó preocupación, pero no pudo negarse al control de ambos bancos por parte del BSCH</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pudo obtener del BSCH la siguiente declaración de intencion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uncia a la fusión de los banc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rá sobre reducción de cuota de merc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habrá reducciones masivas de person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stión independiente de los banc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
          <p:cNvSpPr/>
          <p:nvPr/>
        </p:nvSpPr>
        <p:spPr>
          <a:xfrm>
            <a:off x="914400" y="914400"/>
            <a:ext cx="7391520" cy="2364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Banco Central</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inión contraria a la fusión, pero reconoce no tener facultades legales para oponerse a ell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acordó con el BSCH una opción de venta de sus acciones en el Banco Santiago </a:t>
            </a:r>
            <a:endParaRPr b="0" lang="en-US" sz="2400" spc="-1" strike="noStrike">
              <a:solidFill>
                <a:srgbClr val="ffffff"/>
              </a:solidFill>
              <a:latin typeface="Times New Roman"/>
            </a:endParaRPr>
          </a:p>
        </p:txBody>
      </p:sp>
      <p:sp>
        <p:nvSpPr>
          <p:cNvPr id="128" name=""/>
          <p:cNvSpPr/>
          <p:nvPr/>
        </p:nvSpPr>
        <p:spPr>
          <a:xfrm>
            <a:off x="990720" y="3886200"/>
            <a:ext cx="777240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Gobierno y Parlame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proyecto de ley de OPAS se introdujeron modificaciones a la ley de bancos que otorgan facultades a la Superintendencia para aprobar fusiones o tomas de control significativ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990720" y="1066680"/>
            <a:ext cx="76960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querimiento del Fiscal</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icita a la Comisión Resolutiva:</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ner que se ponga término al control que ejerce el BSCH sobre los bancos Santiago y Santander Chil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ir al BSCH que una eventual fusión de ambos bancos debe ser previamente aprobada por la Comisión Preventiva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1066680" y="838080"/>
            <a:ext cx="6782040" cy="577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claración de intenciones</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es creíble que los bancos mantengan una administración independient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cuota de mercado implica algún grado de coordinación entre los bancos, lo cu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contrario a la compet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inconsistente con el compromiso de                                                                                                                                                                                                                          administración independien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
          <p:cNvSpPr/>
          <p:nvPr/>
        </p:nvSpPr>
        <p:spPr>
          <a:xfrm>
            <a:off x="609480" y="457200"/>
            <a:ext cx="8001000" cy="582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petencia en el mercado bancario chileno</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H aumenta de 900 a 1300,  C</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51%,  C</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ncos Santiago y Santander Chile son particularmente importantes en segmentos de personas y PYM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sos niveles de concentración, hay evidencia internacional de efectos perjudiciales sobre tasas de interé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eras legales a la entrada debido a la incertidumbre y al tiempo que toma obtener una licencia bancaria, y barreras comerciales por el costo de monitorear riesgo y establecer reputación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videncia ambigua de economías de escal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1:37:45Z</dcterms:created>
  <dc:creator>Gabriela Ahumada</dc:creator>
  <dc:description/>
  <dc:language>en-US</dc:language>
  <cp:lastModifiedBy>José Tomas Morel</cp:lastModifiedBy>
  <dcterms:modified xsi:type="dcterms:W3CDTF">2004-11-16T16:21:41Z</dcterms:modified>
  <cp:revision>12</cp:revision>
  <dc:subject/>
  <dc:title>El caso Santiago-Santander sobre concentración bancaria</dc:title>
</cp:coreProperties>
</file>