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F57-A3DE-4D7B-A4ED-B4C011E7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1BD-9E5C-4CEF-ACC5-AC548B3F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079-DED1-4F7F-BE83-9315837B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D50-7EEE-44DF-9EEE-B1591579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612E-AFCE-4382-91D3-D9034A92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05D2-72D0-4240-A24F-877AE509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05DE-C29E-433F-A2BE-CE5E64A3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5798-81C0-4418-9565-61204406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2E81-4D80-4212-847B-BED5557B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18960" y="623880"/>
            <a:ext cx="779292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FA0F-658A-4464-9C8E-EC6195A7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5873-9D58-49EA-8ED6-D034D43C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C4B-3ABA-47EE-A1DF-E33B8CF2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63C4-9E83-417B-B896-6AF6771C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3F8F-A429-4B72-99C9-6093F249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8943-0E92-4522-8520-763DAA1E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BEAB-CD52-4793-8843-56D4D955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0CB1-B764-4CED-9380-7A13BFCB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8DB-BF89-46D7-8821-3CCF282A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72B-B822-46DD-AB6F-4B30CCA8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F1C-94EA-4017-A547-23298A1B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18960" y="623880"/>
            <a:ext cx="779292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432-177E-4269-9E3F-0465B58D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A28-9CD2-4FA4-AEA8-2F32FF64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941-2BFC-4B97-B45F-C8C40C2B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AE3-1693-4DE0-9E96-171BD867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0328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0328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2556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2556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52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95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858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2388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43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5812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5D47-198C-41EA-83BE-B85D6035303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1320" y="6521400"/>
            <a:ext cx="7701120" cy="19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50000">
                <a:srgbClr val="a3a3a3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1320" y="6575400"/>
            <a:ext cx="770112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50000">
                <a:srgbClr val="a3a3a3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7DFA-400B-44B0-ADE7-8B446903EA62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57400" y="1066680"/>
            <a:ext cx="480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CONTABILIDAD Y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4952880"/>
            <a:ext cx="35049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uis Arturo Pacheco,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333399"/>
                </a:solidFill>
                <a:latin typeface="Arial"/>
              </a:rPr>
              <a:t>La Organización Contable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120" y="1484280"/>
            <a:ext cx="78483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Organización del Libro Diario: transacción por transacción, en un solo sitio y por orden cronológ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siento Contab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8560" indent="-2761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68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Glosa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o párrafo breve explicativo de la transacción efectua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68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Fecha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asociada a la operación, se anota en la primera columna de la izquie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68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68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uentas deudoras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afectadas, anotadas comenzando a la izquier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68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uentas acreedoras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afectadas, se anotan corridas algunos espacios a la derech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68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, se colocan en la columna correspondiente DEBE (débitos) o HABER (crédito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ada transacción debe registrarse en el Libro Diario apoyada por un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mprobante contable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prefoliado (ingreso, egreso o traspaso), y por los respectivos documentos fuente o sustentatorios de la oper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e consideran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ocumentos sustentatorios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las facturas, boletas de honorarios o de servicios, contratos, órdenes de compra, recibos de dinero, entre ot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uentas y Asientos Contables: Libro D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55640" y="14130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Formato de Libro Di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uentas y Asientos Contables: Libro D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20800" y="1916280"/>
          <a:ext cx="7638840" cy="4271760"/>
        </p:xfrm>
        <a:graphic>
          <a:graphicData uri="http://schemas.openxmlformats.org/drawingml/2006/table">
            <a:tbl>
              <a:tblPr/>
              <a:tblGrid>
                <a:gridCol w="792000"/>
                <a:gridCol w="432000"/>
                <a:gridCol w="3976560"/>
                <a:gridCol w="609480"/>
                <a:gridCol w="914400"/>
                <a:gridCol w="9144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 y Explic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rte Capital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ciones con Ban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ención préstamo banc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Anticip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iendo pagando 4 meses anticip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ebles e Instal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edores V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a mobili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1523880"/>
            <a:ext cx="78483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l libro mayor es un registro cuyo propósito es mantener la información de las transacciones, reclasificadas,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grupada  por cuentas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l mayor es un registro que sirve también d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spaldo a los principales estados contables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, al presentar la información ordenada por cuen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Las inscripciones en el Libro Mayor deben efectuarse, en principio,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espués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de haberse registrado la información de todas las transacciones en el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Libro Diario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May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Proceso de transferir débitos y créditos del Diario General a las cuentas correspondientes del Libro May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ada valor que aparece en la columna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ébito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del Libro Diario se mayoriza registrándola en el lado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ébito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de la cuenta mayor correspond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nálogamente, cada valor que aparece en la columna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rédito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del Libro Diario se mayoriza registrándola en el lado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rédito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de la cuenta mayor correspond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uentas y Asientos Contables: Libro May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1557360"/>
            <a:ext cx="784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Formato de Libro May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jemplo: Banc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uentas y Asientos Contables: Libro May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2595600"/>
          <a:ext cx="7848720" cy="3138480"/>
        </p:xfrm>
        <a:graphic>
          <a:graphicData uri="http://schemas.openxmlformats.org/drawingml/2006/table">
            <a:tbl>
              <a:tblPr/>
              <a:tblGrid>
                <a:gridCol w="770040"/>
                <a:gridCol w="3384720"/>
                <a:gridCol w="615960"/>
                <a:gridCol w="1000080"/>
                <a:gridCol w="1000080"/>
                <a:gridCol w="1077840"/>
              </a:tblGrid>
              <a:tr h="4244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rte Capital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ención préstamo banc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iendo pagando 4 meses anticip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a mobili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1662120"/>
            <a:ext cx="79246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Nómina ordenada de los rubros, en los cuales se registran eventos de similar naturaleza, y respecto de los cuales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interesa manejar información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Nómina ordenada, de todas las cuentas, de activo, pasivo, patrimonio, gastos e ingresos  de una ent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l número de cuentas a considerar depende del tipo de actividad realizada por la entidad, y de la cantidad de información que se desee manej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l Plan de Cuentas debe incluir, como mínimo, las cuentas que forman parte del denominado Mayor General, y que son aquellas que deben presentarse, de acuerdo a las normas vigentes, con motivo de la difusión de estados contab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uentas y Asientos Contables: Plan de Cu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55640" y="141300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structura de un Plan de Cu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uentas y Asientos Contables: Plan de Cu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95280" y="2286000"/>
          <a:ext cx="6934320" cy="1819440"/>
        </p:xfrm>
        <a:graphic>
          <a:graphicData uri="http://schemas.openxmlformats.org/drawingml/2006/table">
            <a:tbl>
              <a:tblPr/>
              <a:tblGrid>
                <a:gridCol w="1295640"/>
                <a:gridCol w="2630520"/>
                <a:gridCol w="3008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la Cu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Cu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.00.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e Bás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.00.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iv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e Bás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.00.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rimo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e Bás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.00.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e Bás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.00.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e Bás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258920" y="4365720"/>
          <a:ext cx="7416720" cy="2122560"/>
        </p:xfrm>
        <a:graphic>
          <a:graphicData uri="http://schemas.openxmlformats.org/drawingml/2006/table">
            <a:tbl>
              <a:tblPr/>
              <a:tblGrid>
                <a:gridCol w="1295280"/>
                <a:gridCol w="2630520"/>
                <a:gridCol w="3490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la Cu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Cu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e Bás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 Circul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upación de Part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da del Bal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0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 de Mayor 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0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 de Mayor 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01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 Cuenta o Cuenta de Mayor Aux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1701720"/>
            <a:ext cx="78483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iclo Con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ecuencia de procedimientos empleados para registrar,  clasificar y resumir la información contable.  Se inicia comunmente con el registro de cada transacción y culmina con la preparación de los Estados Financieros form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tapas del Ciclo Contab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Balance General de Apertu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nálisis de cada transacción y asientos en el Libro Dia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Mayoriz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Preparación de Balance de Comprobación: Verificar la exactitud del proceso de mayorización y el cálculo de los saldos de las cuentas del Libro May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nálisis y Asientos de Ajus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Preparación de Estados Financieros: Balance General, Estados de Resultados del Ejercic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ierre de Cuen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iclo Contable y Procesos de Ajuste y de Cie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1701720"/>
            <a:ext cx="784836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Balance de Prueba o de Comprobación y Sal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ontiene todas las cuentas de la entidad, ordenadas según su ubicación en el Libro Mayor, un resumen de los débitos y créditos del período, y los correspondientes saldos de cada cuen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68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Verificar que para transacción se ha registrado débitos y créditos igu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68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Verificar que los saldos de las cuentas se han calculado bi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68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Disponer de información sumaria sobre saldos para continuar con la preparación de los estados cont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68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Un balance de prueba “cuadrado” no constituye demostración de que las transacciones han sido analizadas y registradas correc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iclo Contable y Procesos de Ajuste y de Cie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549360"/>
            <a:ext cx="6019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iclo Contable y Procesos de Ajuste y de Cie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Balance de Prueba o de Comprobación y Sal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1528920"/>
          <a:ext cx="8839440" cy="4140000"/>
        </p:xfrm>
        <a:graphic>
          <a:graphicData uri="http://schemas.openxmlformats.org/drawingml/2006/table">
            <a:tbl>
              <a:tblPr/>
              <a:tblGrid>
                <a:gridCol w="2210040"/>
                <a:gridCol w="838080"/>
                <a:gridCol w="914400"/>
                <a:gridCol w="762120"/>
                <a:gridCol w="838080"/>
                <a:gridCol w="762120"/>
                <a:gridCol w="761760"/>
                <a:gridCol w="838440"/>
                <a:gridCol w="91440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mi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bi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édi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e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rdi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a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es Negoci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dores por V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Anticip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ebles e Instal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ciones con Ban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 por Pag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edores V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ciones por pag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os por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 de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Financie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de Administ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ien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1628640"/>
            <a:ext cx="7848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nálisis y Asientos de Aju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Realización de todos los asientos de ajuste e introducción de correcciones, empleando el documento llamado Hoja de Trabaj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Hoja de Trabajo: Instrumento manual diseñada especialmente para registrar, en forma sistemática y conveniente, toda la información contable requerida al final del período cont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onstituye un campo de prueba donde se ajustan, se cuadran y se arreglan las cuentas del mayor en la forma general de los estados financie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Objetivo: Brindar seguridad de que se han tomado en cuenta todos las consideraciones de los procedimientos contables al final del perío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iclo Contable y Procesos de Ajuste y de Cie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1600200"/>
            <a:ext cx="784224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Muchas empresas realizan miles de transacciones diariamente. No sería práctico, tampoco necesario, proponer  un balance después de cada transac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s preferible registrar las diferentes transacciones individuales, y proponer un balance a fines de cada mes o de cada período cont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ste capitulo tiene como objetivo presentar el modelo conceptual y la mecánica de los sistemas empleados por el contador para recopilar, clasificar y resumir la información de las transacciones y preparar finalmente los estados contab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uentas y Asientos Con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19320" y="45720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iclo Contable y Procesos de Ajuste y de Cie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                         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Hoja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2280" y="1528920"/>
          <a:ext cx="8839440" cy="4622760"/>
        </p:xfrm>
        <a:graphic>
          <a:graphicData uri="http://schemas.openxmlformats.org/drawingml/2006/table">
            <a:tbl>
              <a:tblPr/>
              <a:tblGrid>
                <a:gridCol w="2116080"/>
                <a:gridCol w="932040"/>
                <a:gridCol w="914400"/>
                <a:gridCol w="762120"/>
                <a:gridCol w="838080"/>
                <a:gridCol w="762120"/>
                <a:gridCol w="761760"/>
                <a:gridCol w="838440"/>
                <a:gridCol w="9144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ce  Comprob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us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de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e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rdi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a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es Negoci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dores por V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Anticip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ebles e Instal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ciones con Ban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 por Pag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edores V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ciones por pag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os por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 de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Financie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de Administ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ien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(Pérdid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1523880"/>
            <a:ext cx="78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sientos de Aju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iclo Contable y Procesos de Ajuste y de Cie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90720" y="1981080"/>
          <a:ext cx="7238880" cy="3048120"/>
        </p:xfrm>
        <a:graphic>
          <a:graphicData uri="http://schemas.openxmlformats.org/drawingml/2006/table">
            <a:tbl>
              <a:tblPr/>
              <a:tblGrid>
                <a:gridCol w="5105160"/>
                <a:gridCol w="1143000"/>
                <a:gridCol w="990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o del activo Gastos Anticip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ie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Anticip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ción de Maquinarias y Equip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ción Acumul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Financieros no registr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ciones con Ban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1628640"/>
            <a:ext cx="7848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reparación de Estados Contables y Cierre de Cu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l proceso de Cierre de Cuentas consiste en la transferencia de los saldos de las cuentas temporales, de ingresos y de gastos, a la cuenta resumen: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sultado del Ejercicio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l cierre se efectúa realizando un cierre contrario, en la cuenta Resultado del Ejercicio, por un monto equivalente al saldo de cada cuenta temporal, quedando esta última con saldo c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i los  ingresos (saldos créditos) exceden los gastos (saldos débitos), la cuenta Resultado del Ejercicio tendrá un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aldo crédito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, que representa la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utilidad neta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Por el contrario, si los gastos exceden los ingresos, la cuenta Resultado del Ejercicio tendrá un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aldo débito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que presenta la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érdida neta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iclo Contable y Procesos de Ajuste y de Cie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1468440"/>
            <a:ext cx="78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sientos de Cierre en el Libro Di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iclo Contable y Procesos de Ajuste y de Cie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90720" y="1752480"/>
          <a:ext cx="7238880" cy="4572000"/>
        </p:xfrm>
        <a:graphic>
          <a:graphicData uri="http://schemas.openxmlformats.org/drawingml/2006/table">
            <a:tbl>
              <a:tblPr/>
              <a:tblGrid>
                <a:gridCol w="5105160"/>
                <a:gridCol w="1143000"/>
                <a:gridCol w="990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l Ejerci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de Administ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l Ejerci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l Ejerci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ie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l Ejerci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l Ejerci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 de Ven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l Ejerci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os por Ven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l Ejerci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62120" y="1341360"/>
            <a:ext cx="78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Traspaso de los asientos de cierre a la cuenta de mayor “Resultado del Ejercici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iclo Contable y Procesos de Ajuste y de Cie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06640" y="1700280"/>
          <a:ext cx="6705360" cy="3047760"/>
        </p:xfrm>
        <a:graphic>
          <a:graphicData uri="http://schemas.openxmlformats.org/drawingml/2006/table">
            <a:tbl>
              <a:tblPr/>
              <a:tblGrid>
                <a:gridCol w="4572000"/>
                <a:gridCol w="1143000"/>
                <a:gridCol w="990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l Ejerci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de Administ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ie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 de Ven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os por Ven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755640" y="5084640"/>
            <a:ext cx="723888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aldo de la cuenta Resultado del Ejercicio: $1.000 al DEBE (Conclusión: Pérdid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Todas las cuentas de ingresos y gastos quedan con saldo final nu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La cuenta “Resultado del Ejercicio” pasa, al período siguiente, con su correspondiente signo a integrar el rubro “Utilidades Acumuladas” de la agrupación “Utilidades Retenidas”, que constituye parte del patrimonio inicial del nuevo ejercic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55640" y="1568520"/>
            <a:ext cx="7848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trol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5280" indent="-276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Proteger los recursos de la organiz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5280" indent="-276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segurar la exactitud y confiabilidad de la información de las operac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5280" indent="-276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segurar el cumplimiento de las políticas y normas corpor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5280" indent="-276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valuar el desempeño organizacio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onsideraciones básicas útiles para tener en cuen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5280" indent="-276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Definición y asignación de responsabilida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5280" indent="-276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ubdivisión de funciones o principio de responsabilidad comparti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5280" indent="-276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Procedimientos para una transacción: autorización, aprobación individual, ejecución y regist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5280" indent="-276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eparación de las funciones de custodia de los activos de las de registro o mantención del registro de los bie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5280" indent="-276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Manejo de efectivo: separar manejo de registro; depósitos diarios; pagos con cheque.  Separar funciones de aprobación de gastos de firma de cheq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5280" indent="-276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Otras medidas: auditoría interna, pronósticos, documentos prefoliados, uso de cuentas de control, conciliación bancaria periódica, empleo de documento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6508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Sistema Contable: Consideraciones Adi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26920" y="1484280"/>
            <a:ext cx="770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Un sistema contable eficiente debe satisfacer, en general, los siguientes objetiv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Procesar la Información al mínimo cos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Generar Información oportuna y confi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Mayores Auxili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Registros paralelos para transacciones de la misma naturaleza, respecto de las cuales interesa disponer de información adicional, para fines de análi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jemplos: Libro de Compras, Libro de Venta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6508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Sistema Contable: Consideraciones Adi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8480" y="3933720"/>
            <a:ext cx="7805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ubsidi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68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Registros de detalle, cuya información se traspasa a la contabilidad, a través de un proceso especial que se llama centralización, llevándose en la contabilidad los saldos a, través de una cuenta resumen.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68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68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jemplos: Libro de Remuneraciones, Libro de Existencias, Libro Control de Activo Fij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Uso de Analít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68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jemplos: RUT para recuperar Deudores o Gastos por Centro de Cos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2120" y="1295280"/>
            <a:ext cx="792468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La Cu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e denomina cuenta a un registro asociado a un rubro de la contabilidad de la entidad, destinado a recoger cada una de las variaciones resultantes de las transacciones que lo afect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e requiere en principio de tantas cuentas como rubros diferentes contempla la contabilidad de la entidad.  Ejemplos: Caja, Banco X Existencias línea de productos Y, Cuentas por pagar, Gastos en consumos básicos, Ingresos por comis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Todas las cuentas, separadas, se mantienen personalmente en el libro de contabilidad que se identificará, más adelante, como libro may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uentas y Asientos Con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uentas y Asientos Con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42920" y="2878200"/>
          <a:ext cx="6705720" cy="12445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042920" y="2421000"/>
          <a:ext cx="6705720" cy="457200"/>
        </p:xfrm>
        <a:graphic>
          <a:graphicData uri="http://schemas.openxmlformats.org/drawingml/2006/table">
            <a:tbl>
              <a:tblPr/>
              <a:tblGrid>
                <a:gridCol w="3352680"/>
                <a:gridCol w="33530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609480" y="1447920"/>
            <a:ext cx="7772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structura convencional y elementos de una cuenta (Cuenta “T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ombre de la Cu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mbos lados del registro presentan las mismas características; el lado izquierdo se conoce con el nombre de DEBE y el derecho, como HA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notación en el lado Izquierdo: débitos o car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notación en el lado derecho: créditos o abon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1752480"/>
            <a:ext cx="78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8360" indent="-7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eterminación del “Saldo de una Cuent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uentas y Asientos Con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71600" y="2438280"/>
          <a:ext cx="6705720" cy="3351240"/>
        </p:xfrm>
        <a:graphic>
          <a:graphicData uri="http://schemas.openxmlformats.org/drawingml/2006/table">
            <a:tbl>
              <a:tblPr/>
              <a:tblGrid>
                <a:gridCol w="3352680"/>
                <a:gridCol w="3353040"/>
              </a:tblGrid>
              <a:tr h="380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. Débitos           155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. Créditos            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                   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uentas y Asientos Con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828800"/>
            <a:ext cx="777384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Los aumentos en una cuenta se registran siempre en un mismo lado, y las disminuciones, en el ot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uenta Deudora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: suma de los débitos mayores que la suma de los créd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uenta Acreedora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: suma de los créditos mayor que la de los déb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Tipos de Cuent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- Cuentas de Activo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- Cuentas de Pa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- Cuentas de 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- Cuentas de Resultado, o de Ingresos y Ga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17002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ormas y convenciones que debe cumplir el registro de cada transacción.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uentas y Asientos Con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51240" y="2300400"/>
            <a:ext cx="41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 Narrow"/>
              </a:rPr>
              <a:t>SUMA DÉBITOS = SUMA CRÉD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92160" y="3164040"/>
          <a:ext cx="3124080" cy="1244520"/>
        </p:xfrm>
        <a:graphic>
          <a:graphicData uri="http://schemas.openxmlformats.org/drawingml/2006/table">
            <a:tbl>
              <a:tblPr/>
              <a:tblGrid>
                <a:gridCol w="1562040"/>
                <a:gridCol w="156204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 de Ac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992160" y="4992840"/>
          <a:ext cx="3124080" cy="1244520"/>
        </p:xfrm>
        <a:graphic>
          <a:graphicData uri="http://schemas.openxmlformats.org/drawingml/2006/table">
            <a:tbl>
              <a:tblPr/>
              <a:tblGrid>
                <a:gridCol w="1562040"/>
                <a:gridCol w="156204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 de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106960" y="3164040"/>
          <a:ext cx="3352680" cy="12445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 de Pasivo y Patrimon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106960" y="4992840"/>
          <a:ext cx="3352680" cy="12445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 de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1413000"/>
            <a:ext cx="7848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Tipos de Cuentas y Sald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uentas de  de Activo y de Gastos: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eu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uentas de  Pasivo, Patrimonio e Ingresos: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ree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gistro de transacciones y efectos en las cuentas 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Transacción 1: Aporte de capital de los socios por $ 1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Transacción 4: Adquisición de mobiliario por $70.000, pagado $50.000 de contado: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uentas y Asientos Con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00200" y="3560760"/>
          <a:ext cx="1600200" cy="660240"/>
        </p:xfrm>
        <a:graphic>
          <a:graphicData uri="http://schemas.openxmlformats.org/drawingml/2006/table">
            <a:tbl>
              <a:tblPr/>
              <a:tblGrid>
                <a:gridCol w="795240"/>
                <a:gridCol w="804960"/>
              </a:tblGrid>
              <a:tr h="330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105520" y="3560760"/>
          <a:ext cx="1600200" cy="660240"/>
        </p:xfrm>
        <a:graphic>
          <a:graphicData uri="http://schemas.openxmlformats.org/drawingml/2006/table">
            <a:tbl>
              <a:tblPr/>
              <a:tblGrid>
                <a:gridCol w="795240"/>
                <a:gridCol w="804960"/>
              </a:tblGrid>
              <a:tr h="330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547640" y="4797360"/>
          <a:ext cx="1747800" cy="660240"/>
        </p:xfrm>
        <a:graphic>
          <a:graphicData uri="http://schemas.openxmlformats.org/drawingml/2006/table">
            <a:tbl>
              <a:tblPr/>
              <a:tblGrid>
                <a:gridCol w="868680"/>
                <a:gridCol w="879120"/>
              </a:tblGrid>
              <a:tr h="330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376280" y="5634000"/>
          <a:ext cx="2116080" cy="660600"/>
        </p:xfrm>
        <a:graphic>
          <a:graphicData uri="http://schemas.openxmlformats.org/drawingml/2006/table">
            <a:tbl>
              <a:tblPr/>
              <a:tblGrid>
                <a:gridCol w="1050840"/>
                <a:gridCol w="1065240"/>
              </a:tblGrid>
              <a:tr h="330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ebles e Instal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932360" y="5589720"/>
          <a:ext cx="1828800" cy="660240"/>
        </p:xfrm>
        <a:graphic>
          <a:graphicData uri="http://schemas.openxmlformats.org/drawingml/2006/table">
            <a:tbl>
              <a:tblPr/>
              <a:tblGrid>
                <a:gridCol w="981000"/>
                <a:gridCol w="847800"/>
              </a:tblGrid>
              <a:tr h="32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edores V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1484280"/>
            <a:ext cx="7848360" cy="51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Libro Di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l Libro Diario es un registro cronológico de todas las transacciones efectuadas por una entidad, y recogidas bajo la forma de un asiento cont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Todo comerciante está oblígado a llevar para su contabilidad... Libro Diario, Libro Mayor o de Cuentas Corrientes, Libro de Balances...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n el Libro Diario se asentarán en orden cronológico y día por día las operaciones mercantiles que ejecute el comerciante, expresando detalladamente el carácter y circunstancia de cada una de ellas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e prohíbe a los comercian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84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lterar en los asientos el orden y fecha de las operaciones descri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84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Dejar blanco en el espacio de los asientos o a continuación de ell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84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Borrar los asientos o parte de ell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84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rrancar hojas, alterar la encuadernación y foliatura y mutilar alguna parte de los lib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8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Fuente:  Código de Comercio, Título II: De las obligaciones de los comerci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6094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uentas y Asientos Contables: Libro D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31T15:25:14Z</dcterms:created>
  <dc:creator>DII</dc:creator>
  <dc:description/>
  <dc:language>en-US</dc:language>
  <cp:lastModifiedBy>LAF</cp:lastModifiedBy>
  <cp:lastPrinted>2000-08-08T16:44:59Z</cp:lastPrinted>
  <dcterms:modified xsi:type="dcterms:W3CDTF">2004-08-16T01:49:40Z</dcterms:modified>
  <cp:revision>138</cp:revision>
  <dc:subject/>
  <dc:title>Sin título de diapositiva</dc:title>
</cp:coreProperties>
</file>