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B7575-7DF6-4B78-8FF5-2986A901B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7419D-2B50-4606-8B36-B9E22AF7D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D4E09-3C7E-4547-9176-AFBD3022F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DC8EC-04A8-4577-8E84-1D0F06334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4829B-3610-46A6-BA82-AE2FABB93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73272-522E-459A-8403-67AEA2577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C257A-599F-4C33-AECD-8A2C4B530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5956C-535A-4A3F-86B9-7380F05EB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74DC2-8A1F-4F46-953A-CB6755098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2595D-5316-4560-8841-64987DD9F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6E6E4-6F3A-423C-85EA-9F3E6E2A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489A3-7381-4566-801D-D396AFAAB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53115-415F-4039-B02B-037517A32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97323-6DD6-41C1-9B31-B66F12842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764BE-76A5-4DCD-96E9-6DDA69900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EB6BD-A380-4055-A924-DC898A94B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C2858-AC85-4A07-B5A5-3E5A58DBA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5B0BA-6458-433C-9B1B-9FA054BA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B0CA-E3DD-4156-9470-0B3AD06ED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D2C1C-00EC-4DCA-BBEF-A222E8AD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896EB-9F5A-43C2-8B7A-AE936912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911E3-D8E0-4888-8D26-131C4208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60479-F974-4E9F-9729-4C3E6D968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E349-22A9-4910-B5D2-1B6B50391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247E-C440-4623-99DF-7A1C7ECD2217}"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79F6-A29B-4E86-A272-F75F30A72DC0}"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6"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0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11-15T20:43:24Z</dcterms:modified>
  <cp:revision>269</cp:revision>
  <dc:subject/>
  <dc:title>I.FORMULACIÓN DE PROYECTOS</dc:title>
</cp:coreProperties>
</file>