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3B36-8967-4CFE-8195-6CB3486F436D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no de Obr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La existencia de un salario mínimo, de leyes sociales y de sindicatos distorciona el mercado del tranajo y por lo tanto, lleva a que el costo privado de la mano de obra difiera del costo social. El nivel de distorción existente depende del tipo de calificación del trabajador (Calificada, semicalificada y no califica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sa costo capit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a existencia de un impuesto a la renta y las distorciones existentes en el mercado del dinero generan un divorcio entre el costo de oportunidad del dinero para la economía y la tasa de interés de merc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a: La existencia de impuestos y restricciones a la importación de bienes, las limitaciones existentes a la libre entrada y salida de capitales, así como los subsidios a la exportación de bienes, genera un valor privado de la divisa que difiere del verdadero costo para la socie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s conveniente que los precios sociales sean calculados por un organismo independiente y que estos sean comunes para todos los proyectos evaluad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no de Obr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La existencia de un salario mínimo, de leyes sociales y de sindicatos distorciona el mercado del tranajo y por lo tanto, lleva a que el costo privado de la mano de obra difiera del costo social. El nivel de distorción existente depende del tipo de calificación del trabajador (Calificada, semicalificada y no califica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asa costo capit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a existencia de un impuesto a la renta y las distorciones existentes en el mercado del dinero generan un divorcio entre el costo de oportunidad del dinero para la economía y la tasa de interés de merc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a: La existencia de impuestos y restricciones a la importación de bienes, las limitaciones existentes a la libre entrada y salida de capitales, así como los subsidios a la exportación de bienes, genera un valor privado de la divisa que difiere del verdadero costo para la socie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s conveniente que los precios sociales sean calculados por un organismo independiente y que estos sean comunes para todos los proyectos evaluad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3D4-1C5A-4A38-B29E-12B3973C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A08-A304-4442-B1AB-9B522CFC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07E-B487-4D6C-991C-805C30AE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9A8-E6A0-414A-B73C-6DE43A20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593C-409D-48D9-8732-844F35C1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C5EA-D2F2-4104-8102-F21EEB02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6BED-C3CD-45EF-8DDB-5F16E460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F0C2-0347-4FA7-A11A-6CEB113E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E2A9-CE7E-4A40-A629-55E25EF7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E7EB-D32C-4593-9D24-76D475D2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405E-559D-454F-A1AA-D3B5955A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B0A-0040-490F-8150-3F446DC4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D7F4-D2B4-4863-A12B-0C6ED88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0F1D-E981-49A0-B96F-29F6597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EA99-8B86-4F2F-B212-0355499D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A09C-AB9A-4825-B0C3-2BEDFC75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599C-5F71-4B0C-97A6-0E07F9CF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D7C-2989-4E7B-892A-4037A94D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B91-B440-4AF9-8B7C-AD16EE61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7E5-3D1B-43F3-876D-97268CC6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E20-6B8F-4A00-B276-6C519D05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C02-9C3C-494E-B7A0-943699C6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D0A-FDEB-4BC8-AF1C-8A2971A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F51-EBC0-481E-ABB7-0D50A7ED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B59E-2C72-450A-8DAE-BC578A5E02A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2F91-A597-41F0-86A7-5EE83842C51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valuación Social de Proyectos de Infraestructura de Transporte V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BD05679_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3454560" cy="3341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42120" y="579132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ernando Cartes Me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valuación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INDICADORES DE RENT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6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65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MOMENTO ÓPTIMO DE INVER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65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valuación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5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recios Social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P. Sombra – P. de Cuen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5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ducto de la existencia de los problemas descritos previamente, es necesario calcular Precios Sociales, es decir, precios que reflejen el verdadero costo de oportunidad de los bienes para la socie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5240" indent="-165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ecios Sociales de los Factores Bás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no de Obra (Calificada, Semi Calificada, No Calificad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sa Costo Ca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ivi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5240" indent="-165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ecio Social de los Costos de Operación Vehicular (Combustible, lubricantes, neumáticos, entre ot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5240" indent="-165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alor Social del Tiempo de Vi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5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09120" y="2133720"/>
            <a:ext cx="826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cio Social Combustible (Bien Importad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r>
              <a:rPr b="0" lang="en-GB" sz="1800" spc="-1" strike="noStrike">
                <a:solidFill>
                  <a:srgbClr val="ffcf01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S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= Precio social del combusti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cif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= Precio CIF del producto (en $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GVM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= Gastos varios y mermas de import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CD+CV)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M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= Componente extranjero del costo agregado del distribuidor y de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enta a público (estación de servicio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CD+CV)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MN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= Componente nacional del costo agregado del distribuidor y de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venta a público (estación de servicio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CD+CV)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MOi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=Componente de mano de obra tipo i del costo agregado del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istribuidor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y de venta a público (estación de servicio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137304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  <a:tab algn="l" pos="3352680"/>
                <a:tab algn="l" pos="3505320"/>
                <a:tab algn="l" pos="3657600"/>
                <a:tab algn="l" pos="3809880"/>
                <a:tab algn="l" pos="3962520"/>
                <a:tab algn="l" pos="4114800"/>
                <a:tab algn="l" pos="4267080"/>
                <a:tab algn="l" pos="4419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,f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MOi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actor de corrección divisa y factor corrección mano de obra tipo i,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spectivamente.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valuación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2743200"/>
            <a:ext cx="7315200" cy="37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f01"/>
                </a:solidFill>
                <a:latin typeface="Tahoma"/>
              </a:rPr>
              <a:t>PS= (P</a:t>
            </a:r>
            <a:r>
              <a:rPr b="0" lang="en-GB" sz="1800" spc="-1" strike="noStrike" baseline="-25000">
                <a:solidFill>
                  <a:srgbClr val="ffcf01"/>
                </a:solidFill>
                <a:latin typeface="Tahoma"/>
              </a:rPr>
              <a:t>cif</a:t>
            </a:r>
            <a:r>
              <a:rPr b="0" lang="en-GB" sz="1800" spc="-1" strike="noStrike">
                <a:solidFill>
                  <a:srgbClr val="ffcf01"/>
                </a:solidFill>
                <a:latin typeface="Tahoma"/>
              </a:rPr>
              <a:t> + GVM + (CD+CV)</a:t>
            </a:r>
            <a:r>
              <a:rPr b="0" lang="en-GB" sz="1800" spc="-1" strike="noStrike" baseline="-25000">
                <a:solidFill>
                  <a:srgbClr val="ffcf01"/>
                </a:solidFill>
                <a:latin typeface="Tahoma"/>
              </a:rPr>
              <a:t>ME</a:t>
            </a:r>
            <a:r>
              <a:rPr b="0" lang="en-GB" sz="1800" spc="-1" strike="noStrike">
                <a:solidFill>
                  <a:srgbClr val="ffcf01"/>
                </a:solidFill>
                <a:latin typeface="Tahoma"/>
              </a:rPr>
              <a:t>)*f</a:t>
            </a:r>
            <a:r>
              <a:rPr b="0" lang="en-GB" sz="1800" spc="-1" strike="noStrike" baseline="-25000">
                <a:solidFill>
                  <a:srgbClr val="ffcf01"/>
                </a:solidFill>
                <a:latin typeface="Tahoma"/>
              </a:rPr>
              <a:t>d</a:t>
            </a:r>
            <a:r>
              <a:rPr b="0" lang="en-GB" sz="1800" spc="-1" strike="noStrike">
                <a:solidFill>
                  <a:srgbClr val="ffcf01"/>
                </a:solidFill>
                <a:latin typeface="Tahoma"/>
              </a:rPr>
              <a:t> + (CD+CV)</a:t>
            </a:r>
            <a:r>
              <a:rPr b="0" lang="en-GB" sz="1800" spc="-1" strike="noStrike" baseline="-25000">
                <a:solidFill>
                  <a:srgbClr val="ffcf01"/>
                </a:solidFill>
                <a:latin typeface="Tahoma"/>
              </a:rPr>
              <a:t>MN</a:t>
            </a:r>
            <a:r>
              <a:rPr b="0" lang="en-GB" sz="1800" spc="-1" strike="noStrike">
                <a:solidFill>
                  <a:srgbClr val="ffcf01"/>
                </a:solidFill>
                <a:latin typeface="Tahoma"/>
              </a:rPr>
              <a:t> + </a:t>
            </a:r>
            <a:r>
              <a:rPr b="0" lang="en-GB" sz="1800" spc="-1" strike="noStrike">
                <a:solidFill>
                  <a:srgbClr val="ffcf01"/>
                </a:solidFill>
                <a:latin typeface="Tahoma"/>
                <a:ea typeface="Tahoma"/>
              </a:rPr>
              <a:t>Σ</a:t>
            </a:r>
            <a:r>
              <a:rPr b="0" lang="en-GB" sz="1800" spc="-1" strike="noStrike">
                <a:solidFill>
                  <a:srgbClr val="ffcf01"/>
                </a:solidFill>
                <a:latin typeface="Tahoma"/>
              </a:rPr>
              <a:t>(CD+CV)</a:t>
            </a:r>
            <a:r>
              <a:rPr b="0" lang="en-GB" sz="1800" spc="-1" strike="noStrike" baseline="-25000">
                <a:solidFill>
                  <a:srgbClr val="ffcf01"/>
                </a:solidFill>
                <a:latin typeface="Tahoma"/>
              </a:rPr>
              <a:t>MOi</a:t>
            </a:r>
            <a:r>
              <a:rPr b="0" lang="en-GB" sz="1800" spc="-1" strike="noStrike">
                <a:solidFill>
                  <a:srgbClr val="ffcf01"/>
                </a:solidFill>
                <a:latin typeface="Tahoma"/>
              </a:rPr>
              <a:t>*f</a:t>
            </a:r>
            <a:r>
              <a:rPr b="0" lang="en-GB" sz="1800" spc="-1" strike="noStrike" baseline="-25000">
                <a:solidFill>
                  <a:srgbClr val="ffcf01"/>
                </a:solidFill>
                <a:latin typeface="Tahoma"/>
              </a:rPr>
              <a:t>M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valuación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or Social del Tiempo de Via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je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s empresas contratan trabajadores hasta que el sueldo que pagan es igual al valor de la productividad marginal del trabajador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ahorro de tiempo de trabajo significa mayor producción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Beneficio = 100% Sueldo Bru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je de 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 existe un mercado “formal” por tiempo de ocio; por lo tanto se deben utilizar técnicas que permitan “extraer” el valor que tiene para las personas el tiempo de o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ncuestas de Preferencias Reveladas (P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Encuestas de Preferencias Declaradas (P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valuación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21800" y="20574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or Social del Tiempo de Via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sde el punto de vista del enfoque de eficiencia los beneficios por ahorro de tiempo de viaje generados por un proyecto corresponden a la sumatoria de las valoraciones individuales de los usuarios del camino. Sin embargo, en la práctica se utiliza un valor único para cada tipo de vehículo, el cual corresponde a la valoración del tiempo de viaje de un usuario pro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nde VS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es el valor social del tiempo de viaje del usuario promedio del tipo de vehículo i; VT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y VT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el valor del tiempo de trabajo y ocio para el usuario i; y P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y P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el porcentaje de viajes de trabajo y ocio del usuario i, respectiv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4267080"/>
            <a:ext cx="5867280" cy="4406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f01"/>
                </a:solidFill>
                <a:latin typeface="Tahoma"/>
              </a:rPr>
              <a:t>VST</a:t>
            </a:r>
            <a:r>
              <a:rPr b="1" lang="en-GB" sz="2000" spc="-1" strike="noStrike" baseline="-25000">
                <a:solidFill>
                  <a:srgbClr val="ffcf01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ffcf01"/>
                </a:solidFill>
                <a:latin typeface="Tahoma"/>
              </a:rPr>
              <a:t> = PT</a:t>
            </a:r>
            <a:r>
              <a:rPr b="1" lang="en-GB" sz="2000" spc="-1" strike="noStrike" baseline="-25000">
                <a:solidFill>
                  <a:srgbClr val="ffcf01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ffcf01"/>
                </a:solidFill>
                <a:latin typeface="Tahoma"/>
              </a:rPr>
              <a:t>*VTT</a:t>
            </a:r>
            <a:r>
              <a:rPr b="1" lang="en-GB" sz="2000" spc="-1" strike="noStrike" baseline="-25000">
                <a:solidFill>
                  <a:srgbClr val="ffcf01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ffcf01"/>
                </a:solidFill>
                <a:latin typeface="Tahoma"/>
              </a:rPr>
              <a:t> + PO</a:t>
            </a:r>
            <a:r>
              <a:rPr b="1" lang="en-GB" sz="2000" spc="-1" strike="noStrike" baseline="-25000">
                <a:solidFill>
                  <a:srgbClr val="ffcf01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ffcf01"/>
                </a:solidFill>
                <a:latin typeface="Tahoma"/>
              </a:rPr>
              <a:t>*VTO</a:t>
            </a:r>
            <a:r>
              <a:rPr b="1" lang="en-GB" sz="2000" spc="-1" strike="noStrike" baseline="-25000">
                <a:solidFill>
                  <a:srgbClr val="ffcf01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603000" y="2362320"/>
            <a:ext cx="6355080" cy="3964680"/>
            <a:chOff x="603000" y="2362320"/>
            <a:chExt cx="6355080" cy="3964680"/>
          </a:xfrm>
        </p:grpSpPr>
        <p:sp>
          <p:nvSpPr>
            <p:cNvPr id="109" name=""/>
            <p:cNvSpPr/>
            <p:nvPr/>
          </p:nvSpPr>
          <p:spPr>
            <a:xfrm>
              <a:off x="3063960" y="453852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499572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603000" y="2362320"/>
              <a:ext cx="6355080" cy="3964680"/>
              <a:chOff x="603000" y="2362320"/>
              <a:chExt cx="6355080" cy="3964680"/>
            </a:xfrm>
          </p:grpSpPr>
          <p:sp>
            <p:nvSpPr>
              <p:cNvPr id="112" name=""/>
              <p:cNvSpPr/>
              <p:nvPr/>
            </p:nvSpPr>
            <p:spPr>
              <a:xfrm>
                <a:off x="1387440" y="4538520"/>
                <a:ext cx="1676520" cy="45684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87440" y="2633400"/>
                <a:ext cx="0" cy="32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87440" y="591012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87440" y="3243240"/>
                <a:ext cx="3505320" cy="27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87440" y="453852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87440" y="4995720"/>
                <a:ext cx="281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400000">
                <a:off x="3140640" y="2709720"/>
                <a:ext cx="18273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3216960" y="3166920"/>
                <a:ext cx="18273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93320" y="46148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57480" y="46148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14800" y="5867280"/>
                <a:ext cx="104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TMD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3000" y="4265640"/>
                <a:ext cx="705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CGV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18840" y="4767120"/>
                <a:ext cx="705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CGV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62200" y="23623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($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11320" y="5910120"/>
                <a:ext cx="473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44840" y="5910120"/>
                <a:ext cx="473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48320" y="3319200"/>
                <a:ext cx="712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MeS</a:t>
                </a:r>
                <a:r>
                  <a:rPr b="0" lang="en-GB" sz="14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76920" y="3852720"/>
                <a:ext cx="712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MeS</a:t>
                </a:r>
                <a:r>
                  <a:rPr b="0" lang="en-GB" sz="1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valuación Social de Proyectos de Infraestructura de Transporte V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2362320"/>
            <a:ext cx="6096240" cy="9169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 = Beneficios por Ahorro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 = Beneficios por Mayor Consumo (Tránsito gener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9680" y="3429000"/>
            <a:ext cx="330156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yectos de mejor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carpeta rodadura, traz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posición de carp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527040" y="2286000"/>
            <a:ext cx="6278400" cy="3987000"/>
            <a:chOff x="527040" y="2286000"/>
            <a:chExt cx="6278400" cy="3987000"/>
          </a:xfrm>
        </p:grpSpPr>
        <p:sp>
          <p:nvSpPr>
            <p:cNvPr id="135" name=""/>
            <p:cNvSpPr/>
            <p:nvPr/>
          </p:nvSpPr>
          <p:spPr>
            <a:xfrm>
              <a:off x="4495680" y="44193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27040" y="2286000"/>
              <a:ext cx="6278400" cy="3987000"/>
              <a:chOff x="527040" y="2286000"/>
              <a:chExt cx="6278400" cy="3987000"/>
            </a:xfrm>
          </p:grpSpPr>
          <p:sp>
            <p:nvSpPr>
              <p:cNvPr id="137" name=""/>
              <p:cNvSpPr/>
              <p:nvPr/>
            </p:nvSpPr>
            <p:spPr>
              <a:xfrm>
                <a:off x="3886200" y="4038480"/>
                <a:ext cx="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34800" y="2557440"/>
                <a:ext cx="0" cy="32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34800" y="5833800"/>
                <a:ext cx="502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81080" y="2514600"/>
                <a:ext cx="335232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71600" y="4495680"/>
                <a:ext cx="28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00000">
                <a:off x="1524240" y="2057760"/>
                <a:ext cx="1828080" cy="30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400000">
                <a:off x="3124080" y="2667240"/>
                <a:ext cx="1828080" cy="182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77480" y="388620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79360" y="396216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62160" y="5790960"/>
                <a:ext cx="104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TMD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7040" y="3733560"/>
                <a:ext cx="705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CGV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7040" y="4114800"/>
                <a:ext cx="705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CGV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9560" y="228600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($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33560" y="5867280"/>
                <a:ext cx="472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43400" y="5867280"/>
                <a:ext cx="472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946320" y="3124080"/>
                <a:ext cx="712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MeS</a:t>
                </a:r>
                <a:r>
                  <a:rPr b="0" lang="en-GB" sz="14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84760" y="3276360"/>
                <a:ext cx="712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MeS</a:t>
                </a:r>
                <a:r>
                  <a:rPr b="0" lang="en-GB" sz="1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218960" y="3886200"/>
                <a:ext cx="259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1218960" y="434340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218960" y="449568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valuación Social de Proyectos de Infraestructura de Transporte V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057400"/>
            <a:ext cx="6095880" cy="916920"/>
          </a:xfrm>
          <a:prstGeom prst="rect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 = Beneficios por Ahorro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 = Beneficios por Mayor Consumo (Tránsito gener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0" y="3809880"/>
            <a:ext cx="358380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yectos de Amplia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pacidad (segundas calzad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erceras pistas,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eficios por tipología de tráns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ránsito norm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quel que no cambia su O-D ni su ruta por efecto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Benefici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 = (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0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x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 – 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1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x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) x TN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ránsito desviad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quel que mantiene su O-D pero modifica su r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Benefici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 = (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0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x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 – 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1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y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) x TD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 en la situación sin proyecto ambas rutas están en equilibrio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0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y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 = 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0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5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ntonces, el beneficio que obtienen los usuarios que se desvian de la ruta “y” hacia la ruta “x” es igual   al beneficio de los usuarios normales de 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valuación Social de Proyectos de Infraestructura de Transporte V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4191120"/>
            <a:ext cx="1371240" cy="2212200"/>
            <a:chOff x="533520" y="4191120"/>
            <a:chExt cx="1371240" cy="2212200"/>
          </a:xfrm>
        </p:grpSpPr>
        <p:grpSp>
          <p:nvGrpSpPr>
            <p:cNvPr id="163" name=""/>
            <p:cNvGrpSpPr/>
            <p:nvPr/>
          </p:nvGrpSpPr>
          <p:grpSpPr>
            <a:xfrm>
              <a:off x="609480" y="4191120"/>
              <a:ext cx="1295280" cy="2212200"/>
              <a:chOff x="609480" y="4191120"/>
              <a:chExt cx="1295280" cy="2212200"/>
            </a:xfrm>
          </p:grpSpPr>
          <p:sp>
            <p:nvSpPr>
              <p:cNvPr id="164" name=""/>
              <p:cNvSpPr/>
              <p:nvPr/>
            </p:nvSpPr>
            <p:spPr>
              <a:xfrm>
                <a:off x="761760" y="4648320"/>
                <a:ext cx="914400" cy="1523880"/>
              </a:xfrm>
              <a:custGeom>
                <a:avLst/>
                <a:gdLst/>
                <a:ahLst/>
                <a:rect l="l" t="t" r="r" b="b"/>
                <a:pathLst>
                  <a:path w="632" h="1008">
                    <a:moveTo>
                      <a:pt x="0" y="0"/>
                    </a:moveTo>
                    <a:cubicBezTo>
                      <a:pt x="260" y="12"/>
                      <a:pt x="520" y="24"/>
                      <a:pt x="576" y="192"/>
                    </a:cubicBezTo>
                    <a:cubicBezTo>
                      <a:pt x="632" y="360"/>
                      <a:pt x="484" y="684"/>
                      <a:pt x="336" y="100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61760" y="4648320"/>
                <a:ext cx="533520" cy="1600200"/>
              </a:xfrm>
              <a:custGeom>
                <a:avLst/>
                <a:gdLst/>
                <a:ahLst/>
                <a:rect l="l" t="t" r="r" b="b"/>
                <a:pathLst>
                  <a:path w="336" h="1008">
                    <a:moveTo>
                      <a:pt x="0" y="0"/>
                    </a:moveTo>
                    <a:cubicBezTo>
                      <a:pt x="44" y="252"/>
                      <a:pt x="88" y="504"/>
                      <a:pt x="144" y="672"/>
                    </a:cubicBezTo>
                    <a:cubicBezTo>
                      <a:pt x="200" y="840"/>
                      <a:pt x="296" y="960"/>
                      <a:pt x="336" y="1008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371600" y="5943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9480" y="41911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09480" y="5486400"/>
                <a:ext cx="3049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1600" y="426744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33520" y="5105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valuación Social de Proyectos de Infraestructura de Transporte V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eficios por tipología de tráns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ránsito Transferid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Aquel que cambia su O-D por efecto del proyecto (por ejemplo, Carretera de la Frut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Benefici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 = (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0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AB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 – 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1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AC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) x TT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Tránsito Generad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quel tránsito inducido por la realización del proyecto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Benefici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i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 = (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0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x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 – CGV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1i</a:t>
            </a:r>
            <a:r>
              <a:rPr b="1" lang="en-GB" sz="2000" spc="-1" strike="noStrike" baseline="30000">
                <a:solidFill>
                  <a:srgbClr val="0099ff"/>
                </a:solidFill>
                <a:latin typeface="Tahoma"/>
              </a:rPr>
              <a:t>x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) x TG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	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	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	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99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0880" y="2286000"/>
            <a:ext cx="1505160" cy="2514600"/>
            <a:chOff x="380880" y="2286000"/>
            <a:chExt cx="1505160" cy="2514600"/>
          </a:xfrm>
        </p:grpSpPr>
        <p:grpSp>
          <p:nvGrpSpPr>
            <p:cNvPr id="174" name=""/>
            <p:cNvGrpSpPr/>
            <p:nvPr/>
          </p:nvGrpSpPr>
          <p:grpSpPr>
            <a:xfrm>
              <a:off x="397800" y="2490120"/>
              <a:ext cx="1488240" cy="2310480"/>
              <a:chOff x="397800" y="2490120"/>
              <a:chExt cx="1488240" cy="2310480"/>
            </a:xfrm>
          </p:grpSpPr>
          <p:sp>
            <p:nvSpPr>
              <p:cNvPr id="175" name=""/>
              <p:cNvSpPr/>
              <p:nvPr/>
            </p:nvSpPr>
            <p:spPr>
              <a:xfrm>
                <a:off x="762120" y="2819160"/>
                <a:ext cx="635040" cy="1524240"/>
              </a:xfrm>
              <a:custGeom>
                <a:avLst/>
                <a:gdLst/>
                <a:ahLst/>
                <a:rect l="l" t="t" r="r" b="b"/>
                <a:pathLst>
                  <a:path w="400" h="960">
                    <a:moveTo>
                      <a:pt x="336" y="960"/>
                    </a:moveTo>
                    <a:cubicBezTo>
                      <a:pt x="360" y="804"/>
                      <a:pt x="384" y="648"/>
                      <a:pt x="384" y="528"/>
                    </a:cubicBezTo>
                    <a:cubicBezTo>
                      <a:pt x="384" y="408"/>
                      <a:pt x="400" y="328"/>
                      <a:pt x="336" y="240"/>
                    </a:cubicBezTo>
                    <a:cubicBezTo>
                      <a:pt x="272" y="152"/>
                      <a:pt x="40" y="48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9480" y="3429000"/>
                <a:ext cx="685800" cy="914400"/>
              </a:xfrm>
              <a:custGeom>
                <a:avLst/>
                <a:gdLst/>
                <a:ahLst/>
                <a:rect l="l" t="t" r="r" b="b"/>
                <a:pathLst>
                  <a:path w="432" h="576">
                    <a:moveTo>
                      <a:pt x="432" y="576"/>
                    </a:moveTo>
                    <a:cubicBezTo>
                      <a:pt x="388" y="464"/>
                      <a:pt x="344" y="352"/>
                      <a:pt x="288" y="288"/>
                    </a:cubicBezTo>
                    <a:cubicBezTo>
                      <a:pt x="232" y="224"/>
                      <a:pt x="144" y="240"/>
                      <a:pt x="96" y="192"/>
                    </a:cubicBezTo>
                    <a:cubicBezTo>
                      <a:pt x="48" y="144"/>
                      <a:pt x="24" y="72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3586800">
                <a:off x="837000" y="2940120"/>
                <a:ext cx="121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Sin Proye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3154800">
                <a:off x="264960" y="4038840"/>
                <a:ext cx="129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on Proye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71600" y="41907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609480" y="22860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304776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733920" y="5562720"/>
            <a:ext cx="220968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valuación Social de Proyectos de Infraestructura de Transporte V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fectos Indir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7200" y="2646360"/>
            <a:ext cx="3657600" cy="3525840"/>
            <a:chOff x="457200" y="2646360"/>
            <a:chExt cx="3657600" cy="3525840"/>
          </a:xfrm>
        </p:grpSpPr>
        <p:grpSp>
          <p:nvGrpSpPr>
            <p:cNvPr id="186" name=""/>
            <p:cNvGrpSpPr/>
            <p:nvPr/>
          </p:nvGrpSpPr>
          <p:grpSpPr>
            <a:xfrm>
              <a:off x="457200" y="2646360"/>
              <a:ext cx="3657600" cy="3525840"/>
              <a:chOff x="457200" y="2646360"/>
              <a:chExt cx="3657600" cy="35258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593640" y="2646360"/>
                <a:ext cx="3521160" cy="3525840"/>
                <a:chOff x="593640" y="2646360"/>
                <a:chExt cx="3521160" cy="35258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593640" y="2646360"/>
                  <a:ext cx="3521160" cy="3480840"/>
                  <a:chOff x="593640" y="2646360"/>
                  <a:chExt cx="3521160" cy="348084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93640" y="2673360"/>
                    <a:ext cx="3521160" cy="3453840"/>
                    <a:chOff x="593640" y="2673360"/>
                    <a:chExt cx="3521160" cy="3453840"/>
                  </a:xfrm>
                </p:grpSpPr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1142640" y="2895480"/>
                      <a:ext cx="2972160" cy="3231720"/>
                      <a:chOff x="1142640" y="2895480"/>
                      <a:chExt cx="2972160" cy="3231720"/>
                    </a:xfrm>
                  </p:grpSpPr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1143000" y="4495680"/>
                        <a:ext cx="609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 flipH="1">
                        <a:off x="1142640" y="4267080"/>
                        <a:ext cx="1219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 flipH="1">
                        <a:off x="1142640" y="4038480"/>
                        <a:ext cx="1600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1143000" y="2895480"/>
                        <a:ext cx="2971800" cy="3231720"/>
                        <a:chOff x="1143000" y="2895480"/>
                        <a:chExt cx="2971800" cy="3231720"/>
                      </a:xfrm>
                    </p:grpSpPr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1143000" y="4038480"/>
                          <a:ext cx="1219320" cy="228600"/>
                        </a:xfrm>
                        <a:prstGeom prst="rect">
                          <a:avLst/>
                        </a:prstGeom>
                        <a:solidFill>
                          <a:srgbClr val="00e4a8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143000" y="2895480"/>
                          <a:ext cx="0" cy="281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head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143000" y="5714640"/>
                          <a:ext cx="2743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133720" y="3047760"/>
                          <a:ext cx="1371600" cy="2133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1752480" y="3352680"/>
                          <a:ext cx="1371600" cy="114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4" h="720">
                              <a:moveTo>
                                <a:pt x="0" y="720"/>
                              </a:moveTo>
                              <a:cubicBezTo>
                                <a:pt x="240" y="636"/>
                                <a:pt x="480" y="552"/>
                                <a:pt x="624" y="432"/>
                              </a:cubicBezTo>
                              <a:cubicBezTo>
                                <a:pt x="768" y="312"/>
                                <a:pt x="816" y="156"/>
                                <a:pt x="864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1752480" y="3276360"/>
                          <a:ext cx="1371600" cy="2133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3505320" y="4800240"/>
                          <a:ext cx="533160" cy="33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GB" sz="1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D</a:t>
                          </a:r>
                          <a:r>
                            <a:rPr b="0" lang="en-GB" sz="1400" spc="-1" strike="noStrike" baseline="-25000">
                              <a:solidFill>
                                <a:srgbClr val="000000"/>
                              </a:solidFill>
                              <a:latin typeface="Tahoma"/>
                            </a:rPr>
                            <a:t>0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971800" y="5333760"/>
                          <a:ext cx="533520" cy="33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GB" sz="1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D</a:t>
                          </a:r>
                          <a:r>
                            <a:rPr b="0" lang="en-GB" sz="1400" spc="-1" strike="noStrike" baseline="-25000">
                              <a:solidFill>
                                <a:srgbClr val="000000"/>
                              </a:solidFill>
                              <a:latin typeface="Tahoma"/>
                            </a:rPr>
                            <a:t>1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276720" y="2895480"/>
                          <a:ext cx="83808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GB" sz="16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CMe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362320" y="4038480"/>
                          <a:ext cx="0" cy="1676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038480"/>
                          <a:ext cx="0" cy="1676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214720" y="5790960"/>
                          <a:ext cx="339120" cy="33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GB" sz="1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T</a:t>
                          </a:r>
                          <a:r>
                            <a:rPr b="0" lang="en-GB" sz="1400" spc="-1" strike="noStrike" baseline="-25000">
                              <a:solidFill>
                                <a:srgbClr val="000000"/>
                              </a:solidFill>
                              <a:latin typeface="Tahoma"/>
                            </a:rPr>
                            <a:t>1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595960" y="5790960"/>
                          <a:ext cx="339120" cy="336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GB" sz="1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T</a:t>
                          </a:r>
                          <a:r>
                            <a:rPr b="0" lang="en-GB" sz="1400" spc="-1" strike="noStrike" baseline="-25000">
                              <a:solidFill>
                                <a:srgbClr val="000000"/>
                              </a:solidFill>
                              <a:latin typeface="Tahoma"/>
                            </a:rPr>
                            <a:t>0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821520" y="2673360"/>
                      <a:ext cx="2829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93640" y="3809880"/>
                      <a:ext cx="6148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Me</a:t>
                      </a:r>
                      <a:r>
                        <a:rPr b="0" lang="en-GB" sz="1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593640" y="4038480"/>
                      <a:ext cx="6148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Me</a:t>
                      </a:r>
                      <a:r>
                        <a:rPr b="0" lang="en-GB" sz="1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>
                    <a:off x="1517760" y="2646360"/>
                    <a:ext cx="1476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 u="sng">
                        <a:solidFill>
                          <a:srgbClr val="ff0000"/>
                        </a:solidFill>
                        <a:uFillTx/>
                        <a:latin typeface="Tahoma"/>
                      </a:rPr>
                      <a:t>Vía Sustitut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1189440" y="4038480"/>
                    <a:ext cx="953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Tahoma"/>
                      </a:rPr>
                      <a:t>Benefici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 flipH="1">
                  <a:off x="2286000" y="617220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457200" y="3962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H="1">
              <a:off x="2971440" y="48006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495680" y="2590920"/>
            <a:ext cx="3581640" cy="3581280"/>
            <a:chOff x="4495680" y="2590920"/>
            <a:chExt cx="3581640" cy="3581280"/>
          </a:xfrm>
        </p:grpSpPr>
        <p:grpSp>
          <p:nvGrpSpPr>
            <p:cNvPr id="217" name=""/>
            <p:cNvGrpSpPr/>
            <p:nvPr/>
          </p:nvGrpSpPr>
          <p:grpSpPr>
            <a:xfrm>
              <a:off x="4495680" y="2590920"/>
              <a:ext cx="3581640" cy="3581280"/>
              <a:chOff x="4495680" y="2590920"/>
              <a:chExt cx="3581640" cy="35812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4556160" y="2590920"/>
                <a:ext cx="3521160" cy="3581280"/>
                <a:chOff x="4556160" y="2590920"/>
                <a:chExt cx="3521160" cy="358128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4556160" y="2590920"/>
                  <a:ext cx="3521160" cy="3480840"/>
                  <a:chOff x="4556160" y="2590920"/>
                  <a:chExt cx="3521160" cy="34808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>
                    <a:off x="5105160" y="4211640"/>
                    <a:ext cx="121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5105160" y="3983040"/>
                    <a:ext cx="1600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467840" y="4744800"/>
                    <a:ext cx="5331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Tahoma"/>
                      </a:rPr>
                      <a:t>D</a:t>
                    </a:r>
                    <a:r>
                      <a:rPr b="0" lang="en-GB" sz="1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934320" y="5278320"/>
                    <a:ext cx="5335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Tahoma"/>
                      </a:rPr>
                      <a:t>D</a:t>
                    </a:r>
                    <a:r>
                      <a:rPr b="0" lang="en-GB" sz="1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4556160" y="2590920"/>
                    <a:ext cx="3521160" cy="3480840"/>
                    <a:chOff x="4556160" y="2590920"/>
                    <a:chExt cx="3521160" cy="348084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105520" y="4440240"/>
                      <a:ext cx="609480" cy="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105520" y="3983040"/>
                      <a:ext cx="1219320" cy="228240"/>
                    </a:xfrm>
                    <a:prstGeom prst="rect">
                      <a:avLst/>
                    </a:prstGeom>
                    <a:solidFill>
                      <a:srgbClr val="ffcf0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5105520" y="2840040"/>
                      <a:ext cx="1440" cy="2818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105520" y="5659200"/>
                      <a:ext cx="274320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6096240" y="2992320"/>
                      <a:ext cx="1371600" cy="213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5715000" y="3297240"/>
                      <a:ext cx="1371600" cy="11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4" h="720">
                          <a:moveTo>
                            <a:pt x="0" y="720"/>
                          </a:moveTo>
                          <a:cubicBezTo>
                            <a:pt x="240" y="636"/>
                            <a:pt x="480" y="552"/>
                            <a:pt x="624" y="432"/>
                          </a:cubicBezTo>
                          <a:cubicBezTo>
                            <a:pt x="768" y="312"/>
                            <a:pt x="816" y="156"/>
                            <a:pt x="864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715000" y="3220920"/>
                      <a:ext cx="1371600" cy="213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239240" y="2840040"/>
                      <a:ext cx="8380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324840" y="3983040"/>
                      <a:ext cx="1440" cy="167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705720" y="3983040"/>
                      <a:ext cx="1440" cy="167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6177240" y="5735520"/>
                      <a:ext cx="33912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r>
                        <a:rPr b="0" lang="en-GB" sz="1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558480" y="5735520"/>
                      <a:ext cx="33912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r>
                        <a:rPr b="0" lang="en-GB" sz="1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784040" y="2617560"/>
                      <a:ext cx="2829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556160" y="3754440"/>
                      <a:ext cx="6148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Me</a:t>
                      </a:r>
                      <a:r>
                        <a:rPr b="0" lang="en-GB" sz="1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556160" y="3983040"/>
                      <a:ext cx="6148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Me</a:t>
                      </a:r>
                      <a:r>
                        <a:rPr b="0" lang="en-GB" sz="1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470920" y="2590920"/>
                      <a:ext cx="22532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Vía Complement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5163480" y="3983040"/>
                      <a:ext cx="6591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2" name=""/>
                <p:cNvSpPr/>
                <p:nvPr/>
              </p:nvSpPr>
              <p:spPr>
                <a:xfrm>
                  <a:off x="6324480" y="617220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 flipV="1">
                <a:off x="4495680" y="3885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 flipV="1">
              <a:off x="6858000" y="47239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valuación Social de Proyectos de Infraestructura de Transporte V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delos Utilizados en la Evaluación de Proyectos de Transporte Interurb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elo HDM III (Highway Design &amp; Mainten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RR (Traffic on Rural Roa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I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delos Utilizados en la Evaluación de Proyectos de Transporte Urb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NSY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valuación Social de Proyectos de Caminos de Bajo Estánda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s caminos de bajo estándar corresponden a una versión primaria de una vía que permite la circulación de peatones, vehículos y animales, y que su principal restricción radica en las limitaciones del di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ño físico de sus distintos elementos que la conforman (carpetas de material granular de un ancho máximo de 2,5 metros, con limitaciones en su trazado en planta yen su elevación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ste tipo de infraestructura es utilizada para otorgar acceso a áreas o valles que no cuentan con dicho elemento y que presentan recursos potenciales para el desarrollo de actividades económicas y/o produ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Se miden los beneficios en el mercado de las actividades productivas que se desarrollan a partir de la realización d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428840" y="2597040"/>
            <a:ext cx="6234480" cy="3202920"/>
            <a:chOff x="1428840" y="2597040"/>
            <a:chExt cx="6234480" cy="3202920"/>
          </a:xfrm>
        </p:grpSpPr>
        <p:sp>
          <p:nvSpPr>
            <p:cNvPr id="250" name=""/>
            <p:cNvSpPr/>
            <p:nvPr/>
          </p:nvSpPr>
          <p:spPr>
            <a:xfrm flipV="1">
              <a:off x="1828800" y="27432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28800" y="54100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8800" y="411480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31000" y="25970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$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240" y="5492880"/>
              <a:ext cx="172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cantidad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8840" y="3892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828800" y="4419720"/>
            <a:ext cx="1143000" cy="152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4114800"/>
            <a:ext cx="220968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eneficios del Camino en Mercado del Produc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Evaluación Social de Proyectos de Caminos de Bajo Estánda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-685440" y="374040"/>
            <a:ext cx="5802840" cy="5425920"/>
            <a:chOff x="-685440" y="374040"/>
            <a:chExt cx="5802840" cy="5425920"/>
          </a:xfrm>
        </p:grpSpPr>
        <p:grpSp>
          <p:nvGrpSpPr>
            <p:cNvPr id="261" name=""/>
            <p:cNvGrpSpPr/>
            <p:nvPr/>
          </p:nvGrpSpPr>
          <p:grpSpPr>
            <a:xfrm>
              <a:off x="-685440" y="374040"/>
              <a:ext cx="5802840" cy="4114440"/>
              <a:chOff x="-685440" y="374040"/>
              <a:chExt cx="5802840" cy="4114440"/>
            </a:xfrm>
          </p:grpSpPr>
          <p:sp>
            <p:nvSpPr>
              <p:cNvPr id="262" name=""/>
              <p:cNvSpPr/>
              <p:nvPr/>
            </p:nvSpPr>
            <p:spPr>
              <a:xfrm flipV="1">
                <a:off x="304920" y="373320"/>
                <a:ext cx="335232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-685080" y="1897560"/>
                <a:ext cx="5333040" cy="259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59680" y="2895480"/>
                <a:ext cx="657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Me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95760" y="220968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Mg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971800" y="41148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96120" y="5492880"/>
              <a:ext cx="42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-2438280" y="227880"/>
            <a:ext cx="9689400" cy="5572080"/>
            <a:chOff x="-2438280" y="227880"/>
            <a:chExt cx="9689400" cy="5572080"/>
          </a:xfrm>
        </p:grpSpPr>
        <p:sp>
          <p:nvSpPr>
            <p:cNvPr id="269" name=""/>
            <p:cNvSpPr/>
            <p:nvPr/>
          </p:nvSpPr>
          <p:spPr>
            <a:xfrm flipV="1">
              <a:off x="-1828080" y="227160"/>
              <a:ext cx="7771680" cy="48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-2437920" y="1294200"/>
              <a:ext cx="8991000" cy="380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2" y="3"/>
                  </a:moveTo>
                  <a:arcTo wR="10800" hR="10800" stAng="-5478884" swAng="54788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2" y="3"/>
                  </a:moveTo>
                  <a:arcTo wR="10800" hR="10800" stAng="-5478884" swAng="547888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5800" y="236844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CMg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93400" y="305424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CMe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1480" y="41148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05800" y="5492880"/>
              <a:ext cx="42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828440" y="4419720"/>
            <a:ext cx="3352680" cy="152280"/>
            <a:chOff x="1828440" y="4419720"/>
            <a:chExt cx="3352680" cy="152280"/>
          </a:xfrm>
        </p:grpSpPr>
        <p:sp>
          <p:nvSpPr>
            <p:cNvPr id="276" name=""/>
            <p:cNvSpPr/>
            <p:nvPr/>
          </p:nvSpPr>
          <p:spPr>
            <a:xfrm flipH="1">
              <a:off x="1828440" y="4419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828440" y="45720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1T21:11:59Z</dcterms:created>
  <dc:creator>Fernando Cartes</dc:creator>
  <dc:description/>
  <dc:language>en-US</dc:language>
  <cp:lastModifiedBy>Fernando Cartes M. </cp:lastModifiedBy>
  <dcterms:modified xsi:type="dcterms:W3CDTF">2003-06-24T03:03:31Z</dcterms:modified>
  <cp:revision>100</cp:revision>
  <dc:subject/>
  <dc:title>Evaluación Social de Proyectos de Transporte</dc:title>
</cp:coreProperties>
</file>