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7B3A7-F83E-465E-AD7D-9C9B55DC4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2B95A-3AD4-4C97-8D51-15F82D2AB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B2D52-6D0D-450D-9576-DD401877F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59821-3B5C-4C11-9ACF-653FF8062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109CF-8EC0-4316-BFA4-0AF2A73B3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1639B-AC37-4823-B5CA-792012838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46B37-E331-43B4-A810-0F266FD67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2F65A-02AE-4C8C-AFC7-A45DE6A58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5806B-872E-451A-8CB4-BA8D0C9DF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57AEF-09AD-4330-84FE-F8735D047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3F3FE-8615-4CB2-ADBC-286D63FFA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4205C-3B4C-4DDF-BD7B-0F981F7DF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03C49-E133-47F5-AD3C-E04B1B8B1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71C40-234C-4D56-B54D-1CD7D3787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DEAD5-0B78-4720-A1D5-AC81B22A9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47491C-B9CC-44F4-9C66-0C88D18E71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A7951C-8BFB-49A7-AAE4-3EEE469672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98885-57DD-4BB6-97E7-61965D333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86360-1ACF-44D8-88C8-FAEC902BD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CCA7D-55CD-4458-93A4-3CB2455DA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7AD1D-9E47-470E-9FA8-D3761DF7B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B48C1-C706-49B2-AE23-02722B1E1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B71DA-FEAA-4DA9-AC46-E9789704E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4952F-0208-4E64-B837-EA7946DC7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7EBD0-6639-4F63-8A69-EE2F83CDED65}"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A45B-7F14-493A-AD33-419EDF969C9B}"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r>
              <a:rPr b="1" lang="es-E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0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1                </a:t>
              </a:r>
              <a:r>
                <a:rPr b="0" lang="es-E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VSP/ </a:t>
            </a:r>
            <a:r>
              <a:rPr b="1" lang="es-E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VSP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consume </a:t>
            </a:r>
            <a:r>
              <a:rPr b="0" lang="es-E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2</a:t>
            </a:r>
            <a:r>
              <a:rPr b="1" lang="es-E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CSI/ </a:t>
            </a:r>
            <a:r>
              <a:rPr b="1" lang="es-E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Costo Privado del Insumo (CPI)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CSI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3558240"/>
            <a:chOff x="512280" y="2286000"/>
            <a:chExt cx="4494600" cy="3558240"/>
          </a:xfrm>
        </p:grpSpPr>
        <p:grpSp>
          <p:nvGrpSpPr>
            <p:cNvPr id="881" name=""/>
            <p:cNvGrpSpPr/>
            <p:nvPr/>
          </p:nvGrpSpPr>
          <p:grpSpPr>
            <a:xfrm>
              <a:off x="512280" y="2286000"/>
              <a:ext cx="4494600" cy="3558240"/>
              <a:chOff x="512280" y="2286000"/>
              <a:chExt cx="4494600" cy="3558240"/>
            </a:xfrm>
          </p:grpSpPr>
          <p:grpSp>
            <p:nvGrpSpPr>
              <p:cNvPr id="882" name=""/>
              <p:cNvGrpSpPr/>
              <p:nvPr/>
            </p:nvGrpSpPr>
            <p:grpSpPr>
              <a:xfrm>
                <a:off x="512280" y="2286000"/>
                <a:ext cx="4494600" cy="3558240"/>
                <a:chOff x="512280" y="2286000"/>
                <a:chExt cx="4494600" cy="3558240"/>
              </a:xfrm>
            </p:grpSpPr>
            <p:sp>
              <p:nvSpPr>
                <p:cNvPr id="883" name=""/>
                <p:cNvSpPr/>
                <p:nvPr/>
              </p:nvSpPr>
              <p:spPr>
                <a:xfrm>
                  <a:off x="1882800" y="4267440"/>
                  <a:ext cx="380880" cy="99036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4" name=""/>
                <p:cNvSpPr/>
                <p:nvPr/>
              </p:nvSpPr>
              <p:spPr>
                <a:xfrm>
                  <a:off x="2263680" y="3429000"/>
                  <a:ext cx="38088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5"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7" name=""/>
                <p:cNvSpPr/>
                <p:nvPr/>
              </p:nvSpPr>
              <p:spPr>
                <a:xfrm>
                  <a:off x="2263680" y="3429000"/>
                  <a:ext cx="0" cy="8384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264456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9" name=""/>
                <p:cNvSpPr/>
                <p:nvPr/>
              </p:nvSpPr>
              <p:spPr>
                <a:xfrm>
                  <a:off x="264456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0"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91" name=""/>
                <p:cNvSpPr/>
                <p:nvPr/>
              </p:nvSpPr>
              <p:spPr>
                <a:xfrm>
                  <a:off x="2263680" y="4496040"/>
                  <a:ext cx="25704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2" name=""/>
                <p:cNvGrpSpPr/>
                <p:nvPr/>
              </p:nvGrpSpPr>
              <p:grpSpPr>
                <a:xfrm>
                  <a:off x="907200" y="2286000"/>
                  <a:ext cx="4099680" cy="2971800"/>
                  <a:chOff x="907200" y="2286000"/>
                  <a:chExt cx="4099680" cy="2971800"/>
                </a:xfrm>
              </p:grpSpPr>
              <p:grpSp>
                <p:nvGrpSpPr>
                  <p:cNvPr id="893" name=""/>
                  <p:cNvGrpSpPr/>
                  <p:nvPr/>
                </p:nvGrpSpPr>
                <p:grpSpPr>
                  <a:xfrm>
                    <a:off x="1425600" y="2286000"/>
                    <a:ext cx="3581280" cy="2971800"/>
                    <a:chOff x="1425600" y="2286000"/>
                    <a:chExt cx="3581280" cy="2971800"/>
                  </a:xfrm>
                </p:grpSpPr>
                <p:sp>
                  <p:nvSpPr>
                    <p:cNvPr id="894"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5"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6" name=""/>
                  <p:cNvSpPr/>
                  <p:nvPr/>
                </p:nvSpPr>
                <p:spPr>
                  <a:xfrm>
                    <a:off x="151740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98316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8" name=""/>
                  <p:cNvSpPr/>
                  <p:nvPr/>
                </p:nvSpPr>
                <p:spPr>
                  <a:xfrm>
                    <a:off x="94032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9" name=""/>
                  <p:cNvSpPr/>
                  <p:nvPr/>
                </p:nvSpPr>
                <p:spPr>
                  <a:xfrm>
                    <a:off x="4016160" y="2971800"/>
                    <a:ext cx="83844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01" name=""/>
                  <p:cNvSpPr/>
                  <p:nvPr/>
                </p:nvSpPr>
                <p:spPr>
                  <a:xfrm flipH="1">
                    <a:off x="1425600" y="426744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4" name=""/>
                  <p:cNvSpPr/>
                  <p:nvPr/>
                </p:nvSpPr>
                <p:spPr>
                  <a:xfrm flipH="1">
                    <a:off x="1425600" y="373392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H="1">
                    <a:off x="1425600" y="457200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7" name=""/>
                  <p:cNvSpPr/>
                  <p:nvPr/>
                </p:nvSpPr>
                <p:spPr>
                  <a:xfrm flipV="1">
                    <a:off x="151740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8" name=""/>
                  <p:cNvSpPr/>
                  <p:nvPr/>
                </p:nvSpPr>
                <p:spPr>
                  <a:xfrm flipV="1">
                    <a:off x="1958760" y="2819520"/>
                    <a:ext cx="304812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09" name=""/>
                <p:cNvSpPr/>
                <p:nvPr/>
              </p:nvSpPr>
              <p:spPr>
                <a:xfrm>
                  <a:off x="892080" y="342900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0"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grpSp>
          <p:sp>
            <p:nvSpPr>
              <p:cNvPr id="911"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12"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13"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4"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1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Donde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 la producción del proyecto que es puesta en el mercado por una menor producción de los actuales productores y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30000">
                <a:solidFill>
                  <a:srgbClr val="0033cc"/>
                </a:solidFill>
                <a:latin typeface="Arial"/>
              </a:rPr>
              <a:t>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7"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8"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2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21"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demanda </a:t>
            </a:r>
            <a:r>
              <a:rPr b="0" lang="es-E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3" name=""/>
          <p:cNvGrpSpPr/>
          <p:nvPr/>
        </p:nvGrpSpPr>
        <p:grpSpPr>
          <a:xfrm>
            <a:off x="512280" y="2286000"/>
            <a:ext cx="4539240" cy="4102920"/>
            <a:chOff x="512280" y="2286000"/>
            <a:chExt cx="4539240" cy="4102920"/>
          </a:xfrm>
        </p:grpSpPr>
        <p:sp>
          <p:nvSpPr>
            <p:cNvPr id="924"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5"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6"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7"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8" name=""/>
            <p:cNvSpPr/>
            <p:nvPr/>
          </p:nvSpPr>
          <p:spPr>
            <a:xfrm flipH="1">
              <a:off x="1441080" y="30481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9"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30" name=""/>
            <p:cNvGrpSpPr/>
            <p:nvPr/>
          </p:nvGrpSpPr>
          <p:grpSpPr>
            <a:xfrm>
              <a:off x="914400" y="2286000"/>
              <a:ext cx="4137120" cy="4102920"/>
              <a:chOff x="914400" y="2286000"/>
              <a:chExt cx="4137120" cy="4102920"/>
            </a:xfrm>
          </p:grpSpPr>
          <p:sp>
            <p:nvSpPr>
              <p:cNvPr id="931"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2"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3"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4"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5"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6"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7"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8"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9" name=""/>
              <p:cNvGrpSpPr/>
              <p:nvPr/>
            </p:nvGrpSpPr>
            <p:grpSpPr>
              <a:xfrm>
                <a:off x="1447920" y="2286000"/>
                <a:ext cx="3581280" cy="2971800"/>
                <a:chOff x="1447920" y="2286000"/>
                <a:chExt cx="3581280" cy="2971800"/>
              </a:xfrm>
            </p:grpSpPr>
            <p:sp>
              <p:nvSpPr>
                <p:cNvPr id="940"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1"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42"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4"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5"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7"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8"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9"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50"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51"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52"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3"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4"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5"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7"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8"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61"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3" name=""/>
          <p:cNvGrpSpPr/>
          <p:nvPr/>
        </p:nvGrpSpPr>
        <p:grpSpPr>
          <a:xfrm>
            <a:off x="392760" y="2437920"/>
            <a:ext cx="4941360" cy="3025080"/>
            <a:chOff x="392760" y="2437920"/>
            <a:chExt cx="4941360" cy="3025080"/>
          </a:xfrm>
        </p:grpSpPr>
        <p:sp>
          <p:nvSpPr>
            <p:cNvPr id="964"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7"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70"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1"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2"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3"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4"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5"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7"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8"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9"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8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82"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3"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4"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7"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8" name=""/>
          <p:cNvGrpSpPr/>
          <p:nvPr/>
        </p:nvGrpSpPr>
        <p:grpSpPr>
          <a:xfrm>
            <a:off x="0" y="2590560"/>
            <a:ext cx="5334120" cy="3745800"/>
            <a:chOff x="0" y="2590560"/>
            <a:chExt cx="5334120" cy="3745800"/>
          </a:xfrm>
        </p:grpSpPr>
        <p:grpSp>
          <p:nvGrpSpPr>
            <p:cNvPr id="989" name=""/>
            <p:cNvGrpSpPr/>
            <p:nvPr/>
          </p:nvGrpSpPr>
          <p:grpSpPr>
            <a:xfrm>
              <a:off x="0" y="2590560"/>
              <a:ext cx="5334120" cy="3745800"/>
              <a:chOff x="0" y="2590560"/>
              <a:chExt cx="5334120" cy="3745800"/>
            </a:xfrm>
          </p:grpSpPr>
          <p:sp>
            <p:nvSpPr>
              <p:cNvPr id="990"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3"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6"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7"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8"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9"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0"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01"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2"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4"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5"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6"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9" name=""/>
              <p:cNvSpPr txBox="1"/>
              <p:nvPr/>
            </p:nvSpPr>
            <p:spPr>
              <a:xfrm rot="10800000">
                <a:off x="5915160" y="2455920"/>
                <a:ext cx="1933560" cy="41904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10"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11" name=""/>
              <p:cNvSpPr txBox="1"/>
              <p:nvPr/>
            </p:nvSpPr>
            <p:spPr>
              <a:xfrm>
                <a:off x="2295360" y="3743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p:sp>
        <p:nvSpPr>
          <p:cNvPr id="10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4"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7"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20"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1"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2"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3"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4"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5"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7"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8"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9"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3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32"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3"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4"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9"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4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4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2"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4"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8"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9"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0"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51"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52"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3"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4"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5"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6"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7"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8"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9"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70"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71"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2"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3"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4"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5"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8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8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9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9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1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11"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12"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3"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5"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8"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2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4"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5"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6"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7"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8"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9"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30"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31"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32"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1"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2"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3"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4"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5"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6"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7"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8"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9"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50"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51"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6"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0"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61"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62"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3"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4"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9"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70"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71"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72"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3"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4"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5"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6"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7"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8"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0"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1"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2"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7"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8"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9"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90"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91"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92"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6"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0"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01"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02"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3"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4"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20" name=""/>
          <p:cNvGrpSpPr/>
          <p:nvPr/>
        </p:nvGrpSpPr>
        <p:grpSpPr>
          <a:xfrm>
            <a:off x="304920" y="1828800"/>
            <a:ext cx="6553080" cy="3733920"/>
            <a:chOff x="304920" y="1828800"/>
            <a:chExt cx="6553080" cy="3733920"/>
          </a:xfrm>
        </p:grpSpPr>
        <p:grpSp>
          <p:nvGrpSpPr>
            <p:cNvPr id="1221" name=""/>
            <p:cNvGrpSpPr/>
            <p:nvPr/>
          </p:nvGrpSpPr>
          <p:grpSpPr>
            <a:xfrm>
              <a:off x="5790600" y="3581280"/>
              <a:ext cx="1067400" cy="1981440"/>
              <a:chOff x="5790600" y="3581280"/>
              <a:chExt cx="1067400" cy="1981440"/>
            </a:xfrm>
          </p:grpSpPr>
          <p:sp>
            <p:nvSpPr>
              <p:cNvPr id="1222"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3"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4"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5"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6"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7"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8"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9"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0"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1"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32"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3"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4"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5"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6"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8"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9"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40"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5"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6"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7"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8"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9"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50"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51" name=""/>
          <p:cNvGrpSpPr/>
          <p:nvPr/>
        </p:nvGrpSpPr>
        <p:grpSpPr>
          <a:xfrm>
            <a:off x="304920" y="2209680"/>
            <a:ext cx="6655320" cy="3353040"/>
            <a:chOff x="304920" y="2209680"/>
            <a:chExt cx="6655320" cy="3353040"/>
          </a:xfrm>
        </p:grpSpPr>
        <p:grpSp>
          <p:nvGrpSpPr>
            <p:cNvPr id="1252" name=""/>
            <p:cNvGrpSpPr/>
            <p:nvPr/>
          </p:nvGrpSpPr>
          <p:grpSpPr>
            <a:xfrm>
              <a:off x="5976720" y="3406680"/>
              <a:ext cx="983520" cy="2156040"/>
              <a:chOff x="5976720" y="3406680"/>
              <a:chExt cx="983520" cy="2156040"/>
            </a:xfrm>
          </p:grpSpPr>
          <p:sp>
            <p:nvSpPr>
              <p:cNvPr id="1253"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4"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5"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6"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7"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61"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6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3"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4"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5"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6"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7"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8"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9"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70"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2"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3"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4"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9"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80"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81"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82"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3"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4"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5" name=""/>
          <p:cNvGrpSpPr/>
          <p:nvPr/>
        </p:nvGrpSpPr>
        <p:grpSpPr>
          <a:xfrm>
            <a:off x="914400" y="1905120"/>
            <a:ext cx="6934320" cy="2209680"/>
            <a:chOff x="914400" y="1905120"/>
            <a:chExt cx="6934320" cy="2209680"/>
          </a:xfrm>
        </p:grpSpPr>
        <p:sp>
          <p:nvSpPr>
            <p:cNvPr id="1286"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7"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91"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9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3"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4"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5"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6"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7"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8"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9"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300"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2"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3"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4"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9"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10"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11"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12"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3"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4"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5" name=""/>
          <p:cNvGrpSpPr/>
          <p:nvPr/>
        </p:nvGrpSpPr>
        <p:grpSpPr>
          <a:xfrm>
            <a:off x="914400" y="2089080"/>
            <a:ext cx="6324480" cy="3245040"/>
            <a:chOff x="914400" y="2089080"/>
            <a:chExt cx="6324480" cy="3245040"/>
          </a:xfrm>
        </p:grpSpPr>
        <p:sp>
          <p:nvSpPr>
            <p:cNvPr id="1316"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7"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0"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2"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4"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5"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9"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1"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4"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7" name=""/>
          <p:cNvGrpSpPr/>
          <p:nvPr/>
        </p:nvGrpSpPr>
        <p:grpSpPr>
          <a:xfrm>
            <a:off x="1523880" y="2793960"/>
            <a:ext cx="6096240" cy="2006640"/>
            <a:chOff x="1523880" y="2793960"/>
            <a:chExt cx="6096240" cy="2006640"/>
          </a:xfrm>
        </p:grpSpPr>
        <p:sp>
          <p:nvSpPr>
            <p:cNvPr id="1338"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9"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40"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41"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42"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3"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4"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5"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6"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1"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2"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3"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3"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9"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1"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s-ES" sz="2400" spc="-1" strike="noStrike">
                <a:solidFill>
                  <a:srgbClr val="990099"/>
                </a:solidFill>
                <a:latin typeface="Arial Narrow"/>
              </a:rPr>
              <a:t>Función de Bienestar Social (W), </a:t>
            </a:r>
            <a:r>
              <a:rPr b="1" lang="es-E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	</a:t>
            </a:r>
            <a:r>
              <a:rPr b="1" lang="es-E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Andrés Kettlun</cp:lastModifiedBy>
  <dcterms:modified xsi:type="dcterms:W3CDTF">2004-06-23T04:47:27Z</dcterms:modified>
  <cp:revision>261</cp:revision>
  <dc:subject/>
  <dc:title>I.FORMULACIÓN DE PROYECTOS</dc:title>
</cp:coreProperties>
</file>