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8772B-1A8D-4137-90FC-B4EF10118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3B972-2A11-4F32-BD61-A31080568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85671-9371-4F24-87BD-633C269FD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21A40-0C57-4195-ABF6-4D20A95D9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F1F2C-9DA6-40FE-A977-7AA4BEAF6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01869-8D85-48F7-A16A-D671CD2EC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A466F-E9B9-434C-8088-A9E45AD3D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37E71-8C17-4C7A-89D9-3CAD3EE42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1531F-5249-4A48-937D-B68A107B7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2A533-E8FF-4F21-9F9C-7146CEA16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0C776-D366-40BC-9F4E-683562176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5B361-0872-40CB-8341-B920303F9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0983-E3CB-4D17-94C5-34C7281E16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Andrés Kettlun</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736FCD-1570-40D9-AF9F-61E2F3049CD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331ABCA-F8F7-4E93-9D23-B5812CEC05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49A1CE50-5410-40E2-9609-7D6E8D0D6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CE9E180-56E0-4E89-A1F1-C9FC123774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2010ABD-E9A7-465B-B46F-F94B26FD25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917BC0F-885A-4535-B1C9-E2D160CCFD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79161D-5891-4D4A-ADF3-0D43432E90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B6425D0-7193-4609-987C-EDA1DD618E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1CEBFC6-3DFC-469A-B9D4-B392259760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98077C93-B428-4C57-B44F-30DDFD4D56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017A9DF-9899-4ED0-9C25-A46C6929CF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00E3AE-E295-4957-B3BE-64AAA54CCA50}"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A3A0802-3715-4B7A-8D2B-1D54254F5B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986EA73-9561-42C1-80DE-BC3138AF58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219451-C302-43A6-BC7D-6ED75B25BD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D89C5BC-8036-4F54-836D-593A805449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DCBE25-90B6-42C1-BA2B-4D331790A8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F2D0ACEE-0993-4425-B40F-E9F05E56B9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F45A2368-8F2C-4E04-A9A7-AF5155907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B44FCA-FB40-44C2-9723-1182686BD4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68EDF2A-62A2-4AF2-9945-22C551510D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457200"/>
            <a:ext cx="7772400" cy="59436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e convendrá cortar los árboles para vender la madera o tal vez le conviene más vender el bosque a otra persona para que ésta lo corte más adelante?</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e cobrará un precio igual al que podría obtener la persona si corta el bosque (VB6=167,69) sería un buen negocio para el comprador, ya que después podría venderlo al final del año 8 en 191,98 (su mejor opción); obteniendo con ello una rentabilidad de 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2209680" y="520704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
        <p:nvSpPr>
          <p:cNvPr id="2" name="PlaceHolder 1"/>
          <p:cNvSpPr>
            <a:spLocks noGrp="1"/>
          </p:cNvSpPr>
          <p:nvPr>
            <p:ph type="sldNum" idx="3"/>
          </p:nvPr>
        </p:nvSpPr>
        <p:spPr/>
        <p:txBody>
          <a:bodyPr/>
          <a:p>
            <a:fld id="{C9FD17A3-1A37-4B73-81BD-91960E2C7A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FFC1E4-C0A0-4CF6-8453-BB7990BAF1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60199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osto de oportunidad del dinero del comprador es 5%, entonces el precio de venta máximo que puede obtener el dueño del proyecto es igual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este precio de venta el VPN del comprador es igual a cero, y por lo tanto estaría indiferente entre comprar el bosque a ese precio o dejar sus recursos rindiendo un 5% en su mejor alternativa (su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uego, al inversionista maderero le conviene más vender el bosque al final del año 6 en vez de cortar el bosque y vender la madera, ya que 174,13&gt;167,69, por lo que obtiene una ganancia adicional de 6,44 y una TIR de 9,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180" name=""/>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
        <p:nvSpPr>
          <p:cNvPr id="2" name="PlaceHolder 1"/>
          <p:cNvSpPr>
            <a:spLocks noGrp="1"/>
          </p:cNvSpPr>
          <p:nvPr>
            <p:ph type="sldNum" idx="3"/>
          </p:nvPr>
        </p:nvSpPr>
        <p:spPr/>
        <p:txBody>
          <a:bodyPr/>
          <a:p>
            <a:fld id="{D8851BA9-0DF2-4EAB-ADF0-9456AB9717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83"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84"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808193-7009-4FD1-882C-142764E5E0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7"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3F68C418-66DD-47B4-8A7C-E470B6DEAF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90"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91"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73692C11-66DE-4E69-8258-8ABBA7366B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3BA6312B-F8BF-4B40-85F5-04103E1782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7"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0793BE-23E4-4621-89DE-AB13722293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98753CF-FB78-4515-B5D8-3F48E6E55E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202"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203"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6FE1365-FB02-4025-B8E0-37018243A1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4BE18822-B19D-4C15-B361-523FFF8286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6BF1BC1-0473-4A3C-A4A3-4FFBB344B7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096289-0987-4DA0-B54D-E58AAC1994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4D0CF2-31D9-4038-855B-DFD0F4C417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12"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356A700-C7B2-4AC8-97C0-239DC785F0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5"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86FB3444-5585-43F9-8A19-A6F1097DB5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3C4D5B-C868-489C-9FE0-66B44CB205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9"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9525395-C508-4B6A-BFEB-D1F60B36D9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C4CA9C9-1B27-4D2D-A705-29C3E4317D96}" type="slidenum">
              <a:t>45</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20">
                                            <p:txEl>
                                              <p:pRg st="1" end="1"/>
                                            </p:txEl>
                                          </p:spTgt>
                                        </p:tgtEl>
                                        <p:attrNameLst>
                                          <p:attrName>style.visibility</p:attrName>
                                        </p:attrNameLst>
                                      </p:cBhvr>
                                      <p:to>
                                        <p:strVal val="visible"/>
                                      </p:to>
                                    </p:set>
                                    <p:anim calcmode="lin" valueType="num">
                                      <p:cBhvr additive="base">
                                        <p:cTn id="58"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20">
                                            <p:txEl>
                                              <p:pRg st="4" end="4"/>
                                            </p:txEl>
                                          </p:spTgt>
                                        </p:tgtEl>
                                        <p:attrNameLst>
                                          <p:attrName>style.visibility</p:attrName>
                                        </p:attrNameLst>
                                      </p:cBhvr>
                                      <p:to>
                                        <p:strVal val="visible"/>
                                      </p:to>
                                    </p:set>
                                    <p:anim calcmode="lin" valueType="num">
                                      <p:cBhvr additive="base">
                                        <p:cTn id="64"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20">
                                            <p:txEl>
                                              <p:pRg st="6" end="6"/>
                                            </p:txEl>
                                          </p:spTgt>
                                        </p:tgtEl>
                                        <p:attrNameLst>
                                          <p:attrName>style.visibility</p:attrName>
                                        </p:attrNameLst>
                                      </p:cBhvr>
                                      <p:to>
                                        <p:strVal val="visible"/>
                                      </p:to>
                                    </p:set>
                                    <p:anim calcmode="lin" valueType="num">
                                      <p:cBhvr additive="base">
                                        <p:cTn id="70" dur="5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20">
                                            <p:txEl>
                                              <p:pRg st="8" end="8"/>
                                            </p:txEl>
                                          </p:spTgt>
                                        </p:tgtEl>
                                        <p:attrNameLst>
                                          <p:attrName>style.visibility</p:attrName>
                                        </p:attrNameLst>
                                      </p:cBhvr>
                                      <p:to>
                                        <p:strVal val="visible"/>
                                      </p:to>
                                    </p:set>
                                    <p:anim calcmode="lin" valueType="num">
                                      <p:cBhvr additive="base">
                                        <p:cTn id="76" dur="5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12DE500-B674-4FFC-87C5-7B994D776BBE}" type="slidenum">
              <a:t>46</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21">
                                            <p:txEl>
                                              <p:pRg st="0" end="0"/>
                                            </p:txEl>
                                          </p:spTgt>
                                        </p:tgtEl>
                                        <p:attrNameLst>
                                          <p:attrName>style.visibility</p:attrName>
                                        </p:attrNameLst>
                                      </p:cBhvr>
                                      <p:to>
                                        <p:strVal val="visible"/>
                                      </p:to>
                                    </p:set>
                                    <p:anim calcmode="lin" valueType="num">
                                      <p:cBhvr additive="base">
                                        <p:cTn id="84"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21">
                                            <p:txEl>
                                              <p:pRg st="2" end="2"/>
                                            </p:txEl>
                                          </p:spTgt>
                                        </p:tgtEl>
                                        <p:attrNameLst>
                                          <p:attrName>style.visibility</p:attrName>
                                        </p:attrNameLst>
                                      </p:cBhvr>
                                      <p:to>
                                        <p:strVal val="visible"/>
                                      </p:to>
                                    </p:set>
                                    <p:anim calcmode="lin" valueType="num">
                                      <p:cBhvr additive="base">
                                        <p:cTn id="90"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21">
                                            <p:txEl>
                                              <p:pRg st="4" end="4"/>
                                            </p:txEl>
                                          </p:spTgt>
                                        </p:tgtEl>
                                        <p:attrNameLst>
                                          <p:attrName>style.visibility</p:attrName>
                                        </p:attrNameLst>
                                      </p:cBhvr>
                                      <p:to>
                                        <p:strVal val="visible"/>
                                      </p:to>
                                    </p:set>
                                    <p:anim calcmode="lin" valueType="num">
                                      <p:cBhvr additive="base">
                                        <p:cTn id="9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21">
                                            <p:txEl>
                                              <p:pRg st="6" end="6"/>
                                            </p:txEl>
                                          </p:spTgt>
                                        </p:tgtEl>
                                        <p:attrNameLst>
                                          <p:attrName>style.visibility</p:attrName>
                                        </p:attrNameLst>
                                      </p:cBhvr>
                                      <p:to>
                                        <p:strVal val="visible"/>
                                      </p:to>
                                    </p:set>
                                    <p:anim calcmode="lin" valueType="num">
                                      <p:cBhvr additive="base">
                                        <p:cTn id="102"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21">
                                            <p:txEl>
                                              <p:pRg st="8" end="8"/>
                                            </p:txEl>
                                          </p:spTgt>
                                        </p:tgtEl>
                                        <p:attrNameLst>
                                          <p:attrName>style.visibility</p:attrName>
                                        </p:attrNameLst>
                                      </p:cBhvr>
                                      <p:to>
                                        <p:strVal val="visible"/>
                                      </p:to>
                                    </p:set>
                                    <p:anim calcmode="lin" valueType="num">
                                      <p:cBhvr additive="base">
                                        <p:cTn id="108"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2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1A0A0DD-0E19-4884-B589-5E49B3FD0D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9CEAB0E-B327-4D91-914E-8ACB9A92E0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1C074F0-DB82-44EF-84A8-D9CC64D334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D34DB8F-FE5C-44C1-B18A-846660F72A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B3B3AAE-CEE0-42C9-9E0F-AF90CE27E7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7" name=""/>
          <p:cNvGraphicFramePr/>
          <p:nvPr/>
        </p:nvGraphicFramePr>
        <p:xfrm>
          <a:off x="762120" y="3429000"/>
          <a:ext cx="7619760" cy="4038480"/>
        </p:xfrm>
        <a:graphic>
          <a:graphicData uri="http://schemas.openxmlformats.org/presentationml/2006/ole">
            <p:oleObj progId="Word.Document.12" r:id="rId1" spid="">
              <p:embed/>
              <p:pic>
                <p:nvPicPr>
                  <p:cNvPr id="228"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9"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0"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CFF5048-447A-4EFE-BE7B-0A649BBF26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3"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92538B-1700-443E-9048-2154B55F72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6"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9C08D7E-329B-45CB-BE91-BF3B86BD22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8"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A8465A-C86B-4B38-BBAB-AA49585F3F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40"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382A777-DAA4-42AC-B8F0-6AA59D87F9AB}"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2F07C84-9051-4DC1-9576-047351862B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7AB8DED-1D61-42D9-AB8E-F4587B6053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34F758F7-49AE-44A5-B92D-4C03FA3CFA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BFEB7C26-8A10-45EF-813B-6CE2352FF4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4-10-07T16:55:00Z</dcterms:modified>
  <cp:revision>94</cp:revision>
  <dc:subject/>
  <dc:title>Sin título de diapositiva</dc:title>
</cp:coreProperties>
</file>