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EC88-AC3C-4CB1-91C3-9D0597144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809640" y="3948480"/>
            <a:ext cx="79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9463-0C6E-4197-87D6-4925EB1E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09640" y="394848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887360" y="394848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E158-086E-4EA5-AE43-2920FC501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00280" y="160020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90920" y="160020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809640" y="394848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500280" y="394848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90920" y="394848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BA77-E3E9-4A21-B770-58326F042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D801F-77F7-45A6-B9CE-7C288C762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BEF4-7B81-4753-8874-91DE601C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1295-CEAC-46E3-B41A-279D0426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E5518-C392-4645-9154-BD9C6632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F794-00FF-4837-9481-D8ECF5B9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1371600" y="1519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A4D1-7AFA-4531-9342-EC86397C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09640" y="394848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BE8B7-8B00-4559-8E96-F7B18D91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9669-906E-43DB-9048-C287149D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887360" y="394848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C299-07B5-4AF3-9EBC-A661CFA6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809640" y="3948480"/>
            <a:ext cx="79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3E99-0975-4446-A015-DFAE3815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809640" y="3948480"/>
            <a:ext cx="79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89F1C-0967-4710-9086-1A9DE2BA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09640" y="394848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887360" y="394848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42F1-9A86-493D-B0BB-3AB8D7CA1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500280" y="160020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90920" y="160020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809640" y="394848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500280" y="394848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190920" y="394848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7AB4-F43F-45FD-BC96-C1C11C3ED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A322-096D-445C-ABA9-DE3FBC6F2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CDD7-AFFD-45B6-90A5-538A09D4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861A-DC31-4401-A6B1-B1219570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1519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5277-8793-47C3-89D5-09CF662A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09640" y="394848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E69A-2DBF-4182-BF8A-EE0F6FF3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887360" y="394848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99C5-8253-4660-9609-D715D2D2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9640" y="3948480"/>
            <a:ext cx="79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EB1E-1A70-42C8-8E7F-7EF15FEF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647640" cy="6713280"/>
            <a:chOff x="0" y="68400"/>
            <a:chExt cx="647640" cy="6713280"/>
          </a:xfrm>
        </p:grpSpPr>
        <p:sp>
          <p:nvSpPr>
            <p:cNvPr id="1" name=""/>
            <p:cNvSpPr/>
            <p:nvPr/>
          </p:nvSpPr>
          <p:spPr>
            <a:xfrm>
              <a:off x="0" y="667224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72948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678168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652932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645336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60096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581976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577692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638172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18156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605304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34824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585324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593892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625320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0" y="621972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557208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562932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0" y="568152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0" y="542916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535320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0" y="550080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0" y="471960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0" y="467676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0" y="528156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508176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495288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0" y="524844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0" y="475308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0" y="483876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0" y="515304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0" y="511956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449424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436572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425124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0" y="456552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0" y="453240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0" y="405432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0" y="411156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0" y="416412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391176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0" y="383544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8304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376380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356400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373068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63528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360216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38148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43836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49092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3856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316224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30984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52900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8616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09096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89080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276228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305748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256212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264780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296244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292896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228132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233856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239076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13840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220968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161280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156996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197496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184644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164628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173196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204624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201312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136512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142236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147492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122220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129384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113976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102564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82872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88596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93816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85800"/>
              <a:ext cx="64764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0948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75708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53820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50472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09680"/>
              <a:ext cx="647640" cy="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11240"/>
              <a:ext cx="647640" cy="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6840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4436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230040"/>
              <a:ext cx="64764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320760"/>
              <a:ext cx="64764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884160" y="73080"/>
            <a:ext cx="496800" cy="14508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5040" y="152280"/>
            <a:ext cx="5662440" cy="77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00800" y="1066680"/>
            <a:ext cx="1474920" cy="3384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52960" y="1219320"/>
            <a:ext cx="5662440" cy="77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428840" indent="-228600">
              <a:spcBef>
                <a:spcPts val="700"/>
              </a:spcBef>
              <a:buClr>
                <a:srgbClr val="ffff99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1771560" indent="-22860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ddddd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dddddd"/>
                </a:solidFill>
                <a:latin typeface="Arial Narrow"/>
              </a:rPr>
              <a:t>IN42A  Primavera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DE44-9B27-437F-9F39-FD94C8E003D0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5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7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5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4BAA-5FFD-4004-881F-F30907A43B11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49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algn="ctr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200240" algn="ctr">
              <a:spcBef>
                <a:spcPts val="451"/>
              </a:spcBef>
              <a:buClr>
                <a:srgbClr val="ffff99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4" marL="1542960" algn="ctr">
              <a:spcBef>
                <a:spcPts val="400"/>
              </a:spcBef>
              <a:buClr>
                <a:srgbClr val="ffff99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5" marL="154296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6" marL="154296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52200" y="1045800"/>
            <a:ext cx="772308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99"/>
                </a:solidFill>
                <a:latin typeface="Arial Narrow"/>
              </a:rPr>
              <a:t>IV. INDICADORES DE EVALUACIÓN DE PROYECTOS</a:t>
            </a:r>
            <a:endParaRPr b="1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Arial Narrow"/>
              </a:rPr>
              <a:t>Beneficio Anual Uniforme Equivalente (BAUE)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-1472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Una posibilidad para comparar proyectos repetibles de diferente vida útil, es recurrir al Factor de Recuperación del Capital y distribuir el VAN de cada proyecto con la tasa de costo de oportunidad del dinero en N cuotas iguales, siendo N el número de períodos de vida útil de cada proyecto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47240" indent="-1472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La cuota así determinada se denomina BAUE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47240" indent="-1472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99"/>
                </a:solidFill>
                <a:latin typeface="Arial Narrow"/>
              </a:rPr>
              <a:t>El criterio es elegir el proyecto con mayor BAUE (siempre que los proyectos tengan el mismo riesgo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2" name=""/>
          <p:cNvSpPr/>
          <p:nvPr/>
        </p:nvSpPr>
        <p:spPr>
          <a:xfrm>
            <a:off x="1757520" y="5416560"/>
            <a:ext cx="281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AUE = VAN(N, 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502160" y="502920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Times New Roman"/>
              </a:rPr>
              <a:t>[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23800" y="518148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 (1+r)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906800" y="563868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1+r)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862520" y="5638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102360" y="502920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398280" y="5403960"/>
            <a:ext cx="23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= r* VAN(N,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914400" y="5105520"/>
            <a:ext cx="7924680" cy="1218960"/>
          </a:xfrm>
          <a:prstGeom prst="rect">
            <a:avLst/>
          </a:prstGeom>
          <a:noFill/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Arial Narrow"/>
              </a:rPr>
              <a:t>Costo Anual Uniforme Equivalente (CAUE)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-1677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En algunas ocasiones se presentan proyectos repetibles que producen los mismos ingresos y difieren entre sí sólo en los costos de inversión y operación. En este caso conviene distribuir el valor presente de los costos en N cuotas iguale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67760" indent="-1677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La cuota así determinada se denomina CAUE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67760" indent="-1677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99"/>
                </a:solidFill>
                <a:latin typeface="Arial Narrow"/>
              </a:rPr>
              <a:t>El criterio es elegir el proyecto con el menor CAUE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6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1924920" y="4648320"/>
            <a:ext cx="5350320" cy="1069200"/>
            <a:chOff x="1924920" y="4648320"/>
            <a:chExt cx="5350320" cy="1069200"/>
          </a:xfrm>
        </p:grpSpPr>
        <p:sp>
          <p:nvSpPr>
            <p:cNvPr id="363" name=""/>
            <p:cNvSpPr/>
            <p:nvPr/>
          </p:nvSpPr>
          <p:spPr>
            <a:xfrm>
              <a:off x="1924920" y="5035320"/>
              <a:ext cx="354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CAUE = VAN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COSTOS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N, 1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239800" y="4648320"/>
              <a:ext cx="435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761800" y="4800600"/>
              <a:ext cx="118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r (1+r)</a:t>
              </a:r>
              <a:r>
                <a:rPr b="1" lang="es-ES_tradnl" sz="24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644440" y="5257800"/>
              <a:ext cx="127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1+r)</a:t>
              </a:r>
              <a:r>
                <a:rPr b="1" lang="es-ES_tradnl" sz="2400" spc="-1" strike="noStrike" baseline="30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600520" y="5257800"/>
              <a:ext cx="129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840000" y="4648320"/>
              <a:ext cx="435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99"/>
                </a:solidFill>
                <a:latin typeface="Arial Narrow"/>
              </a:rPr>
              <a:t>Indicadores de Evaluación de Inversiones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Valor Presente Neto(VPN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Tasa interna de Retorno(TIR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Período de Recuperación de Capital(PRC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Rentabilidad Contable Media(RCM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Índice de rentabilidad(IR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Valor Económico Agregado (EVA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Beneficio Anual Uniforme Equivalente(BAUE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Costo Anual Uniforme Equivalente(CAUE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99"/>
                </a:solidFill>
                <a:latin typeface="Arial Narrow"/>
              </a:rPr>
              <a:t>1. Valor Presente Neto (VPN)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365920" y="1905120"/>
            <a:ext cx="3612960" cy="1180440"/>
            <a:chOff x="2365920" y="1905120"/>
            <a:chExt cx="3612960" cy="1180440"/>
          </a:xfrm>
        </p:grpSpPr>
        <p:sp>
          <p:nvSpPr>
            <p:cNvPr id="293" name=""/>
            <p:cNvSpPr/>
            <p:nvPr/>
          </p:nvSpPr>
          <p:spPr>
            <a:xfrm>
              <a:off x="2365920" y="2279880"/>
              <a:ext cx="102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 Narrow"/>
                </a:rPr>
                <a:t>VPN 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880800" y="2249640"/>
              <a:ext cx="2098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 Narrow"/>
                </a:rPr>
                <a:t>FC</a:t>
              </a:r>
              <a:r>
                <a:rPr b="1" lang="es-ES_tradnl" sz="2800" spc="-1" strike="noStrike" baseline="-25000">
                  <a:solidFill>
                    <a:srgbClr val="000000"/>
                  </a:solidFill>
                  <a:latin typeface="Arial Narrow"/>
                </a:rPr>
                <a:t>t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 Narrow"/>
                </a:rPr>
                <a:t> / (1+ r)</a:t>
              </a:r>
              <a:r>
                <a:rPr b="1" lang="es-ES_tradnl" sz="2800" spc="-1" strike="noStrike" baseline="30000">
                  <a:solidFill>
                    <a:srgbClr val="000000"/>
                  </a:solidFill>
                  <a:latin typeface="Arial Narrow"/>
                </a:rPr>
                <a:t>t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795840" y="262584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t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856680" y="1905120"/>
              <a:ext cx="3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1523880" y="1905120"/>
            <a:ext cx="5257800" cy="1143000"/>
          </a:xfrm>
          <a:prstGeom prst="rect">
            <a:avLst/>
          </a:prstGeom>
          <a:noFill/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00800" y="1676520"/>
            <a:ext cx="2743200" cy="1371600"/>
          </a:xfrm>
          <a:prstGeom prst="wedgeEllipseCallout">
            <a:avLst>
              <a:gd name="adj1" fmla="val -63194"/>
              <a:gd name="adj2" fmla="val 29976"/>
            </a:avLst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 Narrow"/>
              </a:rPr>
              <a:t>El VPN depende del FC y la tasa de ds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38080" y="3657600"/>
            <a:ext cx="7467840" cy="2514600"/>
          </a:xfrm>
          <a:prstGeom prst="roundRect">
            <a:avLst>
              <a:gd name="adj" fmla="val 16667"/>
            </a:avLst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99"/>
                </a:solidFill>
                <a:uFillTx/>
                <a:latin typeface="Arial Narrow"/>
              </a:rPr>
              <a:t>Criterio de decis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99"/>
                </a:solidFill>
                <a:latin typeface="Arial Narrow"/>
              </a:rPr>
              <a:t>VPN &gt; 0: Conviene hacer el proy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99"/>
                </a:solidFill>
                <a:latin typeface="Arial Narrow"/>
              </a:rPr>
              <a:t>VPN = 0: Indifer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99"/>
                </a:solidFill>
                <a:latin typeface="Arial Narrow"/>
              </a:rPr>
              <a:t>VPN &lt; 0: No conviene hacer el proy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809640" y="1600200"/>
            <a:ext cx="795816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La TIR trata de medir la rentabilidad de un proyecto o activo. Representa la rentabilidad media intrínseca del proyecto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Se define la tasa interna de retorno como aquella que hace que el valor presente neto sea igual a cero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Arial Narrow"/>
              </a:rPr>
              <a:t>2. Tasa Interna de Retorno (TIR)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02" name=""/>
          <p:cNvSpPr/>
          <p:nvPr/>
        </p:nvSpPr>
        <p:spPr>
          <a:xfrm>
            <a:off x="990720" y="4724280"/>
            <a:ext cx="7772400" cy="1219320"/>
          </a:xfrm>
          <a:prstGeom prst="rect">
            <a:avLst/>
          </a:prstGeom>
          <a:solidFill>
            <a:srgbClr val="ffffcc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99"/>
                </a:solidFill>
                <a:latin typeface="Arial Narrow"/>
              </a:rPr>
              <a:t>La regla de decisión consiste en aceptar proyectos cuya TIR sea mayor que el costo de capital para activos del mismo nivel de riesgo: TIR &gt;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1680120" y="3048120"/>
            <a:ext cx="4741920" cy="1180440"/>
            <a:chOff x="1680120" y="3048120"/>
            <a:chExt cx="4741920" cy="1180440"/>
          </a:xfrm>
        </p:grpSpPr>
        <p:sp>
          <p:nvSpPr>
            <p:cNvPr id="304" name=""/>
            <p:cNvSpPr/>
            <p:nvPr/>
          </p:nvSpPr>
          <p:spPr>
            <a:xfrm>
              <a:off x="1680120" y="3422880"/>
              <a:ext cx="123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VAN 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197520" y="3387960"/>
              <a:ext cx="3224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FC</a:t>
              </a:r>
              <a:r>
                <a:rPr b="0" lang="es-ES_tradnl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 / (1+ TIR)</a:t>
              </a:r>
              <a:r>
                <a:rPr b="0" lang="es-ES_tradnl" sz="28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 = 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108600" y="3768840"/>
              <a:ext cx="59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t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170520" y="3048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1295280" y="2971800"/>
            <a:ext cx="5791320" cy="1371600"/>
          </a:xfrm>
          <a:prstGeom prst="rect">
            <a:avLst/>
          </a:prstGeom>
          <a:noFill/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809640" y="1600200"/>
            <a:ext cx="795816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6000"/>
          </a:bodyPr>
          <a:p>
            <a:pPr marL="889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Problemas de la TIR: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88920" indent="-88920" algn="just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Múltiples TIR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88920" indent="-88920" algn="just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Prestar o endeudars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88920" indent="-88920" algn="just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Proyectos mutuamente excluyente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88920" indent="-88920" algn="just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Proyectos de distinta vida úti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88920" indent="-88920" algn="just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Cambio del costo del capital en el tiempo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Arial Narrow"/>
              </a:rPr>
              <a:t>2. Tasa Interna de Retorno (TIR)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Arial Narrow"/>
              </a:rPr>
              <a:t>3. Período de recuperación del capital (Payback)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Tiene la ventaja de ser un método muy simple, y tener una consideración básica del riesgo: a menor payback, menor riesgo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3" name=""/>
          <p:cNvSpPr/>
          <p:nvPr/>
        </p:nvSpPr>
        <p:spPr>
          <a:xfrm>
            <a:off x="2529000" y="2479680"/>
            <a:ext cx="14169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4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  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267800" y="2400480"/>
            <a:ext cx="14367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FC</a:t>
            </a:r>
            <a:r>
              <a:rPr b="0" lang="es-ES_tradnl" sz="4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183560" y="2901960"/>
            <a:ext cx="72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248000" y="2057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97720" y="3581280"/>
            <a:ext cx="657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onde N: período de recuperación del ca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14400" y="2133720"/>
            <a:ext cx="7467480" cy="2286000"/>
          </a:xfrm>
          <a:prstGeom prst="rect">
            <a:avLst/>
          </a:prstGeom>
          <a:noFill/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Arial Narrow"/>
              </a:rPr>
              <a:t>Indicadores para Proyectos Repetibles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-13356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En ocasiones los inversionistas se ven enfrentados a proyectos que se pueden repetir periódica e indefinidamente. Es decir, al cabo de la vida útil del mismo es posible repetir la inversión y obtener los mismos flujos.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33560" indent="-13356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El problema que surge es cómo proceder en la comparación de dos o más proyectos con diferentes vidas útiles, en donde al menos uno de ellos es repetible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33560" indent="-13356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Vamos a analizar tres indicadores, que son derivaciones del VPN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Arial Narrow"/>
              </a:rPr>
              <a:t>VAN compuesto (o al infinito)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-1094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Supongamos que nos enfrentamos a un proyecto repetible que requiere una inversión F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 Narrow"/>
              </a:rPr>
              <a:t>0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 y que genera N flujos F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 Narrow"/>
              </a:rPr>
              <a:t>t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09440" indent="-1094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El VAN de efectuar por una vez este proyecto que dura N períodos es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09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09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09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09440" indent="-1094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99"/>
                </a:solidFill>
                <a:latin typeface="Arial Narrow"/>
              </a:rPr>
              <a:t>Si queremos comparar este proyecto repetible con otro no repetible, o con uno repetible pero con distinta vida útil, debemos calcular el VAN de los flujos de los sucesivos proyectos, hasta el infinito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833480" y="3048120"/>
            <a:ext cx="4478400" cy="1180440"/>
            <a:chOff x="1833480" y="3048120"/>
            <a:chExt cx="4478400" cy="1180440"/>
          </a:xfrm>
        </p:grpSpPr>
        <p:sp>
          <p:nvSpPr>
            <p:cNvPr id="324" name=""/>
            <p:cNvSpPr/>
            <p:nvPr/>
          </p:nvSpPr>
          <p:spPr>
            <a:xfrm>
              <a:off x="1833480" y="3422520"/>
              <a:ext cx="208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VAN(N, 1) 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006440" y="3387600"/>
              <a:ext cx="2305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FC</a:t>
              </a:r>
              <a:r>
                <a:rPr b="0" lang="es-ES_tradnl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 / (1+ r)</a:t>
              </a:r>
              <a:r>
                <a:rPr b="0" lang="es-ES_tradnl" sz="28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918600" y="3768840"/>
              <a:ext cx="59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t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980160" y="3048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Arial Narrow"/>
              </a:rPr>
              <a:t>VAN compuesto (o al infinito)</a:t>
            </a:r>
            <a:endParaRPr b="1" lang="en-US" sz="4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8000"/>
          </a:bodyPr>
          <a:p>
            <a:pPr marL="95760" indent="-9576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Luego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9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9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9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95760" indent="-9576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Tomando el límite cuando n tiende a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 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9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9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95760" indent="-9576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Al reemplazar U y desarrollar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"/>
          <p:cNvSpPr/>
          <p:nvPr/>
        </p:nvSpPr>
        <p:spPr>
          <a:xfrm>
            <a:off x="4267080" y="28195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008360" y="2362320"/>
            <a:ext cx="4437720" cy="916920"/>
            <a:chOff x="1008360" y="2362320"/>
            <a:chExt cx="4437720" cy="916920"/>
          </a:xfrm>
        </p:grpSpPr>
        <p:sp>
          <p:nvSpPr>
            <p:cNvPr id="332" name=""/>
            <p:cNvSpPr/>
            <p:nvPr/>
          </p:nvSpPr>
          <p:spPr>
            <a:xfrm>
              <a:off x="1008360" y="2368800"/>
              <a:ext cx="156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VAN(N, n)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065760" y="2362320"/>
              <a:ext cx="229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VAN(N, 1) [1- U</a:t>
              </a:r>
              <a:r>
                <a:rPr b="1" lang="es-ES_tradnl" sz="2400" spc="-1" strike="noStrike" baseline="30000">
                  <a:solidFill>
                    <a:srgbClr val="000000"/>
                  </a:solidFill>
                  <a:latin typeface="Arial Narrow"/>
                </a:rPr>
                <a:t>n+1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625280" y="2819520"/>
              <a:ext cx="82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[1- U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1234080" y="4545000"/>
            <a:ext cx="60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063080" y="3657600"/>
            <a:ext cx="5548680" cy="916920"/>
            <a:chOff x="1063080" y="3657600"/>
            <a:chExt cx="5548680" cy="916920"/>
          </a:xfrm>
        </p:grpSpPr>
        <p:sp>
          <p:nvSpPr>
            <p:cNvPr id="337" name=""/>
            <p:cNvSpPr/>
            <p:nvPr/>
          </p:nvSpPr>
          <p:spPr>
            <a:xfrm>
              <a:off x="1063080" y="3814560"/>
              <a:ext cx="345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lim VAN(N, n) = VAN(N,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)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192280" y="3657600"/>
              <a:ext cx="133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VAN(N, 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22040" y="4114800"/>
              <a:ext cx="82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[1- U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316480" y="41194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1368720" y="4724280"/>
            <a:ext cx="5136120" cy="1075680"/>
            <a:chOff x="1368720" y="4724280"/>
            <a:chExt cx="5136120" cy="1075680"/>
          </a:xfrm>
        </p:grpSpPr>
        <p:sp>
          <p:nvSpPr>
            <p:cNvPr id="342" name=""/>
            <p:cNvSpPr/>
            <p:nvPr/>
          </p:nvSpPr>
          <p:spPr>
            <a:xfrm>
              <a:off x="1368720" y="5116320"/>
              <a:ext cx="286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VAN(N,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) = VAN(N, 1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16560" y="4724280"/>
              <a:ext cx="388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0" spc="-1" strike="noStrike">
                  <a:solidFill>
                    <a:srgbClr val="000000"/>
                  </a:solidFill>
                  <a:latin typeface="Arial Narrow"/>
                </a:rPr>
                <a:t>[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037480" y="4883040"/>
              <a:ext cx="83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(1+r)</a:t>
              </a:r>
              <a:r>
                <a:rPr b="1" lang="es-ES_tradnl" sz="2400" spc="-1" strike="noStrike" baseline="30000">
                  <a:solidFill>
                    <a:srgbClr val="000000"/>
                  </a:solidFill>
                  <a:latin typeface="Arial Narrow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919760" y="5340240"/>
              <a:ext cx="109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(1+r)</a:t>
              </a:r>
              <a:r>
                <a:rPr b="1" lang="es-ES_tradnl" sz="2400" spc="-1" strike="noStrike" baseline="30000">
                  <a:solidFill>
                    <a:srgbClr val="000000"/>
                  </a:solidFill>
                  <a:latin typeface="Arial Narrow"/>
                </a:rPr>
                <a:t>N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76920" y="5344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16760" y="4724280"/>
              <a:ext cx="388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0" spc="-1" strike="noStrike">
                  <a:solidFill>
                    <a:srgbClr val="000000"/>
                  </a:solidFill>
                  <a:latin typeface="Arial Narrow"/>
                </a:rPr>
                <a:t>]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1143000" y="4800600"/>
            <a:ext cx="6095880" cy="1371600"/>
          </a:xfrm>
          <a:prstGeom prst="rect">
            <a:avLst/>
          </a:prstGeom>
          <a:noFill/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162920" y="3733920"/>
            <a:ext cx="1981080" cy="838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Criter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 Narrow"/>
              </a:rPr>
              <a:t>VAN(N,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</a:t>
            </a:r>
            <a:r>
              <a:rPr b="1" lang="es-ES_tradnl" sz="2400" spc="-1" strike="noStrike">
                <a:solidFill>
                  <a:srgbClr val="ffffcc"/>
                </a:solidFill>
                <a:latin typeface="Arial Narrow"/>
              </a:rPr>
              <a:t>)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03:22:38Z</dcterms:created>
  <dc:creator>vdos</dc:creator>
  <dc:description/>
  <dc:language>en-US</dc:language>
  <cp:lastModifiedBy>dii</cp:lastModifiedBy>
  <dcterms:modified xsi:type="dcterms:W3CDTF">2004-08-23T15:00:07Z</dcterms:modified>
  <cp:revision>84</cp:revision>
  <dc:subject/>
  <dc:title>I.FORMULACIÓN DE PROYECTOS</dc:title>
</cp:coreProperties>
</file>