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799-3D1B-4736-9A1A-B533027C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E2C-D62C-4F9B-BA24-A672A831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202-4AB1-4E56-91D6-463E5BEA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745-CCC5-4CEB-ACD8-A98728DB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4468-B6F1-4FE3-BD49-B2B4CFE3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D450-1CB2-4C6E-9099-BBA93A78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741C-60B5-49A5-A7A9-45BD7751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E362-0DFA-4DF8-B451-06B3BA19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9C0E-0F98-405B-84DE-45F69A2A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500A-9B7D-459D-99B6-E839AB3B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4AB6-6DE9-429E-BDC4-FB87DE15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A00-3CB8-4469-B294-62CEEDBE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5A69-CA66-4441-9CAC-94886A09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B0D4-C51A-46F9-AA8A-93A4565C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072E-E729-4E0F-BFB5-5E6B75DD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5102-7EDE-43FC-B81D-62445821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4397-7E4E-4CBC-849E-F6DB1748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36E-246E-4D22-9FD6-74199BC2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632-7C4F-4E9E-92B3-C641D2B7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53B-1719-4FB7-ADF5-1A32DDA6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359-D9BB-4B78-B78C-F54CF9E1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3A4-A1FC-4134-9678-EF68B051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FA4-83E7-4F41-BB35-F981F49B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E31-FD1B-4CBC-A407-B3CD0228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647640" cy="6713280"/>
            <a:chOff x="0" y="6840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72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2948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1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2932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3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197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769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17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1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3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48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3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389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3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19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20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293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1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291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32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0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196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76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15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28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484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30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38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195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424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57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1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5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24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4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1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41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5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3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40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06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52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21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1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38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0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38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2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09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290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61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0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2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57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21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478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24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289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1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38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07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384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28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69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49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6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6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19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62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3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5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2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4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22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3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39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56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28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5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381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5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094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570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38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1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840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0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0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84160" y="73080"/>
            <a:ext cx="496800" cy="1450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15228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00800" y="1066680"/>
            <a:ext cx="1474920" cy="33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52960" y="121932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700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ddddd"/>
                </a:solidFill>
                <a:latin typeface="Arial Narrow"/>
              </a:rPr>
              <a:t>IN42A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127D-FD57-405B-A0C1-A6F53963B5BB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5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F403-B124-47B9-9646-E037C792E7E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algn="ctr">
              <a:spcBef>
                <a:spcPts val="451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algn="ctr">
              <a:spcBef>
                <a:spcPts val="4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1045800"/>
            <a:ext cx="77230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99"/>
                </a:solidFill>
                <a:latin typeface="Arial Narrow"/>
              </a:rPr>
              <a:t>IV. INDICADORES DE EVALUACIÓN DE PROYECTOS</a:t>
            </a:r>
            <a:endParaRPr b="1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Beneficio Anual Uniforme Equivalente (B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Una posibilidad para comparar proyectos repetibles de diferente vida útil, es recurrir al Factor de Recuperación del Capital y distribuir el VAN de cada proyecto con la tasa de costo de oportunidad del dinero en N cuotas iguales, siendo N el número de períodos de vida útil de cada proyec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B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mayor BAUE (siempre que los proyectos tengan el mismo riesgo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1757520" y="541656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UE = VAN(N,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021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3800" y="518148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 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0680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625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023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98280" y="54039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r* VAN(N,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5105520"/>
            <a:ext cx="7924680" cy="121896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Costo Anual Uniforme Equivalente (C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n algunas ocasiones se presentan proyectos repetibles que producen los mismos ingresos y difieren entre sí sólo en los costos de inversión y operación. En este caso conviene distribuir el valor presente de los costos en N cuotas igual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el menor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924920" y="4648320"/>
            <a:ext cx="5350320" cy="1069200"/>
            <a:chOff x="1924920" y="4648320"/>
            <a:chExt cx="5350320" cy="1069200"/>
          </a:xfrm>
        </p:grpSpPr>
        <p:sp>
          <p:nvSpPr>
            <p:cNvPr id="363" name=""/>
            <p:cNvSpPr/>
            <p:nvPr/>
          </p:nvSpPr>
          <p:spPr>
            <a:xfrm>
              <a:off x="1924920" y="5035320"/>
              <a:ext cx="354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AUE = VAN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COSTO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98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61800" y="48006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 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44440" y="525780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00520" y="5257800"/>
              <a:ext cx="12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00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Indicadores de Evaluación de Inversion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Presente Neto(VPN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Tasa interna de Retorno(T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Período de Recuperación de Capital(PRC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Rentabilidad Contable Media(RCM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Índice de rentabilidad(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Económico Agregado (EVA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Beneficio Anual Uniforme Equivalente(B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Costo Anual Uniforme Equivalente(C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1. Valor Presente Neto (VPN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65920" y="1905120"/>
            <a:ext cx="3612960" cy="1180440"/>
            <a:chOff x="2365920" y="1905120"/>
            <a:chExt cx="3612960" cy="1180440"/>
          </a:xfrm>
        </p:grpSpPr>
        <p:sp>
          <p:nvSpPr>
            <p:cNvPr id="293" name=""/>
            <p:cNvSpPr/>
            <p:nvPr/>
          </p:nvSpPr>
          <p:spPr>
            <a:xfrm>
              <a:off x="2365920" y="2279880"/>
              <a:ext cx="10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VP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80800" y="2249640"/>
              <a:ext cx="209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FC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/ (1+ r)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95840" y="26258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56680" y="190512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523880" y="1905120"/>
            <a:ext cx="5257800" cy="1143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1676520"/>
            <a:ext cx="2743200" cy="1371600"/>
          </a:xfrm>
          <a:prstGeom prst="wedgeEllipseCallout">
            <a:avLst>
              <a:gd name="adj1" fmla="val -63194"/>
              <a:gd name="adj2" fmla="val 29976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El VPN depende del FC y la tasa de ds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3657600"/>
            <a:ext cx="7467840" cy="25146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99"/>
                </a:solidFill>
                <a:uFillTx/>
                <a:latin typeface="Arial Narrow"/>
              </a:rPr>
              <a:t>Criterio de deci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gt; 0: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= 0: Indif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lt; 0: No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a TIR trata de medir la rentabilidad de un proyecto o activo. Representa la rentabilidad media intrínseca del proyecto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Se define la tasa interna de retorno como aquella que hace que el valor presente neto sea igual a cer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4724280"/>
            <a:ext cx="777240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La regla de decisión consiste en aceptar proyectos cuya TIR sea mayor que el costo de capital para activos del mismo nivel de riesgo: TIR &gt;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680120" y="3048120"/>
            <a:ext cx="4741920" cy="1180440"/>
            <a:chOff x="1680120" y="3048120"/>
            <a:chExt cx="4741920" cy="1180440"/>
          </a:xfrm>
        </p:grpSpPr>
        <p:sp>
          <p:nvSpPr>
            <p:cNvPr id="304" name=""/>
            <p:cNvSpPr/>
            <p:nvPr/>
          </p:nvSpPr>
          <p:spPr>
            <a:xfrm>
              <a:off x="1680120" y="3422880"/>
              <a:ext cx="123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97520" y="3387960"/>
              <a:ext cx="322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TI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0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705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295280" y="2971800"/>
            <a:ext cx="579132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blemas de la TIR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Múltiples TI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estar o endeudars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mutuamente excluyent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de distinta vida úti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ambio del costo del capital en el tiemp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3. Período de recuperación del capital (Payback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iene la ventaja de ser un método muy simple, y tener una consideración básica del riesgo: a menor payback, menor riesg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2529000" y="2479680"/>
            <a:ext cx="1416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67800" y="2400480"/>
            <a:ext cx="1436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83560" y="290196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48000" y="2057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97720" y="3581280"/>
            <a:ext cx="65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nde N: período de recuperación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2133720"/>
            <a:ext cx="7467480" cy="2286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Indicadores para Proyectos Repetibl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 ocasiones los inversionistas se ven enfrentados a proyectos que se pueden repetir periódica e indefinidamente. Es decir, al cabo de la vida útil del mismo es posible repetir la inversión y obtener los mismos flujos.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l problema que surge es cómo proceder en la comparación de dos o más proyectos con diferentes vidas útiles, en donde al menos uno de ellos es repetibl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mos a analizar tres indicadores, que son derivaciones del VP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upongamos que nos enfrentamos a un proyecto repetible que requiere una inversión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y que genera N flujos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l VAN de efectuar por una vez este proyecto que dura N períodos 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Si queremos comparar este proyecto repetible con otro no repetible, o con uno repetible pero con distinta vida útil, debemos calcular el VAN de los flujos de los sucesivos proyectos, hasta el infini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833480" y="3048120"/>
            <a:ext cx="4478400" cy="1180440"/>
            <a:chOff x="1833480" y="3048120"/>
            <a:chExt cx="4478400" cy="1180440"/>
          </a:xfrm>
        </p:grpSpPr>
        <p:sp>
          <p:nvSpPr>
            <p:cNvPr id="324" name=""/>
            <p:cNvSpPr/>
            <p:nvPr/>
          </p:nvSpPr>
          <p:spPr>
            <a:xfrm>
              <a:off x="1833480" y="3422520"/>
              <a:ext cx="20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(N, 1)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06440" y="3387600"/>
              <a:ext cx="230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1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8016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uego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mando el límite cuando n tiende a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l reemplazar U y desarrollar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819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08360" y="2362320"/>
            <a:ext cx="4437720" cy="916920"/>
            <a:chOff x="1008360" y="2362320"/>
            <a:chExt cx="4437720" cy="916920"/>
          </a:xfrm>
        </p:grpSpPr>
        <p:sp>
          <p:nvSpPr>
            <p:cNvPr id="332" name=""/>
            <p:cNvSpPr/>
            <p:nvPr/>
          </p:nvSpPr>
          <p:spPr>
            <a:xfrm>
              <a:off x="1008360" y="236880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n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65760" y="2362320"/>
              <a:ext cx="22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 [1- U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+1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25280" y="281952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34080" y="454500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063080" y="3657600"/>
            <a:ext cx="5548680" cy="916920"/>
            <a:chOff x="1063080" y="3657600"/>
            <a:chExt cx="5548680" cy="916920"/>
          </a:xfrm>
        </p:grpSpPr>
        <p:sp>
          <p:nvSpPr>
            <p:cNvPr id="337" name=""/>
            <p:cNvSpPr/>
            <p:nvPr/>
          </p:nvSpPr>
          <p:spPr>
            <a:xfrm>
              <a:off x="1063080" y="3814560"/>
              <a:ext cx="34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lim VAN(N, n) = 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2280" y="365760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22040" y="411480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16480" y="4119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368720" y="4724280"/>
            <a:ext cx="5136120" cy="1075680"/>
            <a:chOff x="1368720" y="4724280"/>
            <a:chExt cx="5136120" cy="1075680"/>
          </a:xfrm>
        </p:grpSpPr>
        <p:sp>
          <p:nvSpPr>
            <p:cNvPr id="342" name=""/>
            <p:cNvSpPr/>
            <p:nvPr/>
          </p:nvSpPr>
          <p:spPr>
            <a:xfrm>
              <a:off x="1368720" y="5116320"/>
              <a:ext cx="28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 VAN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165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37480" y="4883040"/>
              <a:ext cx="8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19760" y="534024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5344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167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143000" y="4800600"/>
            <a:ext cx="609588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62920" y="3733920"/>
            <a:ext cx="198108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Crite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VAN(N,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)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3:22:38Z</dcterms:created>
  <dc:creator>vdos</dc:creator>
  <dc:description/>
  <dc:language>en-US</dc:language>
  <cp:lastModifiedBy>dii</cp:lastModifiedBy>
  <dcterms:modified xsi:type="dcterms:W3CDTF">2004-08-23T15:00:07Z</dcterms:modified>
  <cp:revision>84</cp:revision>
  <dc:subject/>
  <dc:title>I.FORMULACIÓN DE PROYECTOS</dc:title>
</cp:coreProperties>
</file>