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5E3-4110-486D-9045-5BA48BEA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339D-D085-450E-9FF3-0F57581C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C62C-0B74-49C5-8F84-14639B489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872-DC83-49EE-A80B-DE8665D8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356C-DDE9-4EC5-B4C8-92E4DE5BE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50F9-97EF-4C10-B0D2-321C36F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B9D70-99B2-4F15-8D7B-D2CBE932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D316-D106-4180-B84B-5FC55A11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B11A-FDF3-42B2-B419-AE9200AF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BDA5-43E8-4EA2-B035-96A9CBC3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FDFB-7B55-4B3B-8FC1-DD18EE27E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3DB-3E9B-4EA7-8C55-CEA658AD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DDE6-1E2A-4377-B43C-7C088653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E4AA-24F5-4135-8A83-ACCA69F2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F630-F140-4FBF-A3B3-8870BA9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92A5-B00F-4A7F-A25E-0A681BF0C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97A4-46E2-4CB2-B0F7-48464DD9A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740D-1B61-4547-8A80-6047DF03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305-6D54-4A22-B63F-FBA6B7CD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EBAC-E1B5-42D8-BF20-94EA5A7C0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0BF-AFAF-4BF8-9ACA-4956ACCF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74C0-21AE-482D-BE65-AB70C604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D5A6-A916-4F1B-BC47-EA191C15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323A-FEDD-4151-A029-1BE74B5B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08AF-C47D-43A6-8876-FF2C180A73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48C7-D8FD-4265-9646-E9E769555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ffffb7"/>
                </a:solidFill>
                <a:latin typeface="Arial Black"/>
              </a:rPr>
              <a:t>Matemáticas Financiera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378936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valuación de Proyectos In42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uxiliar Nº 2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ffffb7"/>
                </a:solidFill>
                <a:latin typeface="Arial Black"/>
              </a:rPr>
              <a:t>Interés Compuesto, Capitalización Continua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Continu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 continua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18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828800" y="2452680"/>
                <a:ext cx="4724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05120" y="4648320"/>
                <a:ext cx="43434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Simple vs.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Simpl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: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permanece constante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ffff"/>
                </a:solidFill>
                <a:latin typeface="Arial"/>
              </a:rPr>
              <a:t>I. Compuesto: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el capital </a:t>
            </a:r>
            <a:r>
              <a:rPr b="0" i="1" lang="es-ES_tradnl" sz="3200" spc="-1" strike="noStrike" u="sng">
                <a:solidFill>
                  <a:srgbClr val="ffffff"/>
                </a:solidFill>
                <a:uFillTx/>
                <a:latin typeface="Arial"/>
              </a:rPr>
              <a:t>cambia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al final de un periodo de tiemp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Futur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Valor de una inversión después de trascurrido un periodo de tiemp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 = Monto de la In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# de perio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 = tasa de inte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47640" y="4365720"/>
            <a:ext cx="5759640" cy="45972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después de n perio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 el valor futuro sabíamos cuanto valía la inversión en n periodos de tiempo mas. Ahora queremos saber q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é cantidad HOY sería equivalente a Valor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6920" y="3429000"/>
            <a:ext cx="7848720" cy="21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alor Futuro: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n ,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P (1+r)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en 1 añ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tonces ¿qué cantidad HOY sería equivalente a VF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dentro de 1 añ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P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 = VF</a:t>
            </a:r>
            <a:r>
              <a:rPr b="1" lang="es-CL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/(1+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Valor Present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 la cantidad se recibe en n períodos m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Un caso más general es cuando se reciben n flujos, uno al final de cada perío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03640" y="2421000"/>
                <a:ext cx="2670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76720" y="4724280"/>
                <a:ext cx="26636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050920" y="2708280"/>
                <a:ext cx="338472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556000" y="4869000"/>
                <a:ext cx="2224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Formulas Úti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ual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petuidad con Creci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916360" y="2492280"/>
                <a:ext cx="30240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g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987640" y="4797360"/>
                <a:ext cx="2952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99640" y="2420640"/>
            <a:ext cx="7953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¿Pregunta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292720" y="1916280"/>
            <a:ext cx="331308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2060280"/>
            <a:ext cx="40435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Problema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843280" y="2276640"/>
            <a:ext cx="5643360" cy="34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gend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flación y Tasa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Simp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Pres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petu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nua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Valor Futu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133720"/>
            <a:ext cx="13604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Algunas Definicion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Inflación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Pérdida del valor del dinero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Costo de Oportunid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Máximo beneficio que se puede obtener con el recurso colocado en la mejor alternativa po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ltura Gener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 u="sng">
                <a:solidFill>
                  <a:srgbClr val="ffffff"/>
                </a:solidFill>
                <a:uFillTx/>
                <a:latin typeface="Arial"/>
              </a:rPr>
              <a:t>Spread: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iferencia entre la tasa de interés de colocación y la de captación de ahorros. (Se conoce también como costo de transacción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e mide en Chile a través del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, Índice de Precios al Consumido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oder Adquisitivo: # de Canastas que puedo comprar con una cantidad de diner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i IPC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↑, el Poder Adquisitivo ↓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nomin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en dinero, es decir, lo que se paga por sobre lo adeud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Peso: Moneda Nomi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</a:rPr>
              <a:t>Tasa de interés real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mide el aumento de poder adquisitiv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Arial"/>
              </a:rPr>
              <a:t>UF: Moneda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flación y Tasas de Interé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334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cuación de Fis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r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n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asa No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: tasa de Infl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411280" y="2708280"/>
                <a:ext cx="28800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Si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694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Simple: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iempre sobre el capital origina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incluye los intereses sobre intereses devengad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si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36920" y="3573360"/>
                <a:ext cx="347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*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s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*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4059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Interés Compuesto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es aquel que se calcula sobre el capital adeud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s intereses devengados y no pagados incrementan el capital ori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quivalencia de tasa anual y tasa mens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221000"/>
            <a:ext cx="655344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mens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981080" y="4343400"/>
                <a:ext cx="548640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c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b7"/>
                </a:solidFill>
                <a:latin typeface="Arial Black"/>
              </a:rPr>
              <a:t>Interés Compuesto, Capitalización Discreta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752480" y="4495680"/>
                <a:ext cx="46483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38080" y="5334120"/>
            <a:ext cx="7405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= Capital Final después d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pital Inverti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CL" sz="2000" spc="-1" strike="noStrike" baseline="30000">
                <a:solidFill>
                  <a:srgbClr val="ffffff"/>
                </a:solidFill>
                <a:latin typeface="Arial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905120"/>
            <a:ext cx="792468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apitalización Discret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Intereses = Interés ganados durante un periodo de n 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C = Cantidad Invert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ac = Tasa de Interés anual compues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 = años de invers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752480" y="2422440"/>
                <a:ext cx="5257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reses</m:t>
                    </m:r>
                    <m:r>
                      <m:t xml:space="preserve">=</m:t>
                    </m:r>
                    <m:r>
                      <m:t xml:space="preserve">C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1T16:15:49Z</dcterms:created>
  <dc:creator>Nicolás Fritis C</dc:creator>
  <dc:description/>
  <dc:language>en-US</dc:language>
  <cp:lastModifiedBy>Loreto Tamblay</cp:lastModifiedBy>
  <dcterms:modified xsi:type="dcterms:W3CDTF">2004-08-17T05:18:35Z</dcterms:modified>
  <cp:revision>22</cp:revision>
  <dc:subject>Evaluación de Proyectos</dc:subject>
  <dc:title>Auxiliar Nº 2</dc:title>
</cp:coreProperties>
</file>