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56D6-7E35-466D-BE33-1CD3D7A5F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5C89-E33A-4EE2-8ADA-FCB360D4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41F9-BF58-4BDE-A362-6E49E534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024A-9ACD-4A96-91F5-D4E5E3BE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495A-FEB8-4CBB-8C78-0B489BE2C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1B84-A676-4151-9246-2D024F57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2592-33E4-40A7-A258-B080F5E0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F69D-3692-4F9A-B63D-B64BF981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71F4-B237-41D0-A804-1C0E7CC0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3594-C9CE-45FE-B57B-36A9C056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C269-B899-441F-9B01-558AE1E1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25DD-B9FD-41F2-A811-BF6E34C4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14B9-B140-4C77-AE4E-87528186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CAA5-45E3-4001-838E-1CCBE196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605A-70A7-4B3A-BF97-7E37E05D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BE3B-88D0-4845-BBB8-FEE5DF68A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F2CD-9DA8-41F3-A25F-F5DBF2653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73E7-0B8B-40B8-8227-3C5F8446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9D15-E31A-470C-9E40-4B3F61C1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733A-AF05-4E4C-BA19-208F48BD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C581-78DD-4CD4-8F72-3CE0B0C5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2C66-6970-417A-B2AD-38B1B351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EE49-E266-41C4-9D2D-4F9022C5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201A-6132-471F-A711-9F7CC0D2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C69D-7771-4C29-B2FD-EC87136CA4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5A32-4CC7-4C81-8004-CBFB5E04EC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b7"/>
                </a:solidFill>
                <a:latin typeface="Arial Black"/>
              </a:rPr>
              <a:t>Matemáticas Financiera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3789360"/>
            <a:ext cx="612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valuación de Proyectos In42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uxiliar Nº 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b7"/>
                </a:solidFill>
                <a:latin typeface="Arial Black"/>
              </a:rPr>
              <a:t>Interés Compuesto, Capitalización Continua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pitalización Contin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18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= Tasa de Interés anual compuesta continuam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= Capital Final después de un periodo de n añ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 = Capital Invert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18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828800" y="2452680"/>
                <a:ext cx="472428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e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t</m:t>
                            </m:r>
                            <m:r>
                              <m:t xml:space="preserve">∗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c</m:t>
                                </m:r>
                              </m:sup>
                            </m:sSub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905120" y="4648320"/>
                <a:ext cx="43434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∗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Simple vs.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Simpl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ermanece constant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Compuesto: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el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cambi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Futur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Valor de una inversión después de trascurrido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 = Monto de la In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# de perio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 = tasa de inte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7640" y="4365720"/>
            <a:ext cx="5759640" cy="459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después de n perio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el valor futuro sabíamos cuanto valía la inversión en n periodos de tiempo mas. Ahora queremos saber q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é cantidad HOY sería equivalente a Valor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3429000"/>
            <a:ext cx="7848720" cy="21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alor Futuro: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 ,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 1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tonces ¿qué cantidad HOY sería equivalente a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ntro de 1 añ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P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/(1+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 la cantidad se recibe en n períodos má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Un caso más general es cuando se reciben n flujos, uno al final de cada perío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203640" y="2421000"/>
                <a:ext cx="26701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276720" y="4724280"/>
                <a:ext cx="26636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050920" y="2708280"/>
                <a:ext cx="33847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556000" y="4869000"/>
                <a:ext cx="222408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916360" y="2492280"/>
                <a:ext cx="30240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g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987640" y="4797360"/>
                <a:ext cx="2952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99640" y="2420640"/>
            <a:ext cx="7953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¿Pregunta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292720" y="1916280"/>
            <a:ext cx="331308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03280" y="2060280"/>
            <a:ext cx="40435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Problem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843280" y="2276640"/>
            <a:ext cx="564336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gend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efini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flación y Tasa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Sim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Pres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petu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Fut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300720" y="2133720"/>
            <a:ext cx="1360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lgunas Definicion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Inflación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Pérdida del valor del dinero en el tiem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Costo de Oportunid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Máximo beneficio que se puede obtener con el recurso colocado en la mejor alternativa po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ltura Gener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Spre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Diferencia entre la tasa de interés de colocación y la de captación de ahorros. (Se conoce también como costo de transacció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mide en Chile a través del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, Índice de Precios al Consumid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der Adquisitivo: # de Canastas que puedo comprar con una cantidad de din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i IPC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↑, el Poder Adquisitivo ↓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nomin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en dinero, es decir, lo que se paga por sobre lo adeud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Peso: Moneda Nomi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re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de poder adquisi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UF: Moneda 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 y 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cuación de Fis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r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Nomi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: tasa de Infl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411280" y="2708280"/>
                <a:ext cx="28800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Si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694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Simple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iempre sobre el capital origin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 incluye los intereses sobre intereses deveng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si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36920" y="3573360"/>
                <a:ext cx="347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*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*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Compuesto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obre el capital adeud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intereses devengados y no pagados incrementan el capital ori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quivalencia de tasa anual y tasa mens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4221000"/>
            <a:ext cx="6553440" cy="25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mens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981080" y="4343400"/>
                <a:ext cx="548640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, Capitalización Discret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752480" y="4495680"/>
                <a:ext cx="46483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838080" y="5334120"/>
            <a:ext cx="7405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= Capital Final después d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pital Invert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905120"/>
            <a:ext cx="792468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pitalización Discret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ac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752480" y="2422440"/>
                <a:ext cx="5257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e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1T16:15:49Z</dcterms:created>
  <dc:creator>Nicolás Fritis C</dc:creator>
  <dc:description/>
  <dc:language>en-US</dc:language>
  <cp:lastModifiedBy>Loreto Tamblay</cp:lastModifiedBy>
  <dcterms:modified xsi:type="dcterms:W3CDTF">2004-08-17T05:18:35Z</dcterms:modified>
  <cp:revision>22</cp:revision>
  <dc:subject>Evaluación de Proyectos</dc:subject>
  <dc:title>Auxiliar Nº 2</dc:title>
</cp:coreProperties>
</file>