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DE6-7200-46E2-8B6E-A0939DA9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EF25-F793-4368-8CFD-276AE849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23F-FFA7-4397-B019-CF3ACFD1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1B33-197B-4C01-9815-3504CD4B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BC88-F9A7-4919-97A6-A52B6465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0F28-BC16-46BC-9381-C652E5F3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C4B4-4219-4ADE-A074-D2A52D50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86CF-7695-4BC8-AE3D-7D4ADB94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1087-F41B-49BA-8873-B4A8819B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895C-A3DB-4F07-A094-F896A602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8026-4AA7-40FB-886B-390DEFC9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904-494E-4DE7-82DC-D8238F11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B0A3-157B-452B-8599-F6BDE98E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B934-42D5-4D19-9641-FCF97CB5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5C59-1FEC-4B39-8174-068178FD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D2C3-1947-44D6-A08D-9C5A9818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5199-3C25-450B-A736-56CEACF1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036-49D9-48CC-B1C0-2B89C932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964-854B-485E-B0E4-E4BD7E6F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D939-A872-490E-BF6E-3E784534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E1E-A249-44CE-B5B9-A5BA51A9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194-62B5-4535-9C42-D887C9AC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E14-E8C7-4A60-8B73-9A4CE48E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1C26-D768-4CCD-99BB-C6019808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D93C-DE98-4D40-9EDB-323552F5D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FF92-BC95-4D53-BEA3-223A2779B6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b7"/>
                </a:solidFill>
                <a:latin typeface="Arial Black"/>
              </a:rPr>
              <a:t>Interés Compuesto, Capitalización Continu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Contin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 continua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828800" y="2452680"/>
                <a:ext cx="4724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∗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05120" y="4648320"/>
                <a:ext cx="434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é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quivalencia de tasa anual y tasa mens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81080" y="4343400"/>
                <a:ext cx="54864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, Capitalización Discre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52480" y="4495680"/>
                <a:ext cx="46483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38080" y="5334120"/>
            <a:ext cx="7405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905120"/>
            <a:ext cx="792468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Discre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ac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752480" y="2422440"/>
                <a:ext cx="5257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Loreto Tamblay</cp:lastModifiedBy>
  <dcterms:modified xsi:type="dcterms:W3CDTF">2004-08-17T05:18:35Z</dcterms:modified>
  <cp:revision>22</cp:revision>
  <dc:subject>Evaluación de Proyectos</dc:subject>
  <dc:title>Auxiliar Nº 2</dc:title>
</cp:coreProperties>
</file>