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678E-0DD0-4922-A5C0-86E55C84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C959-D61C-48BD-8372-600F7D49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5BE-5D43-4D5B-BD65-9E4686A7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E04-1DD2-45DA-84BB-213C97FD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AE7A-B0A7-4FDB-831E-061286FE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2161-6022-4C53-9D43-1E592EF8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0E9A-011D-4697-BD7C-DD9C6428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1602-D623-434A-8788-FDA483DE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D7CD-C911-4E8A-BD4A-8D01727D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2F6A-DE2B-4D79-A645-3DBFCCDC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1FBB-ACD9-4F34-BCBC-ADBF8F40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F58C-F196-4D12-8D2B-6B27F65D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20C9-3364-44D4-BBAF-CEE3F656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D08C-6742-4364-BE3C-2A530724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21FC-F348-4B12-AEDE-40865075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17AC-CAA0-4F24-B487-184A8BEC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8DBB-25C8-4AC3-9B93-DAE2DE1F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4B47-459F-4350-8784-9EA0D90F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94F-ACD6-4ADD-ACB4-65FCBCE9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E02-76FF-401A-85A4-E21C7B47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12C7-4335-4D98-930E-0A653106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DAC3-DEBE-4F8A-88C7-70372BCE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10F8-B21E-4B8D-9BAB-065A9406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E122-16BF-437D-9E38-79BF3F39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4886-08AD-4812-A1C5-B3E723DEF3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05A5-772B-4442-9C18-866A3E3AA5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b7"/>
                </a:solidFill>
                <a:latin typeface="Arial Black"/>
              </a:rPr>
              <a:t>Interés Compuesto, Capitalización Continu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Contin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 continua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828800" y="2452680"/>
                <a:ext cx="47242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∗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05120" y="4648320"/>
                <a:ext cx="4343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é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quivalencia de tasa anual y tasa mens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81080" y="4343400"/>
                <a:ext cx="54864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, Capitalización Discre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752480" y="4495680"/>
                <a:ext cx="46483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38080" y="5334120"/>
            <a:ext cx="7405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905120"/>
            <a:ext cx="792468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Discret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ac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752480" y="2422440"/>
                <a:ext cx="5257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Loreto Tamblay</cp:lastModifiedBy>
  <dcterms:modified xsi:type="dcterms:W3CDTF">2004-08-17T05:18:35Z</dcterms:modified>
  <cp:revision>22</cp:revision>
  <dc:subject>Evaluación de Proyectos</dc:subject>
  <dc:title>Auxiliar Nº 2</dc:title>
</cp:coreProperties>
</file>