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D966-04F8-4E5D-B062-811C97895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651E-9021-4995-BC03-180C8968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C760-FB54-4124-9338-CA8E855BB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5131-16E6-4F6E-AB06-F07EA84A5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294B-ACD3-4607-88E4-E8207AC3B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2F91-ADD7-48D9-A302-87B57E76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778D-D453-4CF9-8A6C-65F58BB7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1BF1-FB5D-4575-8055-5F958264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4260-285B-4A9A-A560-1BE40DAA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0D32-B18B-4D99-9795-9952CE69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7DE2-BF50-4F93-9A14-3EF1096E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D6A2-D60E-4EDB-A180-8867968C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5006-A044-48F9-BF9F-6E8ADD45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9A03-2AC9-4253-AC21-ED25CA4F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AB8D-F030-4F3C-A6AC-9E0917D1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B7F87-E017-4E8C-BDFD-59A0B62DE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377CA-9F0D-41D1-814C-AAF3C0473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7B26-AF01-4894-9361-ABAC506E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2F37-E6C1-4A11-B48E-302F90C8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65E5-CA2E-4F6C-9803-34FE0BFB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025B-7124-4236-9FBC-6091C0DA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BF56-43D4-4A96-89B0-3A2F9D6A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DAFA-E6E3-4013-8603-6C77C573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C911-FD75-4830-8A62-0E60AC86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11C9-CEF3-4403-8234-977FD48871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6E26-8350-4F49-85A2-BF90F9C634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b7"/>
                </a:solidFill>
                <a:latin typeface="Arial Black"/>
              </a:rPr>
              <a:t>Matemáticas Financiera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3789360"/>
            <a:ext cx="6121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valuación de Proyectos In42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uxiliar Nº 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b7"/>
                </a:solidFill>
                <a:latin typeface="Arial Black"/>
              </a:rPr>
              <a:t>Interés Compuesto, Capitalización Continua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pitalización Continu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18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= Tasa de Interés anual compuesta continuam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S= Capital Final después de un periodo de n añ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 = Capital Inverti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18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828800" y="2452680"/>
                <a:ext cx="472428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e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t</m:t>
                            </m:r>
                            <m:r>
                              <m:t xml:space="preserve">∗</m:t>
                            </m:r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c</m:t>
                                </m:r>
                              </m:sup>
                            </m:sSubSup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905120" y="4648320"/>
                <a:ext cx="43434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∗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Simple vs.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I. Simpl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 capital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permanece constant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l final de un periodo de tie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I. Compuesto: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el capital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cambia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l final de un periodo de tiemp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Futur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Valor de una inversión después de trascurrido un periodo de tie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 = Monto de la Inver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# de perio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 = tasa de inte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47640" y="4365720"/>
            <a:ext cx="5759640" cy="459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F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después de n perio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Presen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 el valor futuro sabíamos cuanto valía la inversión en n periodos de tiempo mas. Ahora queremos saber q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é cantidad HOY sería equivalente a Valor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6920" y="3429000"/>
            <a:ext cx="7848720" cy="21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alor Futuro: 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n ,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en 1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tonces ¿qué cantidad HOY sería equivalente a 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ntro de 1 añ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P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= VF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/(1+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Presen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 la cantidad se recibe en n períodos má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Un caso más general es cuando se reciben n flujos, uno al final de cada períod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203640" y="2421000"/>
                <a:ext cx="26701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276720" y="4724280"/>
                <a:ext cx="26636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Formulas Úti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ual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petu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050920" y="2708280"/>
                <a:ext cx="338472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556000" y="4869000"/>
                <a:ext cx="222408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Formulas Úti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33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ualidad con Creci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petuidad con Creci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916360" y="2492280"/>
                <a:ext cx="302400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g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987640" y="4797360"/>
                <a:ext cx="29527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99640" y="2420640"/>
            <a:ext cx="7953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¿Pregunta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292720" y="1916280"/>
            <a:ext cx="331308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03280" y="2060280"/>
            <a:ext cx="40435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Problem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843280" y="2276640"/>
            <a:ext cx="5643360" cy="34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Agend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efini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flación y Tasa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erés Simp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erés Com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Pres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petu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nua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Futu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300720" y="2133720"/>
            <a:ext cx="13604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Algunas Definicion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Inflación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Pérdida del valor del dinero en el tiemp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Costo de Oportunidad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Máximo beneficio que se puede obtener con el recurso colocado en la mejor alternativa pos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ltura Gener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Spread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Diferencia entre la tasa de interés de colocación y la de captación de ahorros. (Se conoce también como costo de transacció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flació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 mide en Chile a través del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, Índice de Precios al Consumid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oder Adquisitivo: # de Canastas que puedo comprar con una cantidad de dine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i IPC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↑, el Poder Adquisitivo ↓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Tasas de Inter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Arial"/>
              </a:rPr>
              <a:t>Tasa de interés nominal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mide el aumento en dinero, es decir, lo que se paga por sobre lo adeud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</a:rPr>
              <a:t>Peso: Moneda Nomi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Arial"/>
              </a:rPr>
              <a:t>Tasa de interés real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mide el aumento de poder adquisitiv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</a:rPr>
              <a:t>UF: Moneda R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flación y Tasas de Inter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33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cuación de Fis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r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sa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n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sa Nomi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: tasa de Infl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411280" y="2708280"/>
                <a:ext cx="28800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Si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694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Interés Simple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es aquel que se calcula siempre sobre el capital origina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o incluye los intereses sobre intereses deveng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si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36920" y="3573360"/>
                <a:ext cx="3473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*r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*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Interés Compuesto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es aquel que se calcula sobre el capital adeud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intereses devengados y no pagados incrementan el capital orig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quivalencia de tasa anual y tasa mens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7280" y="4221000"/>
            <a:ext cx="6553440" cy="25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mens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981080" y="4343400"/>
                <a:ext cx="548640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Compuesto, Capitalización Discret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752480" y="4495680"/>
                <a:ext cx="46483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838080" y="5334120"/>
            <a:ext cx="7405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= Capital Final después d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pital Inverti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1905120"/>
            <a:ext cx="792468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pitalización Discret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ac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752480" y="2422440"/>
                <a:ext cx="52578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e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1T16:15:49Z</dcterms:created>
  <dc:creator>Nicolás Fritis C</dc:creator>
  <dc:description/>
  <dc:language>en-US</dc:language>
  <cp:lastModifiedBy>Loreto Tamblay</cp:lastModifiedBy>
  <dcterms:modified xsi:type="dcterms:W3CDTF">2004-08-17T05:18:35Z</dcterms:modified>
  <cp:revision>22</cp:revision>
  <dc:subject>Evaluación de Proyectos</dc:subject>
  <dc:title>Auxiliar Nº 2</dc:title>
</cp:coreProperties>
</file>