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905-8E88-4C6A-B916-1CE2FCD7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648-0F0D-4D13-A4F8-27695BA7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2E5-542B-4E94-95AC-BBE1E219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C5E-A6B4-478E-8134-309C9C34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6CD-BDD1-433C-8C2C-664E8D6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956-C37E-471D-822E-0F0EC9A0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221-EA06-4A87-8F2B-0454CF39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8F4-655B-4135-BE7A-0B458A1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25E-FF9C-482E-A30D-5DD17666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5A8-3DDB-4A80-AF43-63A738E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CBB-FB8C-4870-9E30-EEB6B01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DF5-8235-45C1-B3EE-90F0F7D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03B-C189-459F-8548-6CF54FBB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90080" cy="6902280"/>
            <a:chOff x="0" y="0"/>
            <a:chExt cx="9190080" cy="69022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90080" cy="7632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76320"/>
              <a:ext cx="9190080" cy="5868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35000"/>
              <a:ext cx="9190080" cy="7596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10960"/>
              <a:ext cx="9190080" cy="7632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87280"/>
              <a:ext cx="9190080" cy="76320"/>
            </a:xfrm>
            <a:prstGeom prst="rect">
              <a:avLst/>
            </a:prstGeom>
            <a:solidFill>
              <a:srgbClr val="606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600"/>
              <a:ext cx="9190080" cy="58680"/>
            </a:xfrm>
            <a:prstGeom prst="rect">
              <a:avLst/>
            </a:prstGeom>
            <a:solidFill>
              <a:srgbClr val="606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22280"/>
              <a:ext cx="9190080" cy="7632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98600"/>
              <a:ext cx="9190080" cy="7596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4560"/>
              <a:ext cx="9190080" cy="77760"/>
            </a:xfrm>
            <a:prstGeom prst="rect">
              <a:avLst/>
            </a:prstGeom>
            <a:solidFill>
              <a:srgbClr val="626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2320"/>
              <a:ext cx="9190080" cy="57240"/>
            </a:xfrm>
            <a:prstGeom prst="rect">
              <a:avLst/>
            </a:prstGeom>
            <a:solidFill>
              <a:srgbClr val="63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709560"/>
              <a:ext cx="9190080" cy="76320"/>
            </a:xfrm>
            <a:prstGeom prst="rect">
              <a:avLst/>
            </a:prstGeom>
            <a:solidFill>
              <a:srgbClr val="64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785880"/>
              <a:ext cx="9190080" cy="75960"/>
            </a:xfrm>
            <a:prstGeom prst="rect">
              <a:avLst/>
            </a:prstGeom>
            <a:solidFill>
              <a:srgbClr val="656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861840"/>
              <a:ext cx="9190080" cy="7812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939960"/>
              <a:ext cx="9190080" cy="5688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996840"/>
              <a:ext cx="9190080" cy="76320"/>
            </a:xfrm>
            <a:prstGeom prst="rect">
              <a:avLst/>
            </a:prstGeom>
            <a:solidFill>
              <a:srgbClr val="676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073160"/>
              <a:ext cx="9190080" cy="77760"/>
            </a:xfrm>
            <a:prstGeom prst="rect">
              <a:avLst/>
            </a:prstGeom>
            <a:solidFill>
              <a:srgbClr val="696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150920"/>
              <a:ext cx="9190080" cy="76320"/>
            </a:xfrm>
            <a:prstGeom prst="rect">
              <a:avLst/>
            </a:prstGeom>
            <a:solidFill>
              <a:srgbClr val="6a6a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227240"/>
              <a:ext cx="9190080" cy="56880"/>
            </a:xfrm>
            <a:prstGeom prst="rect">
              <a:avLst/>
            </a:prstGeom>
            <a:solidFill>
              <a:srgbClr val="6b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84120"/>
              <a:ext cx="9190080" cy="76320"/>
            </a:xfrm>
            <a:prstGeom prst="rect">
              <a:avLst/>
            </a:prstGeom>
            <a:solidFill>
              <a:srgbClr val="6c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360440"/>
              <a:ext cx="9190080" cy="77760"/>
            </a:xfrm>
            <a:prstGeom prst="rect">
              <a:avLst/>
            </a:prstGeom>
            <a:solidFill>
              <a:srgbClr val="6d6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438200"/>
              <a:ext cx="9190080" cy="76320"/>
            </a:xfrm>
            <a:prstGeom prst="rect">
              <a:avLst/>
            </a:prstGeom>
            <a:solidFill>
              <a:srgbClr val="6f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514520"/>
              <a:ext cx="9190080" cy="57240"/>
            </a:xfrm>
            <a:prstGeom prst="rect">
              <a:avLst/>
            </a:prstGeom>
            <a:solidFill>
              <a:srgbClr val="707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571760"/>
              <a:ext cx="9190080" cy="77760"/>
            </a:xfrm>
            <a:prstGeom prst="rect">
              <a:avLst/>
            </a:prstGeom>
            <a:solidFill>
              <a:srgbClr val="717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649520"/>
              <a:ext cx="9190080" cy="75960"/>
            </a:xfrm>
            <a:prstGeom prst="rect">
              <a:avLst/>
            </a:prstGeom>
            <a:solidFill>
              <a:srgbClr val="73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725480"/>
              <a:ext cx="9190080" cy="76320"/>
            </a:xfrm>
            <a:prstGeom prst="rect">
              <a:avLst/>
            </a:prstGeom>
            <a:solidFill>
              <a:srgbClr val="74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801800"/>
              <a:ext cx="9190080" cy="57240"/>
            </a:xfrm>
            <a:prstGeom prst="rect">
              <a:avLst/>
            </a:prstGeom>
            <a:solidFill>
              <a:srgbClr val="76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859040"/>
              <a:ext cx="9190080" cy="77760"/>
            </a:xfrm>
            <a:prstGeom prst="rect">
              <a:avLst/>
            </a:prstGeom>
            <a:solidFill>
              <a:srgbClr val="77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936800"/>
              <a:ext cx="9190080" cy="76320"/>
            </a:xfrm>
            <a:prstGeom prst="rect">
              <a:avLst/>
            </a:pr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013120"/>
              <a:ext cx="9190080" cy="75960"/>
            </a:xfrm>
            <a:prstGeom prst="rect">
              <a:avLst/>
            </a:prstGeom>
            <a:solidFill>
              <a:srgbClr val="7b7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089080"/>
              <a:ext cx="9190080" cy="58680"/>
            </a:xfrm>
            <a:prstGeom prst="rect">
              <a:avLst/>
            </a:prstGeom>
            <a:solidFill>
              <a:srgbClr val="7c7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147760"/>
              <a:ext cx="9190080" cy="76320"/>
            </a:xfrm>
            <a:prstGeom prst="rect">
              <a:avLst/>
            </a:prstGeom>
            <a:solidFill>
              <a:srgbClr val="7e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2224080"/>
              <a:ext cx="9190080" cy="763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300400"/>
              <a:ext cx="9190080" cy="77760"/>
            </a:xfrm>
            <a:prstGeom prst="rect">
              <a:avLst/>
            </a:prstGeom>
            <a:solidFill>
              <a:srgbClr val="81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2378160"/>
              <a:ext cx="9190080" cy="57240"/>
            </a:xfrm>
            <a:prstGeom prst="rect">
              <a:avLst/>
            </a:prstGeom>
            <a:solidFill>
              <a:srgbClr val="848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435400"/>
              <a:ext cx="9190080" cy="75960"/>
            </a:xfrm>
            <a:prstGeom prst="rect">
              <a:avLst/>
            </a:prstGeom>
            <a:solidFill>
              <a:srgbClr val="858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511360"/>
              <a:ext cx="9190080" cy="76320"/>
            </a:xfrm>
            <a:prstGeom prst="rect">
              <a:avLst/>
            </a:prstGeom>
            <a:solidFill>
              <a:srgbClr val="878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87680"/>
              <a:ext cx="9190080" cy="77760"/>
            </a:xfrm>
            <a:prstGeom prst="rect">
              <a:avLst/>
            </a:prstGeom>
            <a:solidFill>
              <a:srgbClr val="89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665440"/>
              <a:ext cx="9190080" cy="57240"/>
            </a:xfrm>
            <a:prstGeom prst="rect">
              <a:avLst/>
            </a:prstGeom>
            <a:solidFill>
              <a:srgbClr val="8a8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722680"/>
              <a:ext cx="9190080" cy="75960"/>
            </a:xfrm>
            <a:prstGeom prst="rect">
              <a:avLst/>
            </a:prstGeom>
            <a:solidFill>
              <a:srgbClr val="8d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2798640"/>
              <a:ext cx="9190080" cy="77760"/>
            </a:xfrm>
            <a:prstGeom prst="rect">
              <a:avLst/>
            </a:prstGeom>
            <a:solidFill>
              <a:srgbClr val="8f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2876400"/>
              <a:ext cx="9190080" cy="76320"/>
            </a:xfrm>
            <a:prstGeom prst="rect">
              <a:avLst/>
            </a:prstGeom>
            <a:solidFill>
              <a:srgbClr val="919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2952720"/>
              <a:ext cx="9190080" cy="57240"/>
            </a:xfrm>
            <a:prstGeom prst="rect">
              <a:avLst/>
            </a:prstGeom>
            <a:solidFill>
              <a:srgbClr val="9292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009960"/>
              <a:ext cx="9190080" cy="76320"/>
            </a:xfrm>
            <a:prstGeom prst="rect">
              <a:avLst/>
            </a:prstGeom>
            <a:solidFill>
              <a:srgbClr val="94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086280"/>
              <a:ext cx="9190080" cy="77760"/>
            </a:xfrm>
            <a:prstGeom prst="rect">
              <a:avLst/>
            </a:prstGeom>
            <a:solidFill>
              <a:srgbClr val="96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64040"/>
              <a:ext cx="9190080" cy="75960"/>
            </a:xfrm>
            <a:prstGeom prst="rect">
              <a:avLst/>
            </a:prstGeom>
            <a:solidFill>
              <a:srgbClr val="989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240000"/>
              <a:ext cx="9190080" cy="57240"/>
            </a:xfrm>
            <a:prstGeom prst="rect">
              <a:avLst/>
            </a:prstGeom>
            <a:solidFill>
              <a:srgbClr val="9a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297240"/>
              <a:ext cx="9190080" cy="7776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375000"/>
              <a:ext cx="9190080" cy="76320"/>
            </a:xfrm>
            <a:prstGeom prst="rect">
              <a:avLst/>
            </a:prstGeom>
            <a:solidFill>
              <a:srgbClr val="9d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451320"/>
              <a:ext cx="9190080" cy="75960"/>
            </a:xfrm>
            <a:prstGeom prst="rect">
              <a:avLst/>
            </a:prstGeom>
            <a:solidFill>
              <a:srgbClr val="9f9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527280"/>
              <a:ext cx="9190080" cy="57240"/>
            </a:xfrm>
            <a:prstGeom prst="rect">
              <a:avLst/>
            </a:prstGeom>
            <a:solidFill>
              <a:srgbClr val="a1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584520"/>
              <a:ext cx="9190080" cy="77760"/>
            </a:xfrm>
            <a:prstGeom prst="rect">
              <a:avLst/>
            </a:prstGeom>
            <a:solidFill>
              <a:srgbClr val="a3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662280"/>
              <a:ext cx="9190080" cy="76320"/>
            </a:xfrm>
            <a:prstGeom prst="rect">
              <a:avLst/>
            </a:prstGeom>
            <a:solidFill>
              <a:srgbClr val="a5a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738600"/>
              <a:ext cx="9190080" cy="76320"/>
            </a:xfrm>
            <a:prstGeom prst="rect">
              <a:avLst/>
            </a:prstGeom>
            <a:solidFill>
              <a:srgbClr val="a7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814920"/>
              <a:ext cx="9190080" cy="58680"/>
            </a:xfrm>
            <a:prstGeom prst="rect">
              <a:avLst/>
            </a:prstGeom>
            <a:solidFill>
              <a:srgbClr val="a8a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873600"/>
              <a:ext cx="9190080" cy="75960"/>
            </a:xfrm>
            <a:prstGeom prst="rect">
              <a:avLst/>
            </a:prstGeom>
            <a:solidFill>
              <a:srgbClr val="aaa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49560"/>
              <a:ext cx="9190080" cy="76320"/>
            </a:xfrm>
            <a:prstGeom prst="rect">
              <a:avLst/>
            </a:prstGeom>
            <a:solidFill>
              <a:srgbClr val="aba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025880"/>
              <a:ext cx="9190080" cy="76320"/>
            </a:xfrm>
            <a:prstGeom prst="rect">
              <a:avLst/>
            </a:prstGeom>
            <a:solidFill>
              <a:srgbClr val="ad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102200"/>
              <a:ext cx="9190080" cy="58680"/>
            </a:xfrm>
            <a:prstGeom prst="rect">
              <a:avLst/>
            </a:prstGeom>
            <a:solidFill>
              <a:srgbClr val="aea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160880"/>
              <a:ext cx="9190080" cy="76320"/>
            </a:xfrm>
            <a:prstGeom prst="rect">
              <a:avLst/>
            </a:prstGeom>
            <a:solidFill>
              <a:srgbClr val="af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37200"/>
              <a:ext cx="9190080" cy="75960"/>
            </a:xfrm>
            <a:prstGeom prst="rect">
              <a:avLst/>
            </a:prstGeom>
            <a:solidFill>
              <a:srgbClr val="b1b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313160"/>
              <a:ext cx="9190080" cy="77760"/>
            </a:xfrm>
            <a:prstGeom prst="rect">
              <a:avLst/>
            </a:prstGeom>
            <a:solidFill>
              <a:srgbClr val="b3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390920"/>
              <a:ext cx="9190080" cy="57240"/>
            </a:xfrm>
            <a:prstGeom prst="rect">
              <a:avLst/>
            </a:pr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448160"/>
              <a:ext cx="9190080" cy="7632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524480"/>
              <a:ext cx="9190080" cy="75960"/>
            </a:xfrm>
            <a:prstGeom prst="rect">
              <a:avLst/>
            </a:prstGeom>
            <a:solidFill>
              <a:srgbClr val="b7b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600440"/>
              <a:ext cx="9190080" cy="77760"/>
            </a:xfrm>
            <a:prstGeom prst="rect">
              <a:avLst/>
            </a:prstGeom>
            <a:solidFill>
              <a:srgbClr val="b8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678200"/>
              <a:ext cx="9190080" cy="57240"/>
            </a:xfrm>
            <a:prstGeom prst="rect">
              <a:avLst/>
            </a:prstGeom>
            <a:solidFill>
              <a:srgbClr val="b9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735440"/>
              <a:ext cx="9190080" cy="76320"/>
            </a:xfrm>
            <a:prstGeom prst="rect">
              <a:avLst/>
            </a:prstGeom>
            <a:solidFill>
              <a:srgbClr val="ba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811760"/>
              <a:ext cx="9190080" cy="77760"/>
            </a:xfrm>
            <a:prstGeom prst="rect">
              <a:avLst/>
            </a:prstGeom>
            <a:solidFill>
              <a:srgbClr val="bb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889520"/>
              <a:ext cx="9190080" cy="76320"/>
            </a:xfrm>
            <a:prstGeom prst="rect">
              <a:avLst/>
            </a:prstGeom>
            <a:solidFill>
              <a:srgbClr val="bcb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965840"/>
              <a:ext cx="9190080" cy="56880"/>
            </a:xfrm>
            <a:prstGeom prst="rect">
              <a:avLst/>
            </a:prstGeom>
            <a:solidFill>
              <a:srgbClr val="bdb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022720"/>
              <a:ext cx="9190080" cy="76320"/>
            </a:xfrm>
            <a:prstGeom prst="rect">
              <a:avLst/>
            </a:prstGeom>
            <a:solidFill>
              <a:srgbClr val="be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5099040"/>
              <a:ext cx="9190080" cy="77760"/>
            </a:xfrm>
            <a:prstGeom prst="rect">
              <a:avLst/>
            </a:prstGeom>
            <a:solidFill>
              <a:srgbClr val="bfb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176800"/>
              <a:ext cx="9190080" cy="76320"/>
            </a:xfrm>
            <a:prstGeom prst="rect">
              <a:avLst/>
            </a:prstGeom>
            <a:solidFill>
              <a:srgbClr val="c0c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253120"/>
              <a:ext cx="9190080" cy="5724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310360"/>
              <a:ext cx="9190080" cy="77760"/>
            </a:xfrm>
            <a:prstGeom prst="rect">
              <a:avLst/>
            </a:prstGeom>
            <a:solidFill>
              <a:srgbClr val="c2c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388120"/>
              <a:ext cx="9190080" cy="75960"/>
            </a:xfrm>
            <a:prstGeom prst="rect">
              <a:avLst/>
            </a:prstGeom>
            <a:solidFill>
              <a:srgbClr val="c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464080"/>
              <a:ext cx="9190080" cy="7632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540400"/>
              <a:ext cx="9190080" cy="5724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597640"/>
              <a:ext cx="9190080" cy="77760"/>
            </a:xfrm>
            <a:prstGeom prst="rect">
              <a:avLst/>
            </a:prstGeom>
            <a:solidFill>
              <a:srgbClr val="c5c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5675400"/>
              <a:ext cx="9190080" cy="75960"/>
            </a:xfrm>
            <a:prstGeom prst="rect">
              <a:avLst/>
            </a:prstGeom>
            <a:solidFill>
              <a:srgbClr val="c5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5751360"/>
              <a:ext cx="9190080" cy="76320"/>
            </a:xfrm>
            <a:prstGeom prst="rect">
              <a:avLst/>
            </a:prstGeom>
            <a:solidFill>
              <a:srgbClr val="c6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827680"/>
              <a:ext cx="9190080" cy="58680"/>
            </a:xfrm>
            <a:prstGeom prst="rect">
              <a:avLst/>
            </a:prstGeom>
            <a:solidFill>
              <a:srgbClr val="c7c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886360"/>
              <a:ext cx="9190080" cy="76320"/>
            </a:xfrm>
            <a:prstGeom prst="rect">
              <a:avLst/>
            </a:prstGeom>
            <a:solidFill>
              <a:srgbClr val="c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962680"/>
              <a:ext cx="9190080" cy="7632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039000"/>
              <a:ext cx="9190080" cy="7776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116760"/>
              <a:ext cx="9190080" cy="56880"/>
            </a:xfrm>
            <a:prstGeom prst="rect">
              <a:avLst/>
            </a:prstGeom>
            <a:solidFill>
              <a:srgbClr val="c8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173640"/>
              <a:ext cx="9190080" cy="76320"/>
            </a:xfrm>
            <a:prstGeom prst="rect">
              <a:avLst/>
            </a:prstGeom>
            <a:solidFill>
              <a:srgbClr val="c9c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249960"/>
              <a:ext cx="9190080" cy="76320"/>
            </a:xfrm>
            <a:prstGeom prst="rect">
              <a:avLst/>
            </a:prstGeom>
            <a:solidFill>
              <a:srgbClr val="c9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26280"/>
              <a:ext cx="9190080" cy="77760"/>
            </a:xfrm>
            <a:prstGeom prst="rect">
              <a:avLst/>
            </a:prstGeom>
            <a:solidFill>
              <a:srgbClr val="cac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04040"/>
              <a:ext cx="9190080" cy="5724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61280"/>
              <a:ext cx="9190080" cy="759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537240"/>
              <a:ext cx="9190080" cy="777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615000"/>
              <a:ext cx="9190080" cy="7632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691320"/>
              <a:ext cx="9190080" cy="5724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748560"/>
              <a:ext cx="9190080" cy="759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824520"/>
              <a:ext cx="9190080" cy="777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52640" y="268200"/>
            <a:ext cx="3484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5600" y="326880"/>
            <a:ext cx="328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6640" y="1303200"/>
            <a:ext cx="3823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9800" y="3700440"/>
            <a:ext cx="365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5280" y="3776760"/>
            <a:ext cx="55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00680" y="3297240"/>
            <a:ext cx="3254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35480" y="1930320"/>
            <a:ext cx="6451560" cy="3276720"/>
            <a:chOff x="1635480" y="1930320"/>
            <a:chExt cx="6451560" cy="3276720"/>
          </a:xfrm>
        </p:grpSpPr>
        <p:sp>
          <p:nvSpPr>
            <p:cNvPr id="145" name=""/>
            <p:cNvSpPr/>
            <p:nvPr/>
          </p:nvSpPr>
          <p:spPr>
            <a:xfrm>
              <a:off x="1676520" y="2387520"/>
              <a:ext cx="495288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852720" y="2235240"/>
              <a:ext cx="153720" cy="2895120"/>
              <a:chOff x="3852720" y="2235240"/>
              <a:chExt cx="153720" cy="2895120"/>
            </a:xfrm>
          </p:grpSpPr>
          <p:sp>
            <p:nvSpPr>
              <p:cNvPr id="147" name=""/>
              <p:cNvSpPr/>
              <p:nvPr/>
            </p:nvSpPr>
            <p:spPr>
              <a:xfrm>
                <a:off x="3852720" y="2235240"/>
                <a:ext cx="153720" cy="180144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852720" y="4036680"/>
                <a:ext cx="153720" cy="1093680"/>
                <a:chOff x="3852720" y="4036680"/>
                <a:chExt cx="153720" cy="1093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852720" y="4036680"/>
                  <a:ext cx="153720" cy="10936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852720" y="41331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52720" y="42094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2720" y="42858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52720" y="436356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852720" y="443952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852720" y="451584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52720" y="459360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52720" y="466992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852720" y="47462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852720" y="48240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852720" y="48999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52720" y="49762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852720" y="50540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4266000" y="1930320"/>
              <a:ext cx="186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 DE OBSERVA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92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5207040"/>
              <a:ext cx="417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3388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2520" y="2921040"/>
              <a:ext cx="1218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0160" y="281484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0" y="439740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291200"/>
              <a:ext cx="282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ranurada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2960" y="3681360"/>
              <a:ext cx="53640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35480" y="3406680"/>
              <a:ext cx="1632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Espacio anular relle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         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ravilla seleccion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6:32:09Z</dcterms:created>
  <dc:creator>CParragu</dc:creator>
  <dc:description/>
  <dc:language>en-US</dc:language>
  <cp:lastModifiedBy>CParragu</cp:lastModifiedBy>
  <dcterms:modified xsi:type="dcterms:W3CDTF">2003-04-03T16:49:09Z</dcterms:modified>
  <cp:revision>2</cp:revision>
  <dc:subject/>
  <dc:title>Sin título de diapositiva</dc:title>
</cp:coreProperties>
</file>