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CC4-4C50-472D-9299-A8666F9A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5D1-C2D5-47D4-ABB1-FD02F9BE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970-1016-471D-989D-ECEB599E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AFB-2558-4E73-AB20-52220341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EF1-9A3A-446A-B3AC-3BA5EE8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F7B-09EF-4DF7-AF7C-66D9947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789-4957-4599-A851-F27E3B0D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AF6-1C23-4A3D-B543-9ACACA5C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AD8-04D5-45EF-9B52-4D10C14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326-BD17-423F-9852-1547CF3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B9A-42DB-404E-B633-355CE1D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21A-D1F7-40D8-9E19-32B5562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E829-60E1-448B-A89C-2D0409A59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04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32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54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8800" y="876960"/>
            <a:ext cx="8079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11-12T16:03:41Z</dcterms:modified>
  <cp:revision>698</cp:revision>
  <dc:subject/>
  <dc:title>Sin título de diapositiva</dc:title>
</cp:coreProperties>
</file>