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1D7-0086-4B51-B28F-75C3CAA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B84-1F38-402F-8278-45BF70B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A97-5B81-4A03-9ACC-CEF50486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562-724D-4A10-A5EB-3D669E5B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74D-82E1-446D-ADE8-57DDA533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86A-DC43-44E3-9779-35B6379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075-94C0-4183-8D9E-072DDFB1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DE5-2C80-47E8-9AAA-22CE1B3F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EF7-C26A-4F8F-BAA9-1C8DE56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612-5E70-44B6-8A6C-47744CA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EF9-2174-4705-8324-71426AB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783-7873-4645-9F19-483149F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AC5-8D1A-4223-84CE-125F0A923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04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32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54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8800" y="876960"/>
            <a:ext cx="8079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11-12T16:03:41Z</dcterms:modified>
  <cp:revision>698</cp:revision>
  <dc:subject/>
  <dc:title>Sin título de diapositiva</dc:title>
</cp:coreProperties>
</file>