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4D5-3AB4-4928-847C-FCFB7890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AA1-8A18-4D74-8BE4-70450937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414-AEA3-4987-9B7A-4DEE04F1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1F6-A31F-4267-A448-A23C1E5F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E9A-D441-4803-84BD-661599A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3A4-3C69-4F92-BCA8-BCA7DA9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798-6C57-4DA6-B23B-9E6F250B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E44-AA8C-4835-96F2-EF96E69C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699-F261-451A-842B-177F996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A6A-9FA4-4AB5-B7C9-02E9286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243-1699-4D72-958E-D6E852F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D94-B0FD-442B-ABA1-264714D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6CFE-6CBA-4DCD-B245-4B2F3E383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9-27T20:02:20Z</dcterms:modified>
  <cp:revision>488</cp:revision>
  <dc:subject/>
  <dc:title>Sin título de diapositiva</dc:title>
</cp:coreProperties>
</file>