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BCA7-AE39-45D3-9BD3-2CD096B0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70E7-E112-4613-9393-7DBBF829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4F74-4197-41A9-9ABD-CFCC6B61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EEC8-AE2B-48DB-944A-AA17B6BF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DCE4-5ABE-4671-923A-07015870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E578-C12F-4359-A853-FE7DF04F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CD81-1F08-4C26-A773-3465C11C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1A59-6329-4321-9756-2FF93A20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6800-AB8D-441E-98D8-A362CCDF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9B1D-0DB7-4DA5-84FD-5AD691F1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13B6-8849-41BE-8865-04FA92FA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E135-98CB-415F-868C-9CE828B5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B621-D491-45F0-AD66-CFA75737D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cc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2760" y="1049040"/>
            <a:ext cx="868464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CIP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istribución Areal de la Precip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Para distribuir arealmente las precipitaciones en una cue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a, se utilizan de preferencia el método de los Polígono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Thiessen y el Trazado de Isoye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olígonos de Thies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ubican las estaciones en la cartografía disponible y se tra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la divisoria de aguas de la cuen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trazan rectas que unan las estaciones meteorológicas d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hoya hidrográf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levantan las transversales de gravedad de cada rec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intersectan las transversales de manera que se generen p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lígonos que encierren a las distintas estacion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asigna a dichos polígonos la precipitación de la estación re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pecti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oligonos_de_Thyessen2" descr=""/>
          <p:cNvPicPr/>
          <p:nvPr/>
        </p:nvPicPr>
        <p:blipFill>
          <a:blip r:embed="rId1"/>
          <a:stretch/>
        </p:blipFill>
        <p:spPr>
          <a:xfrm>
            <a:off x="1143000" y="1355760"/>
            <a:ext cx="7010280" cy="5030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2640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cc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9360" y="9133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Polígonos de Thie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cc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3920" y="1628280"/>
            <a:ext cx="8497080" cy="41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CIP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istribución Areal de la Precip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Trazado de Isoye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denomina isoyeta a la línea que une los puntos con ig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precipita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en base a los antecedentes de las estaciones meteorológica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mediante interpolación, se trazan las isoyetas sobre la cuen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asigna al área encerrada por dos isoyetas la media aritmét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ca de és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Este es el método más utilizado y que distribuye de me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forma las precipitaciones sobre una cuenca en estud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02120" y="165996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cc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61840" y="2878560"/>
            <a:ext cx="166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Es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559320" y="304920"/>
          <a:ext cx="474660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9320" y="304920"/>
                    <a:ext cx="474660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02120" y="165996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cc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2400" y="265032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Trazado de Isoy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309840" y="304920"/>
          <a:ext cx="4880160" cy="63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9840" y="304920"/>
                    <a:ext cx="488016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0T20:05:17Z</dcterms:created>
  <dc:creator>Carlos Parraguez D</dc:creator>
  <dc:description/>
  <dc:language>en-US</dc:language>
  <cp:lastModifiedBy>Carlos Parraguez D</cp:lastModifiedBy>
  <dcterms:modified xsi:type="dcterms:W3CDTF">2004-08-30T20:05:35Z</dcterms:modified>
  <cp:revision>1</cp:revision>
  <dc:subject/>
  <dc:title>Presentación de PowerPoint</dc:title>
</cp:coreProperties>
</file>