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9FE-D7F0-43F5-8E4C-C97139A9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1F1-CD0B-4560-93DE-E6EDB675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B8D-3A98-4829-B7C5-03491560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B94-061D-499D-919F-2292A03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E9F-973D-4204-A0FE-7FA10A3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B7C-B01A-47E4-B917-A251C9E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578-35FC-4044-BCF2-D03FDAC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ABF-CAF8-4C25-AC6C-986321C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3D3-38E1-4015-B4D7-60B48E7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D96-70EB-4940-87B8-9B24D5E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29B-4AB3-4692-AA3B-0E1A5AC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AD1-A838-4C58-9A2F-DAA0E73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CEF9-6E94-4AC8-BBE3-C8A4A8F2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0:05:17Z</dcterms:created>
  <dc:creator>Carlos Parraguez D</dc:creator>
  <dc:description/>
  <dc:language>en-US</dc:language>
  <cp:lastModifiedBy>Carlos Parraguez D</cp:lastModifiedBy>
  <dcterms:modified xsi:type="dcterms:W3CDTF">2004-08-30T20:05:35Z</dcterms:modified>
  <cp:revision>1</cp:revision>
  <dc:subject/>
  <dc:title>Presentación de PowerPoint</dc:title>
</cp:coreProperties>
</file>