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FE95-7D98-4EF2-A3F9-7FBC8B35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455F-22C0-4372-9456-C23E83E3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E0FE-26F1-49E0-8B39-C88FDD2B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680-30B6-4022-84DF-26144D3C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94C-E7CB-4145-B19F-405D2DA1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442-9E46-42E3-9DC4-1412D2AD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96E-1155-47FF-BFDE-DB180ACF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6182-8FDA-4406-A195-71B2DEE1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04FE-68EE-47BB-9838-36AA3A08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AED-B63B-4674-8791-9474EACA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403D-6E68-4173-904D-19065019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A63-F4E4-484D-A20F-87A589A6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ECE9-0A4D-473D-A53D-E69FA3611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2760" y="1049040"/>
            <a:ext cx="868464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 Areal de la 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Para distribuir arealmente las precipitaciones en una cue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a, se utilizan de preferencia el método de los Polígon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Thiessen y el Trazado de Isoy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olígonos de Thie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ubican las estaciones en la cartografía disponible y se tr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la divisoria de aguas de la cuen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trazan rectas que unan las estaciones meteorológicas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hoya hidrográ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levantan las transversales de gravedad de cada rec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intersectan las transversales de manera que se generen p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lígonos que encierren a las distintas estacion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asigna a dichos polígonos la precipitación de la estación re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pec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oligonos_de_Thyessen2" descr=""/>
          <p:cNvPicPr/>
          <p:nvPr/>
        </p:nvPicPr>
        <p:blipFill>
          <a:blip r:embed="rId1"/>
          <a:stretch/>
        </p:blipFill>
        <p:spPr>
          <a:xfrm>
            <a:off x="1143000" y="1355760"/>
            <a:ext cx="7010280" cy="5030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2640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9360" y="9133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Polígonos de Thie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920" y="1628280"/>
            <a:ext cx="849708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 Areal de la 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Trazado de Isoy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denomina isoyeta a la línea que une los puntos con ig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precipita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en base a los antecedentes de las estaciones meteorológica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mediante interpolación, se trazan las isoyetas sobre la cuen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asigna al área encerrada por dos isoyetas la media aritmét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ca de és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Este es el método más utilizado y que distribuye de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forma las precipitaciones sobre una cuenca en estu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02120" y="165996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1840" y="2878560"/>
            <a:ext cx="166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Es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559320" y="304920"/>
          <a:ext cx="474660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9320" y="304920"/>
                    <a:ext cx="474660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02120" y="165996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2400" y="265032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Trazado de Isoy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309840" y="304920"/>
          <a:ext cx="488016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9840" y="304920"/>
                    <a:ext cx="488016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20:05:17Z</dcterms:created>
  <dc:creator>Carlos Parraguez D</dc:creator>
  <dc:description/>
  <dc:language>en-US</dc:language>
  <cp:lastModifiedBy>Carlos Parraguez D</cp:lastModifiedBy>
  <dcterms:modified xsi:type="dcterms:W3CDTF">2004-08-30T20:05:35Z</dcterms:modified>
  <cp:revision>1</cp:revision>
  <dc:subject/>
  <dc:title>Presentación de PowerPoint</dc:title>
</cp:coreProperties>
</file>