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3EE1-AF79-422F-A741-A08A2EDD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BB2-1E0D-4F3F-B78D-87399B9B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C82-21F7-4107-8D02-98482E04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6B4-9CAD-4CC7-BF19-B51BF7456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D9C-A3C1-4EA3-9631-E6FE0339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1C3-5BFD-465E-A591-A369A76B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D5D-218A-4D1B-A6F6-29D76028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4EF5-E5CE-4257-86C2-B6705E26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E2B-A631-44E2-B72E-3698D699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C86-D307-4C77-8C9C-24F8784C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A39-4316-42E4-90E3-9DE1BFDD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9ED-2C02-4488-8317-024C4270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9917-BBB5-40E5-A907-F99646025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2760" y="1049040"/>
            <a:ext cx="868464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Para distribuir arealmente las precipitaciones en una cu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a, se utilizan de preferencia el método de los Polígono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Thiessen y el Trazado de Isoy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olígonos de Thie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ubican las estaciones en la cartografía disponible y se tra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la divisoria de aguas de la cuen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trazan rectas que unan las estaciones meteorológicas d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hoya hidrográ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levantan las transversales de gravedad de cada rec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intersectan las transversales de manera que se generen p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lígonos que encierren a las distintas estacion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asigna a dichos polígonos la precipitación de la estación re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pec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oligonos_de_Thyessen2" descr=""/>
          <p:cNvPicPr/>
          <p:nvPr/>
        </p:nvPicPr>
        <p:blipFill>
          <a:blip r:embed="rId1"/>
          <a:stretch/>
        </p:blipFill>
        <p:spPr>
          <a:xfrm>
            <a:off x="1143000" y="1355760"/>
            <a:ext cx="7010280" cy="5030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2640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9360" y="9133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Polígonos de Thie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21480" y="3643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920" y="1628280"/>
            <a:ext cx="849708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 Areal de la Precip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zado de Isoy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denomina isoyeta a la línea que une los puntos con ig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precipitació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en base a los antecedentes de las estaciones meteorológica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mediante interpolación, se trazan las isoyetas sobre la cuen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- se asigna al área encerrada por dos isoyetas la media aritméti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ca de é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Este es el método más utilizado y que distribuye de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forma las precipitaciones sobre una cuenca en estu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1840" y="2878560"/>
            <a:ext cx="166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Es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559320" y="304920"/>
          <a:ext cx="474660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9320" y="304920"/>
                    <a:ext cx="474660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2120" y="165996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3333cc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2400" y="265032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Trazado de Isoy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09840" y="304920"/>
          <a:ext cx="4880160" cy="63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9840" y="304920"/>
                    <a:ext cx="488016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0:05:17Z</dcterms:created>
  <dc:creator>Carlos Parraguez D</dc:creator>
  <dc:description/>
  <dc:language>en-US</dc:language>
  <cp:lastModifiedBy>Carlos Parraguez D</cp:lastModifiedBy>
  <dcterms:modified xsi:type="dcterms:W3CDTF">2004-08-30T20:05:35Z</dcterms:modified>
  <cp:revision>1</cp:revision>
  <dc:subject/>
  <dc:title>Presentación de PowerPoint</dc:title>
</cp:coreProperties>
</file>