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E8D-097E-425F-A6F8-85D5C505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0A3F-0644-418E-893A-1DCFA742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B5B-CBE0-4C3D-B977-A79DA897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B0B-9E27-48E1-819E-6E80BA75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9BB6-7AF5-46A4-8CFE-BC8886E0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EA8F-0000-4322-9E11-D3CE6E51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C99B-208A-4449-9B9A-44DFA46A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35A2-C82D-421E-8390-7F3D3D95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42EF-6E49-4D0B-A7D1-2417B0F2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6F86-0427-4C8D-82EB-544413B2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96B7-FC51-4AE5-B80B-A669BC62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F90-33A1-4E3F-A39D-C2C44BB3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643C-1BF0-4504-BACE-22E5A07B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49BF-D7D3-4971-87AB-F16391C2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2F5C-A462-49CE-A687-BC2D9883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A16C-B8B1-40F6-8FF8-370CE6E4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CFCC-7822-4271-ABC5-39731A24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561-0734-4CE4-9628-2E5C4D41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014-D7E4-4397-B25B-5A6E0C73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524-BC43-4EA0-9D64-7033B58F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775-210D-43C6-B40F-E12CE3F2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274-31A5-4720-8006-AB75271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0BB-21CA-4435-991F-465FDCED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601-7359-4C18-915B-62B79001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7A09-AB6C-4B40-80E4-F1B970C2D5B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512A-EFDE-452A-8707-A35168DED0B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8f8f8"/>
                </a:solidFill>
                <a:latin typeface="Tahoma"/>
              </a:rPr>
              <a:t>GEOTERMOBAROMETRÍA DE ROCAS ÍGNEA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1752480"/>
            <a:ext cx="8305560" cy="51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cationes de reactantes y productos tienen diferentes números de coordinación. Estas reacciones presentan gran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ΔV y son usadas como geobarómetr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j:  (geobarómetro </a:t>
            </a:r>
            <a:r>
              <a:rPr b="0" i="1" lang="es-ES_tradnl" sz="2400" spc="-1" strike="noStrike">
                <a:solidFill>
                  <a:srgbClr val="ffff66"/>
                </a:solidFill>
                <a:latin typeface="Times New Roman"/>
              </a:rPr>
              <a:t>GASP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2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+ Ca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1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+ Si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= 3Ca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ky                            gt                   qz                a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838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4) </a:t>
            </a: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Reacciones de transferencia de masa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5375160" cy="594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3505320" cy="1360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943600" y="609480"/>
            <a:ext cx="2895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8f8f8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Cálculo mediante multi-equilibri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imes New Roman"/>
              </a:rPr>
              <a:t>Software Geocalc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imes New Roman"/>
              </a:rPr>
              <a:t>TWQ, Thermocalc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ahoma"/>
              </a:rPr>
              <a:t>Geotermómetr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de dos feldespatos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Se basa en la solución sólida entre los tres tipos composicionales de feldespato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Xan + Xab + Xor = 1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5" name="feldspar" descr=""/>
          <p:cNvPicPr/>
          <p:nvPr/>
        </p:nvPicPr>
        <p:blipFill>
          <a:blip r:embed="rId1"/>
          <a:srcRect l="0" t="0" r="49440" b="49731"/>
          <a:stretch/>
        </p:blipFill>
        <p:spPr>
          <a:xfrm>
            <a:off x="3048120" y="3352680"/>
            <a:ext cx="31240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35053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A baja Tº (&lt;450º C)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calibración microclina-albita baja (rocas metamórficas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A alta Tº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hay solución sólida entre los tres componentes. Si hay equilibrio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7" name="feldspar" descr=""/>
          <p:cNvPicPr/>
          <p:nvPr/>
        </p:nvPicPr>
        <p:blipFill>
          <a:blip r:embed="rId1"/>
          <a:srcRect l="0" t="49731" r="0" b="0"/>
          <a:stretch/>
        </p:blipFill>
        <p:spPr>
          <a:xfrm>
            <a:off x="1371600" y="457200"/>
            <a:ext cx="5276880" cy="2550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99360" y="5410080"/>
            <a:ext cx="449532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cc"/>
                </a:solidFill>
                <a:latin typeface="Tahoma"/>
                <a:ea typeface="Times New Roman"/>
              </a:rPr>
              <a:t>Asumiendo que no hay s.s. entre an y or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0099cc"/>
                </a:solidFill>
                <a:latin typeface="Tahoma"/>
                <a:ea typeface="Times New Roman"/>
              </a:rPr>
              <a:t>an</a:t>
            </a:r>
            <a:r>
              <a:rPr b="0" lang="es-ES_tradnl" sz="3200" spc="-1" strike="noStrike" baseline="30000">
                <a:solidFill>
                  <a:srgbClr val="0099cc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0099cc"/>
                </a:solidFill>
                <a:latin typeface="Tahoma"/>
                <a:ea typeface="Times New Roman"/>
              </a:rPr>
              <a:t>or</a:t>
            </a:r>
            <a:r>
              <a:rPr b="0" lang="es-ES_tradnl" sz="3200" spc="-1" strike="noStrike" baseline="30000">
                <a:solidFill>
                  <a:srgbClr val="0099cc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 = 0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590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Or (K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590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b (Na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</a:rPr>
              <a:t>Simplificación (a P=cte.)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0 (no solución sólida entre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feld K y anortita)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RTln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RTln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En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-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º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 RTln (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/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) = 0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  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       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γ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X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γ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Whitney%20y%20Stormer" descr=""/>
          <p:cNvPicPr/>
          <p:nvPr/>
        </p:nvPicPr>
        <p:blipFill>
          <a:blip r:embed="rId1"/>
          <a:srcRect l="0" t="0" r="1399" b="0"/>
          <a:stretch/>
        </p:blipFill>
        <p:spPr>
          <a:xfrm>
            <a:off x="914400" y="533520"/>
            <a:ext cx="6912000" cy="5349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81080" y="5867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Whitney &amp; Stormer (1977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1523880"/>
            <a:ext cx="7162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Dificultades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Frecuentes re-equilibrios sub-solidus (exsoluciones y alteración) en rocas intrusivas y metamórficas de alto grado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ferentes estados estructurales de feldespatos, especialmente feld-K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 pesar de eso, buena aplicación en rocas volcánicas riolíticas y en intrusiones epizonal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2)</a:t>
            </a: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 Geotermometría de dos piroxenos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aplicación en granulitas, gabros (basaltos) y rocas ígneas intermedias a félsica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rimera calibraciones basadas en intercambio catiónico Ca-Mg (Wells, 1977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Kretz (1982): modelo ternario y otro de intercambio Fe-Mg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Calibraciones más completas: Lindsley (1983), Davidson y Lindsley (1985): incluyen correcciones para componentes fuera del cuadrilátero (Fs-En-Di-Hd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XQUAD" descr=""/>
          <p:cNvPicPr/>
          <p:nvPr/>
        </p:nvPicPr>
        <p:blipFill>
          <a:blip r:embed="rId1"/>
          <a:srcRect l="0" t="0" r="0" b="12420"/>
          <a:stretch/>
        </p:blipFill>
        <p:spPr>
          <a:xfrm>
            <a:off x="1066680" y="609480"/>
            <a:ext cx="7223400" cy="3624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0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228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28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H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267080"/>
            <a:ext cx="81536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Con el aumento de temperatura, aumenta Ca en opx y disminuye Ca en cpx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Calibraciones de Lindsley (1983) a cuatro diferentes presiones (1 atm, 5, 10 y 15 kbar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El desarrollo del multi-equilibrio QUILF permite calcular temperaturas a diferentes presiones, basado en las calibraciones de Lindsley (1983). Presenta leve dependencia con la presión (&lt;8ºC/kbar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99ff"/>
                </a:solidFill>
                <a:latin typeface="Tahoma"/>
              </a:rPr>
              <a:t>3)</a:t>
            </a:r>
            <a:r>
              <a:rPr b="1" lang="es-ES_tradnl" sz="3200" spc="-1" strike="noStrike">
                <a:solidFill>
                  <a:srgbClr val="f8f8f8"/>
                </a:solidFill>
                <a:latin typeface="Tahoma"/>
              </a:rPr>
              <a:t> Clinopiroxeno-hornblenda: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este equilibrio, basado en intercambio Fe-Mg, no ha sido profundamente desarrollado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Kretz y Jen (1978) proponen un coeficiente de distribución (Kd) entre las fases. Ellos además hicieron notar el importante efecto de Al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 en la hornblenda sobre este Kd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3" name="cpx-hbl" descr=""/>
          <p:cNvPicPr/>
          <p:nvPr/>
        </p:nvPicPr>
        <p:blipFill>
          <a:blip r:embed="rId1"/>
          <a:srcRect l="1176" t="0" r="0" b="0"/>
          <a:stretch/>
        </p:blipFill>
        <p:spPr>
          <a:xfrm>
            <a:off x="2932200" y="4214880"/>
            <a:ext cx="3024000" cy="2414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2120" y="3330720"/>
            <a:ext cx="70866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K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D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 = {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px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/(1-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px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} * {(1-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hbl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/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hbl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}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donde X es el radio catiónico Mg/(Mg+Fe</a:t>
            </a:r>
            <a:r>
              <a:rPr b="0" lang="es-MX" sz="24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2+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 de cada min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rimeros estudios en aureolas de contact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Isogradas metamórfica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gla de las fas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A partir de  los años 60: relaciones actividad-composición en sólidos – bases de datos termodinámicamente consistent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Existe una relación entre composición de minerales en equilibrio y condiciones de cristalización 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(P, T°, </a:t>
            </a:r>
            <a:r>
              <a:rPr b="0" i="1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f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O</a:t>
            </a:r>
            <a:r>
              <a:rPr b="0" lang="es-MX" sz="28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, </a:t>
            </a:r>
            <a:r>
              <a:rPr b="0" i="1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H</a:t>
            </a:r>
            <a:r>
              <a:rPr b="0" lang="es-MX" sz="28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O).</a:t>
            </a:r>
            <a:r>
              <a:rPr b="0" lang="es-E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4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Hornblenda-plagioclasa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muy difundido y extensivamente utilizado en la literatura. Blundy y Holland (1990) presentaron una calibración para el equilibrio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Na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l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4Si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= 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NaAl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     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edenita                        cuarzo      tremolita                 albit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osteriormente, Holland y Blundy (1994), utilizando modelos de solución no ideal en anfíbola, revisaron este equilibrio, proponiendo una nueva calibración para éste e introduciendo un nuevo equilibrio geotermométrico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Na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l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 NaAl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 Na(Ca,Na)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CaAl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edenita                   albita             richterita                       anortit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a primera reacción es aplicable a rocas saturadas en cuarzo, mientras que la segunda presenta la ventaja de no requerir presencia de cuarzo en la paragénesis de equilibrio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T</a:t>
            </a:r>
            <a:r>
              <a:rPr b="1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1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[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-76.95 + 0.79P + Y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b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39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22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b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K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(41.5-2.89P)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2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1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-0,0650 – R*ln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(27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Si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/(256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l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donde R= 0.0083144KjK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-1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mol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-1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dado por 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gt; 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0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lt; 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12*(1-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– 3.0Kj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Esta ecuación presenta las siguientes restricciones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T° entre 400° y 900°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nfibol con Na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&gt; 0.02 a.p.f.u., Al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VI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1.8 a.p.f.u. y Si entre 6.0 y 7.7 a.p.f.u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lagioclasa con X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0.90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T2=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[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78.44+Y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b-an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–33.6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4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–(66.8-2.92P)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2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l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+78.5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T1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l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+ 9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0.0721 – R*ln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(27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Si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/(64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l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R se obtiene de igual manera que en la ecuación anterior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dado por 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gt;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3.0Kj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          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lt;0.5, Y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12*(2X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-1) + 3.0 Kj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Este geotermómetro presenta las siguientes restricciones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plicable para T° entre 500° y 900°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nfibol con X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gt; 0,03, Al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VI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1.8 a.p.f.u. y Si entre 6.0 y 7.7 a.p.f.u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lagioclasa con X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entre 0.1 y 0.9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os mismos autores incluyen además un método para estimar la razón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/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en las anfíbolas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Aplicació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Intrusivos de composición granítica a gábrica y en anfibolitas y otras metabasitas. En general, la anfíbola cristaliza en condiciones muy cercanas al solidus, por lo que los resultados dan temperaturas de solidificación del cuerpo plutónic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5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óxidos de Fe-Ti: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coexistencia de dos soluciones sólidas de óxidos Fe-Ti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A) romboédricos: solución sólida hematita-ilmenita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B) cúbicos: solución sólida magnetita - ulvoespinel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 algn="just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Este equilibrio permite el cálculo de temperatura de cristalización de óxidos Fe-Ti y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. La estabilidad de estos minerales depende de Tº, Xi,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y P, siendo esta variable la menos importante. La estabilidad de estos minerales se ha ido conociendo a través de reacciones de buffer simples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uffer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reacción en que participa un grupo de sólidos y una fase gaseosa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Buffer externo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la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del magma es controlada por la fase gaseosa presente (exsuelta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Buffer interno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controlada por cristalización de un buffer (ocurre reacción) – sigue un trend tipo buff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buffers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962680" cy="6159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352680" y="53352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4Fe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+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=6Fe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160020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Ni+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=Ni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152388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2Fe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+3SiO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3Fe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SiO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+O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3429000"/>
            <a:ext cx="259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3FeO+1/2O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=Fe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32484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533520"/>
            <a:ext cx="830556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tros buffers internos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4CaMg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FeT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= 2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CaTi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Mg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opsido         ilmenita            hematita       esfeno         enstati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3CaTi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2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3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= 3CaFe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3FeT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esfeno   magnetita cuarzo     hedenbergita ilmeni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6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Geotermómetro olivino-augita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(Loucks, 1996)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Intercambio catiónico Fe-Mg, calibrado experimentalmente a 1bar. Este intercambio es controlado por un coeficiente de distribución Kd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K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= (Fe/Mg)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ol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(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Mg)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au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Para la reacción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Mg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+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= 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+Mg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A partir de esto, la ecuación geotermométrica es la siguiente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lnK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-78.025= (-5945.96/T) – 10.1327lnT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Aplicación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rocas máficas a félsicas intrusivas y extrusivas a presiones hasta 10 kbar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rincipios fundament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ondición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0 =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ΔG</a:t>
            </a:r>
            <a:r>
              <a:rPr b="0" i="1" lang="es-MX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0</a:t>
            </a: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RT </a:t>
            </a: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ln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K</a:t>
            </a: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ΔG</a:t>
            </a:r>
            <a:r>
              <a:rPr b="0" i="1" lang="es-MX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0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f(P y T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K f(X y a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7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Geotermometría de saturación en circón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Watson y Harrison (1983) presentaron un modelo para estimar temperatura a la cual ocurre saturación de circón en magmas (condiciones hiper-solidus). El rango de temperatura de los datos experimentales varía entre 750 y 1020º 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lnD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Zr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circón/melt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={-3.80-[0.85*(M-1)]}+ {12900/T}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onde M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(Na+K+2Ca)/(Al*Si) radio catiónico de la roca en cuestión y D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Zr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circón/melt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la razón de concentración de Zr en circón estequiométrico sobre la concentración en el magma (que es representada por la concentración en ppm en la roca estudiada).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plicación: en rocas principalmente intrusivas con circón como fase accesoria. Harrison y Watson (1984) presentaron un modelo similar para temperatura de saturación en apatito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ahoma"/>
              </a:rPr>
              <a:t>Geobarómetro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36376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a) determinar 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</a:rPr>
              <a:t>presió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de emplazamiento de un plutó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b) determinar 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</a:rPr>
              <a:t>presió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de la fuente que generó los magmas o una pausa en el ascenso del magm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29528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Sirven para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30492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1) Al en hornblenda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uno de los métodos + utilizados y + revisado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Se basa en correlación positiva entre el contenido de Al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en la hbl y la presión de cristalización de la roca plutónica en la que está contenido el mineral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ara asociaciones con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Qz + feld K + pl + bio + hbl + titanita + oxidos Fe-Ti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Equilibrio barométrico (Hollister et al., 1987)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2Qz + 2An + bio = or + tscherma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Ca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(Mg,Fe)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Al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Al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2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(OH)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7680" y="5743440"/>
            <a:ext cx="794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Con aumento de la P, el equilibrio se desplaza a la derecha, causando que el anfíbol cambie en composición por el vector de intercambio Si + Mg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 = Al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 + Al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30492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sultados se interpretan como P de emplazamiento del plutón si hbl ocurre como fase cercana al solidu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chmidt (1992): trabajo en tonalita, bajo P= 2,5 –13 kbar y T=655-700°C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P (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  <a:ea typeface="Tahoma"/>
              </a:rPr>
              <a:t>±0,6 kbar) = -3,01 + 4,76*Al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ahoma"/>
                <a:ea typeface="Tahoma"/>
              </a:rPr>
              <a:t>hb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ahoma"/>
                <a:ea typeface="Tahoma"/>
              </a:rPr>
              <a:t>t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bajo condiciones saturadas en agu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Anderson y Smith (1995): P depende de T y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stricciones en la composición de anfíboles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Mg/(Mg + Fe)&gt;0,35 y 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(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+ 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)&gt;0,2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P (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  <a:ea typeface="Tahoma"/>
              </a:rPr>
              <a:t>±0,6 kbar) = -3,01 + 4,76*Al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 ((T-675)/85)*(0,530*Al +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0,005294*(T-675)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181480"/>
            <a:ext cx="792468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e mide en los bordes de anfíboles por estar seguro de que está en equilibrio con Qz (fase tardía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304920"/>
            <a:ext cx="7620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2) Estabilidad de epidota magmátic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123920"/>
            <a:ext cx="4419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geobarómetro que apunta a la fuent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e reconoce por forma euhedral a subhedra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Mineral estable a alta P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generalmente englobada por otros minerales (Qz o feld K; que no tienen afinidad química con ella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i no está protegida, presenta cara corroída. Se conoce tasa de disolución de epidota y, por lo tanto, se puede estimar tiempo de disolución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i no hay corrosión, ascenso fue muy rápido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Intersección de curvas de estabilidad de epidota y mineral que la hospeda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P y T° bajo ciertas condiciones de oxidación /reducción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0" name="ep%20magmatica" descr=""/>
          <p:cNvPicPr/>
          <p:nvPr/>
        </p:nvPicPr>
        <p:blipFill>
          <a:blip r:embed="rId1"/>
          <a:stretch/>
        </p:blipFill>
        <p:spPr>
          <a:xfrm>
            <a:off x="5213520" y="1447920"/>
            <a:ext cx="3000240" cy="4800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62120" y="5715000"/>
            <a:ext cx="4572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03500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Schmidt y Thompson (1996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51520" y="5335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3) Sílice - px tschermakítico – anortita (SCAn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523880"/>
            <a:ext cx="822960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presencia de cpx (componente tschermakítico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CaTs), pl y Qz en equilibrio (McCarthy y Patiño Douce, 1998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atos experimentales desarrollados en un amplio rango de P y T° (4-32 kbar; 900-1400°C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reacción: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x tsch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Qz         A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Aplicable en granulitas y rocas gábricas y basáltica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 (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2,5kbar) =( ((5,06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0,76)+((1300±800)/T)-lnK)/(276±16))*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P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(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1kbar) =( ((6,330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0,116)-lnK)/(301±9))*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K= a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An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p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/a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CaTs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cpx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20480" y="3049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Fugacidad de agu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984240"/>
            <a:ext cx="8610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l cálculo de fugacidades de volátiles depende altamente de la T° y, para algunas reacciones, de la P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ases máficas hidratadas son las + comunes en granitoides. Px y Ol fayalítico indican alta T° y/o baja fugacidad de agua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Hay tres equilibrios para determinar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1)  flogopita+3Qz=3En+sanidina+agua (Bohlen y otros, 1983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) annita+3/2 Qz = sanidina + fayalita + agua (Emslie y Stirling, 1993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 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 (bar)=( -7402/T (°K)) + 10,84 + (0,036*(P-1)/T) +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ann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3/2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iO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anidin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3/2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fayal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3) ASM: annita + ½ 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= sanidina + mt + 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O (Wones, 1981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  <a:ea typeface="Tahoma"/>
              </a:rPr>
              <a:t>log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 (bar)=(4819/T(°K))+6,69+3logX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ann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1/2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0,011*(P-1))/T + log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anidin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log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m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también utilizado para calcular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biotitas" descr=""/>
          <p:cNvPicPr/>
          <p:nvPr/>
        </p:nvPicPr>
        <p:blipFill>
          <a:blip r:embed="rId1"/>
          <a:srcRect l="0" t="0" r="0" b="1985"/>
          <a:stretch/>
        </p:blipFill>
        <p:spPr>
          <a:xfrm>
            <a:off x="1523880" y="762120"/>
            <a:ext cx="5489640" cy="4491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5638680"/>
            <a:ext cx="79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X</a:t>
            </a:r>
            <a:r>
              <a:rPr b="0" lang="es-ES" sz="2400" spc="-1" strike="noStrike" baseline="-25000">
                <a:solidFill>
                  <a:srgbClr val="f8f8f8"/>
                </a:solidFill>
                <a:latin typeface="Tahoma"/>
              </a:rPr>
              <a:t>an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= Fe/(Fe+Al</a:t>
            </a:r>
            <a:r>
              <a:rPr b="0" lang="es-ES" sz="24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+Ti+Mn+Mg)        en sitio octaédric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457200"/>
            <a:ext cx="6400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&lt;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ub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&gt;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obre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02920" y="190512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Fugacidad de oxígen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514600"/>
            <a:ext cx="87631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1)  3CaTi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2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3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3CaFe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3FeT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sfeno    magnetita              hedenbergita  ilmen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(-30930/T(°K)) + 14,98 + (0,142*(P-1))/T    (Wones, 1989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)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QFM: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+3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=3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+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magnetita   Qz     fayal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(-25096,3/T(°K)) + 8,735 + (0,110*(P-1))/T –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0" lang="es-ES_tradnl" sz="2000" spc="-1" strike="noStrike" baseline="30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fayal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0" lang="es-ES_tradnl" sz="2000" spc="-1" strike="noStrike" baseline="30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magnet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365040"/>
            <a:ext cx="876312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Cummingtonita (anfíbola ferromagnesiana monoclínica)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n general, presencia de cummingtonita en rocas volcánicas indica condiciones cercanas a saturación en 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 y baja profundidad (&lt; 4 kbar). La ocurrencia de este mineral en presencia de magnetita, cuarzo y ortopiroxeno presenta importante dependencia con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. A P y T conocida,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de cristalización puede ser estimada a través de diagramas de fase (Evans y Ghiorso, 1995)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a principal reacción involucrada en el sistema es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6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7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14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48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6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cummingtonita              magnetita    cuarz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os resultados obtenidos con este equilibrio en rocas volcánicas son muy similares a los obtenidos mediante composición de óxidos Fe-Ti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n ausencia de magnetita y cuarzo, cummingtonita es estable a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menore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800600" cy="3765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1055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Geotermómetros poco dependientes de presió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Geobarómetros poco dependientes de temperatur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cummintonita" descr=""/>
          <p:cNvPicPr/>
          <p:nvPr/>
        </p:nvPicPr>
        <p:blipFill>
          <a:blip r:embed="rId1"/>
          <a:srcRect l="0" t="0" r="0" b="53789"/>
          <a:stretch/>
        </p:blipFill>
        <p:spPr>
          <a:xfrm>
            <a:off x="1447920" y="457200"/>
            <a:ext cx="6553080" cy="4803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23880" y="5334120"/>
            <a:ext cx="6400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Isópletas representan fracción de grunerita en cummingtonita (XFe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XFe = Fe/(Fe+Mg+Ca+M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99ff"/>
                </a:solidFill>
                <a:latin typeface="Tahoma"/>
              </a:rPr>
              <a:t>Estimación de Fe</a:t>
            </a:r>
            <a:r>
              <a:rPr b="0" lang="es-ES_tradnl" sz="3600" spc="-1" strike="noStrike" baseline="30000">
                <a:solidFill>
                  <a:srgbClr val="6699ff"/>
                </a:solidFill>
                <a:latin typeface="Tahoma"/>
              </a:rPr>
              <a:t>3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Cálculo se basa en balance de carga al interior del mineral (Droop, 1987). Para esto se asume lo siguiente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e es el único catión con valencia variable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xígeno es el único anión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tios catiónicos sin vacanci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F = 2X*(1-T/S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: nº de cationes de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X: nº de oxígenos en fórmula estructura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T: cantidad ideal de cationes totales en fórmula estructura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: suma de cationes obtenida inicialmente cuando todo el Fe se asume como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7696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Para composiciones ideales (miembros extremos): 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</a:rPr>
              <a:t>a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= 1  K=1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En condición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U=TdS – PdV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(δU/δS)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V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(δU/ δV)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S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-P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4290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rincipio de Le Chatelier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 si un sistema se ve modificado por una variable, el sistema reacciona modificando otr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8f8f8"/>
                </a:solidFill>
                <a:uFillTx/>
                <a:latin typeface="Tahoma"/>
              </a:rPr>
              <a:t>Ecuación de Clapeyr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G = -SdT + Vd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En condiciones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G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alcita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= G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onit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T + 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P = 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T + 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(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)dP = (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)d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114800"/>
            <a:ext cx="76176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29000" y="5257800"/>
            <a:ext cx="2076480" cy="1069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7086600" y="4800240"/>
            <a:ext cx="0" cy="114300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594360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086600" y="5181480"/>
            <a:ext cx="1066680" cy="4572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876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r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8f8f8"/>
                </a:solidFill>
                <a:latin typeface="Tahoma"/>
              </a:rPr>
              <a:t>Equilibrios geotermométricos caracterizados por mayores cambios de la  entropía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8f8f8"/>
                </a:solidFill>
                <a:latin typeface="Tahoma"/>
              </a:rPr>
              <a:t>Equilibrios geobarométricos caracterizados por mayores cambios de volumen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Tipos de equilibrios geotermobarométr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499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Paragénesis minerales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más utilizadas en   rocas metamórficas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 algn="just">
              <a:spcBef>
                <a:spcPts val="499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Huecos de miscibilidad o solvus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usados como geotermómetros (ej.: cpx-opx, calcita-dolomita, plagioclasa-feldespato alcalino). Puede presentar errores importantes debido a que pequeños cambios composicionales pueden traer grandes cambios de temperatura. Además la curva de solvus varía con la presión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1" name="feldspar" descr=""/>
          <p:cNvPicPr/>
          <p:nvPr/>
        </p:nvPicPr>
        <p:blipFill>
          <a:blip r:embed="rId1"/>
          <a:srcRect l="0" t="49731" r="0" b="0"/>
          <a:stretch/>
        </p:blipFill>
        <p:spPr>
          <a:xfrm>
            <a:off x="2438280" y="3657600"/>
            <a:ext cx="5276880" cy="2550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5530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Or (K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b (Na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3) </a:t>
            </a: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Reacciones de intercambio catiónic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3033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43000" y="91440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generalmente usados como geotermómetros (ej: granate-biotita, granate-clinopiroxeno, anfíbola-plagioclasa, óxidos Fe-Ti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iagramas de distribución de Fe y Mg entre granate y clinopiroxen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22:07:59Z</dcterms:created>
  <dc:creator>Geología U. de Chile</dc:creator>
  <dc:description/>
  <dc:language>en-US</dc:language>
  <cp:lastModifiedBy>Silke</cp:lastModifiedBy>
  <dcterms:modified xsi:type="dcterms:W3CDTF">2004-08-30T13:13:16Z</dcterms:modified>
  <cp:revision>62</cp:revision>
  <dc:subject/>
  <dc:title>GEOTERMOBAROMETRÍA DE ROCAS ÍGNEAS</dc:title>
</cp:coreProperties>
</file>