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777-7408-4D1B-B171-59781A81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D73-5783-49B2-B99C-CAE567FF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7D0A-52A7-40D8-98C3-82214EEE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507-F844-4235-926C-88236C7F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7FD4-0D8C-426A-80A5-45814579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5EEB-ADEA-4EBC-AD07-0EC91169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3E56-5ABF-4A40-8F20-DFAF4D95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A274-D5EC-4A40-B7AC-526A2142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66DE-DC1E-471E-A067-7DE2E1AE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3B0E-A07B-4F51-B9C0-80F77783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632F-CDC0-4E79-B962-5A461B0B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8FC-4FC7-40E7-ADE4-C9D83A04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45DA-151A-4F8C-ABFF-5CA3FE06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8555-98AF-41A3-927D-CE2E9B3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F859-76DA-41C7-BC7E-36FC959A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5DAD-F47F-4014-BB0C-B7D11F57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E01C-85B4-4C5B-BE8A-F98D3105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146-531C-4580-AA6C-82A74A3A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CC2-6416-4A91-9916-45C5C3BB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F9C-92EB-452C-B584-2B561F31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1BB-E3B5-4E5F-BC25-8ADF77F8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B736-8419-4476-AD27-79835F15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CC26-38DA-4FCD-B6BC-524E219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493-37A7-4C31-B303-F4151D96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082B-F478-40D0-8C5F-DB4E459A792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3DED-4730-45F6-BBA6-85A46880F9A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8f8f8"/>
                </a:solidFill>
                <a:latin typeface="Tahoma"/>
              </a:rPr>
              <a:t>GEOTERMOBAROMETRÍA DE ROCAS ÍGNEAS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04920" y="1752480"/>
            <a:ext cx="8305560" cy="51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cationes de reactantes y productos tienen diferentes números de coordinación. Estas reacciones presentan gran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ΔV y son usadas como geobarómetr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Ej:  (geobarómetro </a:t>
            </a:r>
            <a:r>
              <a:rPr b="0" i="1" lang="es-ES_tradnl" sz="2400" spc="-1" strike="noStrike">
                <a:solidFill>
                  <a:srgbClr val="ffff66"/>
                </a:solidFill>
                <a:latin typeface="Times New Roman"/>
              </a:rPr>
              <a:t>GASP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2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Ca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1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+ Si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  = 3Ca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Si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ky                            gt                   qz                a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) </a:t>
            </a: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Reacciones de transferencia de masa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5375160" cy="59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505320" cy="1360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943600" y="609480"/>
            <a:ext cx="2895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8f8f8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Cálculo mediante multi-equilibrio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Software Geocalc,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imes New Roman"/>
              </a:rPr>
              <a:t>TWQ, Thermocalc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termómetr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de dos feldespatos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la solución sólida entre los tres tipos composicionales de feldespato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Xan + Xab + Xor = 1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5" name="feldspar" descr=""/>
          <p:cNvPicPr/>
          <p:nvPr/>
        </p:nvPicPr>
        <p:blipFill>
          <a:blip r:embed="rId1"/>
          <a:srcRect l="0" t="0" r="49440" b="49731"/>
          <a:stretch/>
        </p:blipFill>
        <p:spPr>
          <a:xfrm>
            <a:off x="3048120" y="3352680"/>
            <a:ext cx="31240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35053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baja Tº (&lt;450º C)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calibración microclina-albita baja (rocas metamórficas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Tahoma"/>
              </a:rPr>
              <a:t>A alta Tº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hay solución sólida entre los tres componentes. Si hay equilibrio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28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7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1371600" y="4572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99360" y="5410080"/>
            <a:ext cx="449532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cc"/>
                </a:solidFill>
                <a:latin typeface="Tahoma"/>
                <a:ea typeface="Times New Roman"/>
              </a:rPr>
              <a:t>Asumiendo que no hay s.s. entre an y or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0099cc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0099cc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0099cc"/>
                </a:solidFill>
                <a:latin typeface="Tahoma"/>
                <a:ea typeface="Times New Roman"/>
              </a:rPr>
              <a:t> = 0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590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</a:rPr>
              <a:t>Simplificación (a P=cte.)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or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0 (no solución sólida entre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eld K y anortita)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RTln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En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º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- µ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º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 RTln (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/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) = 0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=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              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X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γ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ES_tradnl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feldK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Whitney%20y%20Stormer" descr=""/>
          <p:cNvPicPr/>
          <p:nvPr/>
        </p:nvPicPr>
        <p:blipFill>
          <a:blip r:embed="rId1"/>
          <a:srcRect l="0" t="0" r="1399" b="0"/>
          <a:stretch/>
        </p:blipFill>
        <p:spPr>
          <a:xfrm>
            <a:off x="914400" y="533520"/>
            <a:ext cx="6912000" cy="5349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5867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Whitney &amp; Stormer (1977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66680" y="1523880"/>
            <a:ext cx="7162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8f8f8"/>
                </a:solidFill>
                <a:latin typeface="Times New Roman"/>
              </a:rPr>
              <a:t>Dificultades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Frecuentes re-equilibrios sub-solidus (exsoluciones y alteración) en rocas intrusivas y metamórficas de alto grado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ferentes estados estructurales de feldespatos, especialmente feld-K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A pesar de eso, buena aplicación en rocas volcánicas riolíticas y en intrusiones epizonale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</a:t>
            </a: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 Geotermometría de dos piroxenos: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plicación en granulitas, gabros (basaltos) y rocas ígneas intermedias a félsica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a calibraciones basadas en intercambio catiónico Ca-Mg (Wells, 1977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Kretz (1982): modelo ternario y otro de intercambio Fe-Mg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-274320" algn="just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Calibraciones más completas: Lindsley (1983), Davidson y Lindsley (1985): incluyen correcciones para componentes fuera del cuadrilátero (Fs-En-Di-Hd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XQUAD" descr=""/>
          <p:cNvPicPr/>
          <p:nvPr/>
        </p:nvPicPr>
        <p:blipFill>
          <a:blip r:embed="rId1"/>
          <a:srcRect l="0" t="0" r="0" b="12420"/>
          <a:stretch/>
        </p:blipFill>
        <p:spPr>
          <a:xfrm>
            <a:off x="1066680" y="609480"/>
            <a:ext cx="7223400" cy="36244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0720" y="3429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62320" y="228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228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Hd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267080"/>
            <a:ext cx="81536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on el aumento de temperatura, aumenta Ca en opx y disminuye Ca en cpx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Calibraciones de Lindsley (1983) a cuatro diferentes presiones (1 atm, 5, 10 y 15 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imes New Roman"/>
              </a:rPr>
              <a:t>El desarrollo del multi-equilibrio QUILF permite calcular temperaturas a diferentes presiones, basado en las calibraciones de Lindsley (1983). Presenta leve dependencia con la presión (&lt;8ºC/kbar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09480" y="304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99ff"/>
                </a:solidFill>
                <a:latin typeface="Tahoma"/>
              </a:rPr>
              <a:t>3)</a:t>
            </a:r>
            <a:r>
              <a:rPr b="1" lang="es-ES_tradnl" sz="3200" spc="-1" strike="noStrike">
                <a:solidFill>
                  <a:srgbClr val="f8f8f8"/>
                </a:solidFill>
                <a:latin typeface="Tahoma"/>
              </a:rPr>
              <a:t> Clinopiroxeno-hornblenda: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, basado en intercambio Fe-Mg, no ha sido profundamente desarrollado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retz y Jen (1978) proponen un coeficiente de distribución (Kd) entre las fases. Ellos además hicieron notar el importante efecto de Al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 en la hornblenda sobre este Kd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3" name="cpx-hbl" descr=""/>
          <p:cNvPicPr/>
          <p:nvPr/>
        </p:nvPicPr>
        <p:blipFill>
          <a:blip r:embed="rId1"/>
          <a:srcRect l="1176" t="0" r="0" b="0"/>
          <a:stretch/>
        </p:blipFill>
        <p:spPr>
          <a:xfrm>
            <a:off x="2932200" y="4214880"/>
            <a:ext cx="3024000" cy="2414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2120" y="3330720"/>
            <a:ext cx="70866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 = {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/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px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} * {(1-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/X</a:t>
            </a:r>
            <a:r>
              <a:rPr b="0" lang="es-MX" sz="24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hbl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}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X es el radio catiónico Mg/(Mg+Fe</a:t>
            </a:r>
            <a:r>
              <a:rPr b="0" lang="es-MX" sz="24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+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  <a:ea typeface="Times New Roman"/>
              </a:rPr>
              <a:t>) de cada min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rimeros estudios en aureolas de contacto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Isogradas metamórfica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gla de las fas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A partir de  los años 60: relaciones actividad-composición en sólidos – bases de datos termodinámicamente consistent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xiste una relación entre composición de minerales en equilibrio y condiciones de cristalización 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(P, T°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f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, </a:t>
            </a:r>
            <a:r>
              <a:rPr b="0" i="1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H</a:t>
            </a:r>
            <a:r>
              <a:rPr b="0" lang="es-MX" sz="28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O).</a:t>
            </a:r>
            <a:r>
              <a:rPr b="0" lang="es-E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4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Hornblenda-plagioclas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uy difundido y extensivamente utilizado en la literatura. Blundy y Holland (1990) presentaron una calibración para el equilibri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4Si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= 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 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     cuarzo      tremolita                 alb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osteriormente, Holland y Blundy (1994), utilizando modelos de solución no ideal en anfíbola, revisaron este equilibrio, proponiendo una nueva calibración para éste e introduciendo un nuevo equilibrio geotermométrico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NaC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l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NaAl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 Na(Ca,Na)Mg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CaAl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edenita                   albita             richterita                       anortit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mera reacción es aplicable a rocas saturadas en cuarzo, mientras que la segunda presenta la ventaja de no requerir presencia de cuarzo en la paragénesis de equilibrio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600" y="533520"/>
            <a:ext cx="86104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</a:t>
            </a:r>
            <a:r>
              <a:rPr b="1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-76.95 + 0.79P + 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3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22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b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K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 + (41.5-2.89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1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0,0650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256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donde R= 0.0083144KjK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mol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-1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0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 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1-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2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– 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a ecuación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T° entre 4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Na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&gt; 0.02 a.p.f.u.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0.90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T2=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[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78.44+Y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b-an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33.6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4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–(66.8-2.92P)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M2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78.5*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T1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l</a:t>
            </a:r>
            <a:r>
              <a:rPr b="0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+ 9.4X</a:t>
            </a:r>
            <a:r>
              <a:rPr b="0" lang="es-MX" sz="2000" spc="-1" strike="noStrike" u="sng" baseline="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A</a:t>
            </a:r>
            <a:r>
              <a:rPr b="0" lang="es-MX" sz="2000" spc="-1" strike="noStrike" u="sng" baseline="-30000">
                <a:solidFill>
                  <a:srgbClr val="f8f8f8"/>
                </a:solidFill>
                <a:uFillTx/>
                <a:latin typeface="Tahoma"/>
                <a:ea typeface="Times New Roman"/>
              </a:rPr>
              <a:t>Na</a:t>
            </a:r>
            <a:r>
              <a:rPr b="1" lang="es-MX" sz="2000" spc="-1" strike="noStrike" u="sng">
                <a:solidFill>
                  <a:srgbClr val="f8f8f8"/>
                </a:solidFill>
                <a:uFillTx/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0.0721 – R*ln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(27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Si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/(64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Ca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T1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l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*X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pl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)</a:t>
            </a:r>
            <a:r>
              <a:rPr b="1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]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R se obtiene de igual manera que en la ecuación anterior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dado por X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gt;0.5, Y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3.0Kj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                               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&lt;0.5, Y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-an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12*(2X</a:t>
            </a:r>
            <a:r>
              <a:rPr b="0" lang="en-GB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ab</a:t>
            </a: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-1) + 3.0 Kj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Este geotermómetro presenta las siguientes restricciones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plicable para T° entre 500° y 900°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Anfibol con X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M4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Na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gt; 0,03, Al</a:t>
            </a:r>
            <a:r>
              <a:rPr b="0" lang="es-MX" sz="2000" spc="-1" strike="noStrike" baseline="30000">
                <a:solidFill>
                  <a:srgbClr val="ffff66"/>
                </a:solidFill>
                <a:latin typeface="Tahoma"/>
                <a:ea typeface="Times New Roman"/>
              </a:rPr>
              <a:t>VI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&lt; 1.8 a.p.f.u. y Si entre 6.0 y 7.7 a.p.f.u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 algn="just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Plagioclasa con X</a:t>
            </a:r>
            <a:r>
              <a:rPr b="0" lang="es-MX" sz="2000" spc="-1" strike="noStrike" baseline="-30000">
                <a:solidFill>
                  <a:srgbClr val="ffff66"/>
                </a:solidFill>
                <a:latin typeface="Tahoma"/>
                <a:ea typeface="Times New Roman"/>
              </a:rPr>
              <a:t>an</a:t>
            </a:r>
            <a:r>
              <a:rPr b="0" lang="es-MX" sz="2000" spc="-1" strike="noStrike">
                <a:solidFill>
                  <a:srgbClr val="ffff66"/>
                </a:solidFill>
                <a:latin typeface="Tahoma"/>
                <a:ea typeface="Times New Roman"/>
              </a:rPr>
              <a:t> entre 0.1 y 0.9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mismos autores incluyen además un método para estimar la razón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/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en las anfíbol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Aplicación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Intrusivos de composición granítica a gábrica y en anfibolitas y otras metabasitas. En general, la anfíbola cristaliza en condiciones muy cercanas al solidus, por lo que los resultados dan temperaturas de solidificación del cuerpo plutónico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5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óxidos de Fe-Ti: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coexistencia de dos soluciones sólidas de óxidos Fe-Ti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) romboédricos: solución sólida hematita-ilmenita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B) cúbicos: solución sólida magnetita - ulvoespinel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-164520" algn="just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Este equilibrio permite el cálculo de temperatura de cristalización de óxidos Fe-Ti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La estabilidad de estos minerales depende de Tº, Xi,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y P, siendo esta variable la menos importante. La estabilidad de estos minerales se ha ido conociendo a través de reacciones de buffer simples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Buffer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eacción en que participa un grupo de sólidos y una fase gaseosa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ex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la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del magma es controlada por la fase gaseosa presente (exsuelta)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164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Buffer interno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controlada por cristalización de un buffer (ocurre reacción) – sigue un trend tipo buffe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buffers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962680" cy="6159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352680" y="533520"/>
            <a:ext cx="266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4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6Fe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43400" y="1600200"/>
            <a:ext cx="1828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Ni+O</a:t>
            </a:r>
            <a:r>
              <a:rPr b="0" lang="es-ES_tradnl" sz="20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ff"/>
                </a:solidFill>
                <a:latin typeface="Times New Roman"/>
              </a:rPr>
              <a:t>=Ni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53080" y="1523880"/>
            <a:ext cx="2362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2Fe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+3SiO</a:t>
            </a:r>
            <a:r>
              <a:rPr b="0" lang="es-ES_tradnl" sz="1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00ff"/>
                </a:solidFill>
                <a:latin typeface="Times New Roman"/>
              </a:rPr>
              <a:t>=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3Fe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Si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4</a:t>
            </a:r>
            <a:r>
              <a:rPr b="0" lang="es-ES_tradnl" sz="1400" spc="-1" strike="noStrike">
                <a:solidFill>
                  <a:srgbClr val="00ff00"/>
                </a:solidFill>
                <a:latin typeface="Times New Roman"/>
              </a:rPr>
              <a:t>+O</a:t>
            </a:r>
            <a:r>
              <a:rPr b="0" lang="es-ES_tradnl" sz="1400" spc="-1" strike="noStrike" baseline="-25000">
                <a:solidFill>
                  <a:srgbClr val="00ff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5680" y="3429000"/>
            <a:ext cx="2590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3FeO+1/2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=Fe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s-ES_tradnl" sz="1600" spc="-1" strike="noStrike">
                <a:solidFill>
                  <a:srgbClr val="0000ff"/>
                </a:solidFill>
                <a:latin typeface="Times New Roman"/>
              </a:rPr>
              <a:t>O</a:t>
            </a:r>
            <a:r>
              <a:rPr b="0" lang="es-ES_tradnl" sz="16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32484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3520" y="533520"/>
            <a:ext cx="830556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Otros buffers interno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4CaMg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+ 4Mg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diopsido         ilmenita            hematita       esfeno         enstat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3CaTi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5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2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= 3CaFe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3FeT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+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esfeno   magnetita cuarzo     hedenbergita ilmenit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6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ómetro olivino-augita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(Loucks, 1996)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ntercambio catiónico Fe-Mg, calibrado experimentalmente a 1bar. Este intercambio es controlado por un coeficiente de distribución Kd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= (Fe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ol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Mg)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au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Para la reacción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= Fe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+Mg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 partir de esto, la ecuación geotermométrica es la siguiente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lnK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D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-78.025= (-5945.96/T) – 10.1327lnT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Aplicaci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rocas máficas a félsicas intrusivas y extrusivas a presiones hasta 10 kbar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rincipios fundamenta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0 =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+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RT </a:t>
            </a:r>
            <a:r>
              <a:rPr b="0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ln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</a:t>
            </a:r>
            <a:r>
              <a:rPr b="0" lang="es-E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ΔG</a:t>
            </a:r>
            <a:r>
              <a:rPr b="0" i="1" lang="es-MX" sz="32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0 </a:t>
            </a: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f(P y T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K f(X y a)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7)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8f8f8"/>
                </a:solidFill>
                <a:latin typeface="Tahoma"/>
              </a:rPr>
              <a:t>Geotermometría de saturación en circón: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Watson y Harrison (1983) presentaron un modelo para estimar temperatura a la cual ocurre saturación de circón en magmas (condiciones hiper-solidus). El rango de temperatura de los datos experimentales varía entre 750 y 1020º C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ln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={-3.80-[0.85*(M-1)]}+ {12900/T}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onde M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= (Na+K+2Ca)/(Al*Si) radio catiónico de la roca en cuestión y D</a:t>
            </a:r>
            <a:r>
              <a:rPr b="0" lang="es-MX" sz="2000" spc="-1" strike="noStrike" baseline="-30000">
                <a:solidFill>
                  <a:srgbClr val="f8f8f8"/>
                </a:solidFill>
                <a:latin typeface="Tahoma"/>
                <a:ea typeface="Times New Roman"/>
              </a:rPr>
              <a:t>Zr</a:t>
            </a:r>
            <a:r>
              <a:rPr b="0" lang="es-MX" sz="2000" spc="-1" strike="noStrike" baseline="30000">
                <a:solidFill>
                  <a:srgbClr val="f8f8f8"/>
                </a:solidFill>
                <a:latin typeface="Tahoma"/>
                <a:ea typeface="Times New Roman"/>
              </a:rPr>
              <a:t>circón/melt</a:t>
            </a:r>
            <a:r>
              <a:rPr b="0" lang="es-MX" sz="2000" spc="-1" strike="noStrike">
                <a:solidFill>
                  <a:srgbClr val="f8f8f8"/>
                </a:solidFill>
                <a:latin typeface="Tahoma"/>
                <a:ea typeface="Times New Roman"/>
              </a:rPr>
              <a:t> es la razón de concentración de Zr en circón estequiométrico sobre la concentración en el magma (que es representada por la concentración en ppm en la roca estudiada).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Aplicación: en rocas principalmente intrusivas con circón como fase accesoria. Harrison y Watson (1984) presentaron un modelo similar para temperatura de saturación en apatito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ahoma"/>
              </a:rPr>
              <a:t>Geobarómetro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36376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a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emplazamiento de un plut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b) determinar </a:t>
            </a:r>
            <a:r>
              <a:rPr b="0" lang="es-MX" sz="2400" spc="-1" strike="noStrike">
                <a:solidFill>
                  <a:srgbClr val="f8f8f8"/>
                </a:solidFill>
                <a:latin typeface="Tahoma"/>
              </a:rPr>
              <a:t>presió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 de la fuente que generó los magmas o una pausa en el ascenso del magm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295280"/>
            <a:ext cx="7086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8f8f8"/>
                </a:solidFill>
                <a:latin typeface="Tahoma"/>
              </a:rPr>
              <a:t>Sirven para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1) Al en hornblenda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uno de los métodos + utilizados y + revisado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Se basa en correlación positiva entre el contenido de Al</a:t>
            </a:r>
            <a:r>
              <a:rPr b="0" lang="es-ES_tradnl" sz="2800" spc="-1" strike="noStrike" baseline="30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 en la hbl y la presión de cristalización de la roca plutónica en la que está contenido el mineral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para asociaciones con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Qz + feld K + pl + bio + hbl + titanita + oxidos Fe-T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Equilibrio barométrico (Hollister et al., 1987):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2Qz + 2An + bio = or + tschermak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a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Mg,Fe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Al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16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7680" y="5743440"/>
            <a:ext cx="794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Con aumento de la P, el equilibrio se desplaza a la derecha, causando que el anfíbol cambie en composición por el vector de intercambio Si + Mg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=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IV</a:t>
            </a:r>
            <a:r>
              <a:rPr b="0" lang="es-ES_tradnl" sz="1600" spc="-1" strike="noStrike">
                <a:solidFill>
                  <a:srgbClr val="f8f8f8"/>
                </a:solidFill>
                <a:latin typeface="Tahoma"/>
              </a:rPr>
              <a:t> + Al</a:t>
            </a:r>
            <a:r>
              <a:rPr b="0" lang="es-ES_tradnl" sz="16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304920"/>
            <a:ext cx="8458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ultados se interpretan como P de emplazamiento del plutón si hbl ocurre como fase cercana al solidu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chmidt (1992): trabajo en tonalita, bajo P= 2,5 –13 kbar y T=655-700°C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400" spc="-1" strike="noStrike" baseline="-25000">
                <a:solidFill>
                  <a:srgbClr val="ffff66"/>
                </a:solidFill>
                <a:latin typeface="Tahoma"/>
                <a:ea typeface="Tahoma"/>
              </a:rPr>
              <a:t>hbl</a:t>
            </a:r>
            <a:r>
              <a:rPr b="0" lang="es-ES_tradnl" sz="2400" spc="-1" strike="noStrike" baseline="30000">
                <a:solidFill>
                  <a:srgbClr val="ffff66"/>
                </a:solidFill>
                <a:latin typeface="Tahoma"/>
                <a:ea typeface="Tahoma"/>
              </a:rPr>
              <a:t>t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bajo condiciones saturadas en agu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Anderson y Smith (1995): P depende de T y </a:t>
            </a:r>
            <a:r>
              <a:rPr b="0" i="1" lang="es-ES_tradnl" sz="24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4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Restricciones en la composición de anfíboles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Mg/(Mg + Fe)&gt;0,35 y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/(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 + Fe</a:t>
            </a:r>
            <a:r>
              <a:rPr b="0" lang="es-ES_tradnl" sz="24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)&gt;0,2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±0,6 kbar) = -3,01 + 4,76*Al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((T-675)/85)*(0,530*Al 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0,005294*(T-675)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181480"/>
            <a:ext cx="792468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ahoma"/>
              </a:rPr>
              <a:t>Se mide en los bordes de anfíboles por estar seguro de que está en equilibrio con Qz (fase tardía)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57200" y="304920"/>
            <a:ext cx="76201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2) Estabilidad de epidota magmátic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123920"/>
            <a:ext cx="4419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obarómetro que apunta a la fuent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e reconoce por forma euhedral a subhedra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Mineral estable a alta P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generalmente englobada por otros minerales (Qz o feld K; que no tienen afinidad química con ella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está protegida, presenta cara corroída. Se conoce tasa de disolución de epidota y, por lo tanto, se puede estimar tiempo de disolu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Si no hay corrosión, ascenso fue muy rápido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Intersección de curvas de estabilidad de epidota y mineral que la hospeda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f8f8f8"/>
                </a:solidFill>
                <a:latin typeface="Tahoma"/>
              </a:rPr>
              <a:t>P y T° bajo ciertas condiciones de oxidación /reducción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0" name="ep%20magmatica" descr=""/>
          <p:cNvPicPr/>
          <p:nvPr/>
        </p:nvPicPr>
        <p:blipFill>
          <a:blip r:embed="rId1"/>
          <a:stretch/>
        </p:blipFill>
        <p:spPr>
          <a:xfrm>
            <a:off x="5213520" y="1447920"/>
            <a:ext cx="3000240" cy="4800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2120" y="5715000"/>
            <a:ext cx="4572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03500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8f8f8"/>
                </a:solidFill>
                <a:latin typeface="Tahoma"/>
              </a:rPr>
              <a:t>Schmidt y Thompson (1996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51520" y="5335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3) Sílice - px tschermakítico – anortita (SCAn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523880"/>
            <a:ext cx="8229600" cy="47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presencia de cpx (componente tschermakítico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CaTs), pl y Qz en equilibrio (McCarthy y Patiño Douce, 1998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atos experimentales desarrollados en un amplio rango de P y T° (4-32 kbar; 900-1400°C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e basa en la reacción: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CaAl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x tsch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Qz         A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Aplicable en granulitas y rocas gábricas y basáltica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P 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2,5kbar) =( ((5,06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76)+((1300±800)/T)-lnK)/(276±16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P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1kbar) =( ((6,330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±0,116)-lnK)/(301±9))*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K= 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An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p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/a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CaTs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cpx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20480" y="30492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agu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984240"/>
            <a:ext cx="86104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l cálculo de fugacidades de volátiles depende altamente de la T° y, para algunas reacciones, de la P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ases máficas hidratadas son las + comunes en granitoides. Px y Ol fayalítico indican alta T° y/o baja fugacidad de agua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ay tres equilibrios para determin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flogopita+3Qz=3En+sanidina+agua (Bohlen y otros, 198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 annita+3/2 Qz = sanidina + fayalita + agua (Emslie y Stirling, 1993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 -7402/T (°K)) + 10,84 + (0,036*(P-1)/T) +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iO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–3/2 log 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3) ASM: annita + ½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= sanidina + mt +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  <a:ea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O (Wones, 1981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  <a:ea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  <a:ea typeface="Tahoma"/>
              </a:rPr>
              <a:t>log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  <a:ea typeface="Tahoma"/>
              </a:rPr>
              <a:t> 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H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 (bar)=(4819/T(°K))+6,69+3logX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ann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1/2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-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(0,011*(P-1))/T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sanidin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+ loga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t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ambién utilizado para calcular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biotitas" descr=""/>
          <p:cNvPicPr/>
          <p:nvPr/>
        </p:nvPicPr>
        <p:blipFill>
          <a:blip r:embed="rId1"/>
          <a:srcRect l="0" t="0" r="0" b="1985"/>
          <a:stretch/>
        </p:blipFill>
        <p:spPr>
          <a:xfrm>
            <a:off x="1523880" y="762120"/>
            <a:ext cx="5489640" cy="4491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5638680"/>
            <a:ext cx="792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X</a:t>
            </a:r>
            <a:r>
              <a:rPr b="0" lang="es-ES" sz="2400" spc="-1" strike="noStrike" baseline="-25000">
                <a:solidFill>
                  <a:srgbClr val="f8f8f8"/>
                </a:solidFill>
                <a:latin typeface="Tahoma"/>
              </a:rPr>
              <a:t>ann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= Fe/(Fe+Al</a:t>
            </a:r>
            <a:r>
              <a:rPr b="0" lang="es-ES" sz="2400" spc="-1" strike="noStrike" baseline="30000">
                <a:solidFill>
                  <a:srgbClr val="f8f8f8"/>
                </a:solidFill>
                <a:latin typeface="Tahoma"/>
              </a:rPr>
              <a:t>VI</a:t>
            </a:r>
            <a:r>
              <a:rPr b="0" lang="es-ES" sz="2400" spc="-1" strike="noStrike">
                <a:solidFill>
                  <a:srgbClr val="f8f8f8"/>
                </a:solidFill>
                <a:latin typeface="Tahoma"/>
              </a:rPr>
              <a:t>+Ti+Mn+Mg)        en sitio octaédric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066680" y="457200"/>
            <a:ext cx="6400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&l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ub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H2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&gt; P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total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, magma sobresaturado en agu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02920" y="19051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Tahoma"/>
              </a:rPr>
              <a:t>Fugacidad de oxígen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514600"/>
            <a:ext cx="876312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1)  3CaTi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5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3CaFe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6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3FeT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sfeno    magnetita              hedenbergita  ilmen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30930/T(°K)) + 14,98 + (0,142*(P-1))/T    (Wones, 1989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)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QFM: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2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3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=3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+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magnetita   Qz     fayal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=(-25096,3/T(°K)) + 8,735 + (0,110*(P-1))/T –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3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fayalita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+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    log</a:t>
            </a:r>
            <a:r>
              <a:rPr b="0" i="1" lang="es-ES_tradnl" sz="2000" spc="-1" strike="noStrike">
                <a:solidFill>
                  <a:srgbClr val="ffff66"/>
                </a:solidFill>
                <a:latin typeface="Tahoma"/>
              </a:rPr>
              <a:t>a</a:t>
            </a:r>
            <a:r>
              <a:rPr b="0" lang="es-ES_tradnl" sz="2000" spc="-1" strike="noStrike" baseline="30000">
                <a:solidFill>
                  <a:srgbClr val="ffff66"/>
                </a:solidFill>
                <a:latin typeface="Tahoma"/>
              </a:rPr>
              <a:t>2</a:t>
            </a:r>
            <a:r>
              <a:rPr b="0" lang="es-ES_tradnl" sz="2000" spc="-1" strike="noStrike" baseline="-25000">
                <a:solidFill>
                  <a:srgbClr val="ffff66"/>
                </a:solidFill>
                <a:latin typeface="Tahoma"/>
              </a:rPr>
              <a:t>magnetita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365040"/>
            <a:ext cx="876312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Cummingtonita (anfíbola ferromagnesiana monoclínica)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general, presencia de cummingtonita en rocas volcánicas indica condiciones cercanas a saturación en 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 y baja profundidad (&lt; 4 kbar). La ocurrencia de este mineral en presencia de magnetita, cuarzo y ortopiroxeno presenta importante dependencia con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. A P y T conocida,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de cristalización puede ser estimada a través de diagramas de fase (Evans y Ghiorso, 1995)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a principal reacción involucrada en el sistema es: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6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7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(OH)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8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7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= 14Fe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4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48Si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+ 6H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ummingtonita              magnetita    cuarz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Los resultados obtenidos con este equilibrio en rocas volcánicas son muy similares a los obtenidos mediante composición de óxidos Fe-Ti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En ausencia de magnetita y cuarzo, cummingtonita es estable a </a:t>
            </a:r>
            <a:r>
              <a:rPr b="0" i="1" lang="es-ES_tradnl" sz="2000" spc="-1" strike="noStrike">
                <a:solidFill>
                  <a:srgbClr val="f8f8f8"/>
                </a:solidFill>
                <a:latin typeface="Tahoma"/>
              </a:rPr>
              <a:t>f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</a:t>
            </a:r>
            <a:r>
              <a:rPr b="0" lang="es-ES_tradnl" sz="2000" spc="-1" strike="noStrike" baseline="-25000">
                <a:solidFill>
                  <a:srgbClr val="f8f8f8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menore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4800600" cy="3765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105520"/>
            <a:ext cx="8305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termómetros poco dependientes de presió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Geobarómetros poco dependientes de temperatura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cummintonita" descr=""/>
          <p:cNvPicPr/>
          <p:nvPr/>
        </p:nvPicPr>
        <p:blipFill>
          <a:blip r:embed="rId1"/>
          <a:srcRect l="0" t="0" r="0" b="53789"/>
          <a:stretch/>
        </p:blipFill>
        <p:spPr>
          <a:xfrm>
            <a:off x="1447920" y="457200"/>
            <a:ext cx="6553080" cy="4803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523880" y="5334120"/>
            <a:ext cx="6400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Isópletas representan fracción de grunerita en cummingtonita (XFe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Tahoma"/>
              </a:rPr>
              <a:t>XFe = Fe/(Fe+Mg+Ca+M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99ff"/>
                </a:solidFill>
                <a:latin typeface="Tahoma"/>
              </a:rPr>
              <a:t>Estimación de Fe</a:t>
            </a:r>
            <a:r>
              <a:rPr b="0" lang="es-ES_tradnl" sz="3600" spc="-1" strike="noStrike" baseline="30000">
                <a:solidFill>
                  <a:srgbClr val="6699ff"/>
                </a:solidFill>
                <a:latin typeface="Tahoma"/>
              </a:rPr>
              <a:t>3+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Cálculo se basa en balance de carga al interior del mineral (Droop, 1987). Para esto se asume lo siguiente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e es el único catión con valencia variable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Oxígeno es el único anión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itios catiónicos sin vacancia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ahoma"/>
              </a:rPr>
              <a:t>F = 2X*(1-T/S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F: nº de cationes de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3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X: nº de oxígeno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T: cantidad ideal de cationes totales en fórmula estructura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S: suma de cationes obtenida inicialmente cuando todo el Fe se asume como Fe</a:t>
            </a:r>
            <a:r>
              <a:rPr b="0" lang="es-ES_tradnl" sz="2000" spc="-1" strike="noStrike" baseline="30000">
                <a:solidFill>
                  <a:srgbClr val="f8f8f8"/>
                </a:solidFill>
                <a:latin typeface="Tahoma"/>
              </a:rPr>
              <a:t>2+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7696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Para composiciones ideales (miembros extremos): </a:t>
            </a:r>
            <a:r>
              <a:rPr b="0" i="1" lang="es-ES_tradnl" sz="3200" spc="-1" strike="noStrike">
                <a:solidFill>
                  <a:srgbClr val="f8f8f8"/>
                </a:solidFill>
                <a:latin typeface="Tahoma"/>
              </a:rPr>
              <a:t>a 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= 1  K=1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ón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U=TdS – PdV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δS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V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(δU/ δV)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  <a:ea typeface="Times New Roman"/>
              </a:rPr>
              <a:t>S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= -P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4290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Principio de Le Chatelier</a:t>
            </a:r>
            <a:r>
              <a:rPr b="0" lang="es-ES_tradnl" sz="2400" spc="-1" strike="noStrike">
                <a:solidFill>
                  <a:srgbClr val="f8f8f8"/>
                </a:solidFill>
                <a:latin typeface="Times New Roman"/>
              </a:rPr>
              <a:t>: si un sistema se ve modificado por una variable, el sistema reacciona modificando otr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8f8f8"/>
                </a:solidFill>
                <a:uFillTx/>
                <a:latin typeface="Tahoma"/>
              </a:rPr>
              <a:t>Ecuación de Clapeyr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G = -SdT + V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En condiciones de equilibrio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alcita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 = G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onit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 = 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T + 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dP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(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V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P = (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cc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-S</a:t>
            </a:r>
            <a:r>
              <a:rPr b="0" lang="es-ES_tradnl" sz="3200" spc="-1" strike="noStrike" baseline="-25000">
                <a:solidFill>
                  <a:srgbClr val="f8f8f8"/>
                </a:solidFill>
                <a:latin typeface="Tahoma"/>
              </a:rPr>
              <a:t>arag</a:t>
            </a:r>
            <a:r>
              <a:rPr b="0" lang="es-ES_tradnl" sz="3200" spc="-1" strike="noStrike">
                <a:solidFill>
                  <a:srgbClr val="f8f8f8"/>
                </a:solidFill>
                <a:latin typeface="Tahoma"/>
              </a:rPr>
              <a:t>)d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4114800"/>
            <a:ext cx="76176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429000" y="5257800"/>
            <a:ext cx="2076480" cy="1069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7086600" y="4800240"/>
            <a:ext cx="0" cy="114300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86600" y="5943600"/>
            <a:ext cx="1371600" cy="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086600" y="5181480"/>
            <a:ext cx="1066680" cy="45720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388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ra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termométricos caracterizados por mayores cambios de la  entropía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just">
              <a:spcBef>
                <a:spcPts val="9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8f8f8"/>
                </a:solidFill>
                <a:latin typeface="Tahoma"/>
              </a:rPr>
              <a:t>Equilibrios geobarométricos caracterizados por mayores cambios de volumen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Tipos de equilibrios geotermobarométr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Paragénesis minerale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más utilizadas en   rocas metamórficas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597240" indent="-597240" algn="just">
              <a:spcBef>
                <a:spcPts val="499"/>
              </a:spcBef>
              <a:buClr>
                <a:srgbClr val="6699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Huecos de miscibilidad o solvus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usados como geotermómetros (ej.: cpx-opx, calcita-dolomita, plagioclasa-feldespato alcalino). Puede presentar errores importantes debido a que pequeños cambios composicionales pueden traer grandes cambios de temperatura. Además la curva de solvus varía con la presión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feldspar" descr=""/>
          <p:cNvPicPr/>
          <p:nvPr/>
        </p:nvPicPr>
        <p:blipFill>
          <a:blip r:embed="rId1"/>
          <a:srcRect l="0" t="49731" r="0" b="0"/>
          <a:stretch/>
        </p:blipFill>
        <p:spPr>
          <a:xfrm>
            <a:off x="2438280" y="3657600"/>
            <a:ext cx="5276880" cy="2550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530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Or (K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99cc"/>
                </a:solidFill>
                <a:latin typeface="Times New Roman"/>
              </a:rPr>
              <a:t>Ab (Na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3) </a:t>
            </a:r>
            <a:r>
              <a:rPr b="1" lang="es-ES_tradnl" sz="2000" spc="-1" strike="noStrike">
                <a:solidFill>
                  <a:srgbClr val="f8f8f8"/>
                </a:solidFill>
                <a:latin typeface="Tahoma"/>
              </a:rPr>
              <a:t>Reacciones de intercambio catiónico</a:t>
            </a: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229600" cy="3033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43000" y="914400"/>
            <a:ext cx="762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generalmente usados como geotermómetros (ej: granate-biotita, granate-clinopiroxeno, anfíbola-plagioclasa, óxidos Fe-Ti)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8f8f8"/>
                </a:solidFill>
                <a:latin typeface="Tahoma"/>
              </a:rPr>
              <a:t>Diagramas de distribución de Fe y Mg entre granate y clinopiroxen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22:07:59Z</dcterms:created>
  <dc:creator>Geología U. de Chile</dc:creator>
  <dc:description/>
  <dc:language>en-US</dc:language>
  <cp:lastModifiedBy>Silke</cp:lastModifiedBy>
  <dcterms:modified xsi:type="dcterms:W3CDTF">2004-08-30T13:13:16Z</dcterms:modified>
  <cp:revision>62</cp:revision>
  <dc:subject/>
  <dc:title>GEOTERMOBAROMETRÍA DE ROCAS ÍGNEAS</dc:title>
</cp:coreProperties>
</file>