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932-4D80-49EB-93ED-D89E73A6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5E1-E1F7-43FC-BB7B-F334C72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BAF-907D-47C6-B5C3-AD54F959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27C-478F-47E1-87AC-EFD1392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DC0-12AB-4FA4-9D6D-04CC7D49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9664-49E1-411B-A12A-7D406A68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78C4-4E28-4469-A4F9-EA24176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E05A-E6DF-40A1-9CCD-BEFBA99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88F-E964-4B56-BCD6-E77DA7D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26AB-48A4-4FA5-9424-7E06E425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8E3-00BA-49E0-A21C-C19FE8F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DD7-F00D-4C2F-8FF1-D8BDC67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096-FB39-4EBA-8551-67CD1F96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1A47-BC2B-4FA9-9526-A08EFAA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BA6-E77A-49F1-A8F7-8EB2022E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982-7853-476D-B927-BCFEC795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20E-FE1C-4AFF-9B62-A08F1A17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F9F-5364-4176-99DA-92F21E4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625-80C4-431F-815E-7F1431A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FF9-AB09-47C4-872F-E0A37CB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AD7-5D4F-42B7-B9F8-D14B6C9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E85-8501-4A12-84D8-D821D02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7C4-7136-4AF2-87B5-9739B1F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C72-3ADC-419D-A072-0CFA565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68CB-3B97-44FB-81BA-3244C3AB166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A048-73B2-4C83-9A22-6FEBB795751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8f8f8"/>
                </a:solidFill>
                <a:latin typeface="Tahoma"/>
              </a:rPr>
              <a:t>GEOTERMOBAROMETRÍA DE ROCAS ÍGNE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752480"/>
            <a:ext cx="83055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cationes de reactantes y productos tienen diferentes números de coordinación. Estas reacciones presentan gran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ΔV y son usadas como geobarómet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j:  (geobarómetro </a:t>
            </a:r>
            <a:r>
              <a:rPr b="0" i="1" lang="es-ES_tradnl" sz="2400" spc="-1" strike="noStrike">
                <a:solidFill>
                  <a:srgbClr val="ffff66"/>
                </a:solidFill>
                <a:latin typeface="Times New Roman"/>
              </a:rPr>
              <a:t>GASP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2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Ca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= 3Ca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ky                            gt                   qz               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) </a:t>
            </a: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Reacciones de transferencia de masa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37516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505320" cy="136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6094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8f8f8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Cálculo mediante multi-equilibri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oftware Geocalc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TWQ, Thermocal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termómet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de dos feldespatos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la solución sólida entre los tres tipos composicionales de feldespat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Xan + Xab + Xor = 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feldspar" descr=""/>
          <p:cNvPicPr/>
          <p:nvPr/>
        </p:nvPicPr>
        <p:blipFill>
          <a:blip r:embed="rId1"/>
          <a:srcRect l="0" t="0" r="49440" b="49731"/>
          <a:stretch/>
        </p:blipFill>
        <p:spPr>
          <a:xfrm>
            <a:off x="3048120" y="3352680"/>
            <a:ext cx="3124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baja Tº (&lt;450º C)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calibración microclina-albita baja (rocas metamórficas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alta Tº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hay solución sólida entre los tres componentes. Si hay equilibrio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1371600" y="4572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9360" y="5410080"/>
            <a:ext cx="44953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ahoma"/>
                <a:ea typeface="Times New Roman"/>
              </a:rPr>
              <a:t>Asumiendo que no hay s.s. entre an y 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implificación (a P=cte.)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0 (no solución sólida entre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eld K y anortita)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En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-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RTln (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/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) = 0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hitney%20y%20Stormer" descr=""/>
          <p:cNvPicPr/>
          <p:nvPr/>
        </p:nvPicPr>
        <p:blipFill>
          <a:blip r:embed="rId1"/>
          <a:srcRect l="0" t="0" r="1399" b="0"/>
          <a:stretch/>
        </p:blipFill>
        <p:spPr>
          <a:xfrm>
            <a:off x="914400" y="533520"/>
            <a:ext cx="691200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5867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Whitney &amp; Stormer (1977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1523880"/>
            <a:ext cx="7162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Dificultades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Frecuentes re-equilibrios sub-solidus (exsoluciones y alteración) en rocas intrusivas y metamórficas de alto gra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ferentes estados estructurales de feldespatos, especialmente feld-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 pesar de eso, buena aplicación en rocas volcánicas riolíticas y en intrusiones epizon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</a:t>
            </a: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 Geotermometría de dos piroxenos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plicación en granulitas, gabros (basaltos) y rocas ígneas intermedias a félsic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a calibraciones basadas en intercambio catiónico Ca-Mg (Wells, 1977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Kretz (1982): modelo ternario y otro de intercambio Fe-M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Calibraciones más completas: Lindsley (1983), Davidson y Lindsley (1985): incluyen correcciones para componentes fuera del cuadrilátero (Fs-En-Di-Hd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XQUAD" descr=""/>
          <p:cNvPicPr/>
          <p:nvPr/>
        </p:nvPicPr>
        <p:blipFill>
          <a:blip r:embed="rId1"/>
          <a:srcRect l="0" t="0" r="0" b="12420"/>
          <a:stretch/>
        </p:blipFill>
        <p:spPr>
          <a:xfrm>
            <a:off x="1066680" y="609480"/>
            <a:ext cx="7223400" cy="362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8153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on el aumento de temperatura, aumenta Ca en opx y disminuye Ca en cpx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alibraciones de Lindsley (1983) a cuatro diferentes presiones (1 atm, 5, 10 y 15 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El desarrollo del multi-equilibrio QUILF permite calcular temperaturas a diferentes presiones, basado en las calibraciones de Lindsley (1983). Presenta leve dependencia con la presión (&lt;8ºC/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ff"/>
                </a:solidFill>
                <a:latin typeface="Tahoma"/>
              </a:rPr>
              <a:t>3)</a:t>
            </a:r>
            <a:r>
              <a:rPr b="1" lang="es-ES_tradnl" sz="3200" spc="-1" strike="noStrike">
                <a:solidFill>
                  <a:srgbClr val="f8f8f8"/>
                </a:solidFill>
                <a:latin typeface="Tahoma"/>
              </a:rPr>
              <a:t> Clinopiroxeno-hornblenda: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, basado en intercambio Fe-Mg, no ha sido profundamente desarrollado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retz y Jen (1978) proponen un coeficiente de distribución (Kd) entre las fases. Ellos además hicieron notar el importante efecto de Al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 en la hornblenda sobre este Kd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cpx-hbl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932200" y="4214880"/>
            <a:ext cx="3024000" cy="241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330720"/>
            <a:ext cx="7086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 = {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/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} * {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/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X es el radio catiónico Mg/(Mg+Fe</a:t>
            </a:r>
            <a:r>
              <a:rPr b="0" lang="es-MX" sz="24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+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 de cada mi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os estudios en aureolas de contac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Isogradas metamórfica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gla de las fas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 partir de  los años 60: relaciones actividad-composición en sólidos – bases de datos termodinámicamente consistent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xiste una relación entre composición de minerales en equilibrio y condiciones de cristalización 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(P, T°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f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H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).</a:t>
            </a: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4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Hornblenda-plagioclas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uy difundido y extensivamente utilizado en la literatura. Blundy y Holland (1990) presentaron una calibración para el equilibri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4Si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= 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     cuarzo      tremolita                 alb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osteriormente, Holland y Blundy (1994), utilizando modelos de solución no ideal en anfíbola, revisaron este equilibrio, proponiendo una nueva calibración para éste e introduciendo un nuevo equilibrio geotermométric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 Na(Ca,Na)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CaAl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albita             richterita                       anort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mera reacción es aplicable a rocas saturadas en cuarzo, mientras que la segunda presenta la ventaja de no requerir presencia de cuarzo en la paragénesis de equilibrio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</a:t>
            </a:r>
            <a:r>
              <a:rPr b="1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-76.95 + 0.79P + 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3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22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b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K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(41.5-2.89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1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0,0650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256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R= 0.0083144KjK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ol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0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1-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– 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a ecuación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T° entre 4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Na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&gt; 0.02 a.p.f.u.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0.90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2=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78.44+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-an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33.6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4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(66.8-2.92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78.5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T1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 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0.0721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64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R se obtiene de igual manera que en la ecuación anterior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0.5, Y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2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1) + 3.0 Kj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e geotermómetro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plicable para T° entre 5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X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gt; 0,03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entre 0.1 y 0.9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mismos autores incluyen además un método para estimar la razón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/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en las anfíbol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Intrusivos de composición granítica a gábrica y en anfibolitas y otras metabasitas. En general, la anfíbola cristaliza en condiciones muy cercanas al solidus, por lo que los resultados dan temperaturas de solidificación del cuerpo plutónic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5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óxidos de Fe-Ti: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coexistencia de dos soluciones sólidas de óxidos Fe-Ti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) romboédricos: solución sólida hematita-ilmeni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B) cúbicos: solución sólida magnetita - ulvoespinel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 permite el cálculo de temperatura de cristalización de óxidos Fe-Ti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La estabilidad de estos minerales depende de Tº, Xi,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y P, siendo esta variable la menos importante. La estabilidad de estos minerales se ha ido conociendo a través de reacciones de buffer simples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uffer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eacción en que participa un grupo de sólidos y una fase gaseo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ex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la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del magma es controlada por la fase gaseosa presente (exsuelta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in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controlada por cristalización de un buffer (ocurre reacción) – sigue un trend tipo buff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uffer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62680" cy="6159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5335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4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6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60020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Ni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Ni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5238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2Fe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+3Si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3Fe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Si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+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429000"/>
            <a:ext cx="259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3FeO+1/2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=Fe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533520"/>
            <a:ext cx="83055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tros buffers intern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CaMg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Mg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opsido         ilmenita            hematita       esfeno         enstat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3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3CaFe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esfeno   magnetita cuarzo     hedenbergita ilmen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6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ómetro olivino-augit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(Loucks, 1996)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ntercambio catiónico Fe-Mg, calibrado experimentalmente a 1bar. Este intercambio es controlado por un coeficiente de distribución Kd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= (Fe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ol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au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Para la reacción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= 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 partir de esto, la ecuación geotermométrica es la siguient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ln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-78.025= (-5945.96/T) – 10.1327ln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Aplicaci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ocas máficas a félsicas intrusivas y extrusivas a presiones hasta 10 kbar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rincipios fundament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0 =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RT 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ln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(P y 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 f(X y 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7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ometría de saturación en circ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Watson y Harrison (1983) presentaron un modelo para estimar temperatura a la cual ocurre saturación de circón en magmas (condiciones hiper-solidus). El rango de temperatura de los datos experimentales varía entre 750 y 1020º 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ln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={-3.80-[0.85*(M-1)]}+ {12900/T}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onde M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(Na+K+2Ca)/(Al*Si) radio catiónico de la roca en cuestión y 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la razón de concentración de Zr en circón estequiométrico sobre la concentración en el magma (que es representada por la concentración en ppm en la roca estudiada).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plicación: en rocas principalmente intrusivas con circón como fase accesoria. Harrison y Watson (1984) presentaron un modelo similar para temperatura de saturación en apati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barómet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363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a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emplazamiento de un plut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b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la fuente que generó los magmas o una pausa en el ascenso del mag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952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Sirven par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1) Al en hornblenda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uno de los métodos + utilizados y + revisa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correlación positiva entre el contenido de Al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en la hbl y la presión de cristalización de la roca plutónica en la que está contenido el miner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ara asociaciones co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Qz + feld K + pl + bio + hbl + titanita + oxidos Fe-T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quilibrio barométrico (Hollister et al., 1987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2Qz + 2An + bio = or + tscherm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a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Mg,Fe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5743440"/>
            <a:ext cx="794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on aumento de la P, el equilibrio se desplaza a la derecha, causando que el anfíbol cambie en composición por el vector de intercambio Si + Mg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=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+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ultados se interpretan como P de emplazamiento del plutón si hbl ocurre como fase cercana al solidu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chmidt (1992): trabajo en tonalita, bajo P= 2,5 –13 kbar y T=655-700°C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ahoma"/>
                <a:ea typeface="Tahoma"/>
              </a:rPr>
              <a:t>hb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ahoma"/>
                <a:ea typeface="Tahoma"/>
              </a:rPr>
              <a:t>t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bajo condiciones saturadas en agu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nderson y Smith (1995): P depende de T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tricciones en la composición de anfíbole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/(Mg + Fe)&gt;0,35 y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+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)&gt;0,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((T-675)/85)*(0,530*Al 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0,005294*(T-675)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181480"/>
            <a:ext cx="792468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e mide en los bordes de anfíboles por estar seguro de que está en equilibrio con Qz (fase tardía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62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 Estabilidad de epidota magmá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123920"/>
            <a:ext cx="4419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obarómetro que apunta a la fuen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e reconoce por forma euhedral a subhedr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Mineral estable a alta P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neralmente englobada por otros minerales (Qz o feld K; que no tienen afinidad química con ella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está protegida, presenta cara corroída. Se conoce tasa de disolución de epidota y, por lo tanto, se puede estimar tiempo de disolu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hay corrosión, ascenso fue muy rápi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Intersección de curvas de estabilidad de epidota y mineral que la hospeda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P y T° bajo ciertas condiciones de oxidación /reduc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ep%20magmatica" descr=""/>
          <p:cNvPicPr/>
          <p:nvPr/>
        </p:nvPicPr>
        <p:blipFill>
          <a:blip r:embed="rId1"/>
          <a:stretch/>
        </p:blipFill>
        <p:spPr>
          <a:xfrm>
            <a:off x="521352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3500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Schmidt y Thompson (1996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51520" y="53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3) Sílice - px tschermakítico – anortita (SCA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82296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presencia de cpx (componente tschermakítico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CaTs), pl y Qz en equilibrio (McCarthy y Patiño Douce, 1998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atos experimentales desarrollados en un amplio rango de P y T° (4-32 kbar; 900-1400°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reacción: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x tsch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Qz         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plicable en granulitas y rocas gábricas y basáltic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2,5kbar) =( ((5,06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76)+((1300±800)/T)-lnK)/(276±16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P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1kbar) =( ((6,330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116)-lnK)/(301±9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K= 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An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p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/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CaTs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cpx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20480" y="3049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agu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8424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l cálculo de fugacidades de volátiles depende altamente de la T° y, para algunas reacciones, de la P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ases máficas hidratadas son las + comunes en granitoides. Px y Ol fayalítico indican alta T° y/o baja fugacidad de agu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ay tres equilibrios para determin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flogopita+3Qz=3En+sanidina+agua (Bohlen y otros, 198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 annita+3/2 Qz = sanidina + fayalita + agua (Emslie y Stirling, 199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 -7402/T (°K)) + 10,84 + (0,036*(P-1)/T) +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iO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3) ASM: annita + ½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= sanidina + mt +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O (Wones, 198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log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4819/T(°K))+6,69+3logX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1/2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0,011*(P-1))/T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ambién utilizado para calcul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biotitas" descr=""/>
          <p:cNvPicPr/>
          <p:nvPr/>
        </p:nvPicPr>
        <p:blipFill>
          <a:blip r:embed="rId1"/>
          <a:srcRect l="0" t="0" r="0" b="1985"/>
          <a:stretch/>
        </p:blipFill>
        <p:spPr>
          <a:xfrm>
            <a:off x="1523880" y="762120"/>
            <a:ext cx="5489640" cy="449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6386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es-ES" sz="2400" spc="-1" strike="noStrike" baseline="-25000">
                <a:solidFill>
                  <a:srgbClr val="f8f8f8"/>
                </a:solidFill>
                <a:latin typeface="Tahoma"/>
              </a:rPr>
              <a:t>an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= Fe/(Fe+Al</a:t>
            </a:r>
            <a:r>
              <a:rPr b="0" lang="es-ES" sz="24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+Ti+Mn+Mg)        en sitio octaédr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457200"/>
            <a:ext cx="6400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&l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ub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&g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obre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2920" y="19051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oxíge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514600"/>
            <a:ext cx="876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3CaTi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3CaFe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FeT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sfeno    magnetita              hedenbergita  ilmen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30930/T(°K)) + 14,98 + (0,142*(P-1))/T    (Wones, 1989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QFM: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=3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agnetita   Qz     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25096,3/T(°K)) + 8,735 + (0,110*(P-1))/T –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agnet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65040"/>
            <a:ext cx="876312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Cummingtonita (anfíbola ferromagnesiana monoclínica)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general, presencia de cummingtonita en rocas volcánicas indica condiciones cercanas a saturación en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 y baja profundidad (&lt; 4 kbar). La ocurrencia de este mineral en presencia de magnetita, cuarzo y ortopiroxeno presenta importante dependencia con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. A P y T conocida,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de cristalización puede ser estimada a través de diagramas de fase (Evans y Ghiorso, 1995)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ncipal reacción involucrada en el sistema es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6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7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14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48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6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ummingtonita              magnetita    cuarz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resultados obtenidos con este equilibrio en rocas volcánicas son muy similares a los obtenidos mediante composición de óxidos Fe-Ti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ausencia de magnetita y cuarzo, cummingtonita es estable a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menore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7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105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termómetros poco dependientes de pres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barómetros poco dependientes de temperatu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ummintonita" descr=""/>
          <p:cNvPicPr/>
          <p:nvPr/>
        </p:nvPicPr>
        <p:blipFill>
          <a:blip r:embed="rId1"/>
          <a:srcRect l="0" t="0" r="0" b="53789"/>
          <a:stretch/>
        </p:blipFill>
        <p:spPr>
          <a:xfrm>
            <a:off x="1447920" y="45720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5334120"/>
            <a:ext cx="6400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sópletas representan fracción de grunerita en cummingtonita (XFe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XFe = Fe/(Fe+Mg+Ca+M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99ff"/>
                </a:solidFill>
                <a:latin typeface="Tahoma"/>
              </a:rPr>
              <a:t>Estimación de Fe</a:t>
            </a:r>
            <a:r>
              <a:rPr b="0" lang="es-ES_tradnl" sz="3600" spc="-1" strike="noStrike" baseline="30000">
                <a:solidFill>
                  <a:srgbClr val="6699ff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álculo se basa en balance de carga al interior del mineral (Droop, 1987). Para esto se asume lo siguiente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e es el único catión con valencia variabl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xígeno es el único anió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tios catiónicos sin vacanci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F = 2X*(1-T/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: nº de cationes de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X: nº de oxígeno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: cantidad ideal de cationes totale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: suma de cationes obtenida inicialmente cuando todo el Fe se asume como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Para composiciones ideales (miembros extremos):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= 1  K=1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U=TdS – Pd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δS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V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 δV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S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-P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incipio de Le Chatelier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 si un sistema se ve modificado por una variable, el sistema reacciona modificando otr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8f8f8"/>
                </a:solidFill>
                <a:uFillTx/>
                <a:latin typeface="Tahoma"/>
              </a:rPr>
              <a:t>Ecuación de Clapeyr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G = -SdT + V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ones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alcita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= 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oni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 = 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(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P = (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5257800"/>
            <a:ext cx="20764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086600" y="480024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594360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181480"/>
            <a:ext cx="106668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termométricos caracterizados por mayores cambios de la  entropí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barométricos caracterizados por mayores cambios de volumen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Tipos de equilibrios geotermobarométr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Paragénesis minerale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más utilizadas en   rocas metamórfic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Huecos de miscibilidad o solvu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usados como geotermómetros (ej.: cpx-opx, calcita-dolomita, plagioclasa-feldespato alcalino). Puede presentar errores importantes debido a que pequeños cambios composicionales pueden traer grandes cambios de temperatura. Además la curva de solvus varía con la pre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2438280" y="36576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30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Reacciones de intercambio catiónic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43000" y="9144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generalmente usados como geotermómetros (ej: granate-biotita, granate-clinopiroxeno, anfíbola-plagioclasa, óxidos Fe-Ti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iagramas de distribución de Fe y Mg entre granate y clinopiroxe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22:07:59Z</dcterms:created>
  <dc:creator>Geología U. de Chile</dc:creator>
  <dc:description/>
  <dc:language>en-US</dc:language>
  <cp:lastModifiedBy>Silke</cp:lastModifiedBy>
  <dcterms:modified xsi:type="dcterms:W3CDTF">2004-08-30T13:13:16Z</dcterms:modified>
  <cp:revision>62</cp:revision>
  <dc:subject/>
  <dc:title>GEOTERMOBAROMETRÍA DE ROCAS ÍGNEAS</dc:title>
</cp:coreProperties>
</file>