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729938-CEEE-40CE-AB77-3BD95678D0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8C0AC1-835E-4C3C-B6A1-7CB9453054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0E2CE8-8DA1-447D-870B-80F1210780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4A3A7C-76CB-4F79-98E0-A3E575AB1B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AFB3DA-E621-47B2-BC8C-3FBF2804DB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4B26CF-F6D1-4984-AB60-0EAFD00FCE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38B0D7-44C1-4FFD-87D1-8585B56B39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790E3E-0F02-402B-8E36-397E88D193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692F89-4FD3-45E0-AA0E-0DA9A03898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5F5CE1-7ED8-4E49-AE66-1EE06FA005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D8B3E2-35C0-4EE1-8464-4CD67B4079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9938B9-09DD-44E2-8DEF-A73AB26B9A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084103-D6EC-4C32-90C1-C8BEFD579D3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68360" y="188640"/>
            <a:ext cx="8229600" cy="633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AREA</a:t>
            </a:r>
            <a:endParaRPr b="0" lang="en-US" sz="3200" spc="-1" strike="noStrike">
              <a:solidFill>
                <a:srgbClr val="000000"/>
              </a:solidFill>
              <a:latin typeface="Arial"/>
            </a:endParaRPr>
          </a:p>
        </p:txBody>
      </p:sp>
      <p:sp>
        <p:nvSpPr>
          <p:cNvPr id="42" name="PlaceHolder 2"/>
          <p:cNvSpPr>
            <a:spLocks noGrp="1"/>
          </p:cNvSpPr>
          <p:nvPr>
            <p:ph/>
          </p:nvPr>
        </p:nvSpPr>
        <p:spPr>
          <a:xfrm>
            <a:off x="457200" y="907560"/>
            <a:ext cx="8229600" cy="521820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Averiguar sobre los sistemas estructurales antiguos y modernos en en el Mar del Norte, Angola, Utah, Magallanes, Tailandia, Canal de Suez, Canyonlands, Basin and Range, Kenic Gregory Rift, Rocky Mountains, Jura, Monterrey (México), Zagros (Irán), Alpes (Morcles), Calcary. Énfasis a marco tectónico actual, estilo tectónico regional, edad de las deformaciones principales, tipos y edades de las rocas afectadas.</a:t>
            </a: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Averiguar sobre los siguientes conceptos: faja plegada y corrida, rift, gráben, sintectónico, offset, fuera de secuencia, en secuencia normal, partición de strain.</a:t>
            </a: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Delimitar las edades Jurasico, Cretácico, Paleoceno, Eoceno, Oligoceno, Mioceno.</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8-20T19:25:50Z</dcterms:created>
  <dc:creator>LPINTO</dc:creator>
  <dc:description/>
  <dc:language>en-US</dc:language>
  <cp:lastModifiedBy>LPINTO</cp:lastModifiedBy>
  <dcterms:modified xsi:type="dcterms:W3CDTF">2004-08-20T19:26:03Z</dcterms:modified>
  <cp:revision>1</cp:revision>
  <dc:subject/>
  <dc:title>TAREA</dc:title>
</cp:coreProperties>
</file>