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C64D0-A470-4992-92C8-C63CAA6D1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9BEDE-AC10-43AD-BBB6-E64ED924A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AF08D-8A10-4158-9AF6-3312EEEDB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37DF6-18C9-4E11-8D03-6E9B37D60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8F363-8D88-4B88-BFAD-67354125F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8074C-BC68-41E5-954D-596097B99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812AA-D6DC-401A-8A66-F87E1E78F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9A14A-EF75-434F-A282-117B61084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18F84-A7D0-45A8-8290-E6B29B135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E265-9A6D-46EA-BE9B-7C4F5FE0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1A31-F4E7-4A69-B7FC-5E5D802A0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3513F-58B2-4229-A0E5-92DC01DF7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CF48-9AB1-45F7-893A-3122B5177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REA</a:t>
            </a:r>
            <a:endParaRPr b="0" lang="en-US" sz="3200" spc="-1" strike="noStrike">
              <a:solidFill>
                <a:srgbClr val="000000"/>
              </a:solidFill>
              <a:latin typeface="Arial"/>
            </a:endParaRPr>
          </a:p>
        </p:txBody>
      </p:sp>
      <p:sp>
        <p:nvSpPr>
          <p:cNvPr id="4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stemas estructurales antiguos y modernos en en el Mar del Norte, Angola, Utah, Magallanes, Tailandia, Canal de Suez, Canyonlands, Basin and Range, Kenic Gregory Rift, Rocky Mountains, Jura, Monterrey (México), Zagros (Irán), Alpes (Morcles), Calcary. Énfasis a marco tectónico actual, estilo tectónico regional, edad de las deformaciones principales, tipos y edades de las rocas afectada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guientes conceptos: faja plegada y corrida, rift, gráben, sintectónico, offset, fuera de secuencia, en secuencia normal, partición de stra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limitar las edades Jurasico, Cretácico, Paleoceno, Eoceno, Oligoceno, Miocen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9:25:50Z</dcterms:created>
  <dc:creator>LPINTO</dc:creator>
  <dc:description/>
  <dc:language>en-US</dc:language>
  <cp:lastModifiedBy>LPINTO</cp:lastModifiedBy>
  <dcterms:modified xsi:type="dcterms:W3CDTF">2004-08-20T19:26:03Z</dcterms:modified>
  <cp:revision>1</cp:revision>
  <dc:subject/>
  <dc:title>TAREA</dc:title>
</cp:coreProperties>
</file>