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presProps.xml" ContentType="application/vnd.openxmlformats-officedocument.presentationml.presProps+xml"/>
  <Override PartName="/ppt/slides/_rels/slide1.xml.rels" ContentType="application/vnd.openxmlformats-package.relationships+xml"/>
  <Override PartName="/ppt/slides/slide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7299B43-913D-45F5-9669-095F5A3612B6}"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712F840-2813-4244-8B94-D60C711B7F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5E51F0D-3671-4994-886D-7CDD5F27D4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92B64C8-7235-4514-A694-AB3837A1FB3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38016FE-D090-4B50-9965-34D3A3D7D0B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0357D7C-8068-4C9A-A00F-9C56B6B3528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A835DAB-9B6A-450A-8B70-147BF948E58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4D4F3D6-5CDA-4DEC-A582-BB60611F739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CF511BF-55F2-4B3D-A2F1-876B0BA85A6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B6BD2B2-109B-45EB-A15B-B443C75AE6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087D7EE5-CD4B-4379-8670-B754CCED3F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37E9084-C470-42DB-850C-91A8F383B83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5E18A52-5BD6-4C20-8EB0-49BD1B63C0CC}"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468360" y="188640"/>
            <a:ext cx="8229600" cy="633240"/>
          </a:xfrm>
          <a:prstGeom prst="rect">
            <a:avLst/>
          </a:prstGeom>
          <a:noFill/>
          <a:ln w="0">
            <a:noFill/>
          </a:ln>
        </p:spPr>
        <p:txBody>
          <a:bodyPr lIns="90000" rIns="90000" tIns="46800" bIns="4680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Times New Roman"/>
              </a:rPr>
              <a:t>TAREA</a:t>
            </a:r>
            <a:endParaRPr b="0" lang="en-US" sz="3200" spc="-1" strike="noStrike">
              <a:solidFill>
                <a:srgbClr val="000000"/>
              </a:solidFill>
              <a:latin typeface="Arial"/>
            </a:endParaRPr>
          </a:p>
        </p:txBody>
      </p:sp>
      <p:sp>
        <p:nvSpPr>
          <p:cNvPr id="42" name="PlaceHolder 2"/>
          <p:cNvSpPr>
            <a:spLocks noGrp="1"/>
          </p:cNvSpPr>
          <p:nvPr>
            <p:ph/>
          </p:nvPr>
        </p:nvSpPr>
        <p:spPr>
          <a:xfrm>
            <a:off x="457200" y="907560"/>
            <a:ext cx="8229600" cy="5218200"/>
          </a:xfrm>
          <a:prstGeom prst="rect">
            <a:avLst/>
          </a:prstGeom>
          <a:noFill/>
          <a:ln w="0">
            <a:noFill/>
          </a:ln>
        </p:spPr>
        <p:txBody>
          <a:bodyPr lIns="90000" rIns="90000" tIns="46800" bIns="46800" anchor="t">
            <a:normAutofit/>
          </a:bodyPr>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stemas estructurales antiguos y modernos en en el Mar del Norte, Angola, Utah, Magallanes, Tailandia, Canal de Suez, Canyonlands, Basin and Range, Kenic Gregory Rift, Rocky Mountains, Jura, Monterrey (México), Zagros (Irán), Alpes (Morcles), Calcary. Énfasis a marco tectónico actual, estilo tectónico regional, edad de las deformaciones principales, tipos y edades de las rocas afectadas.</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Averiguar sobre los siguientes conceptos: faja plegada y corrida, rift, gráben, sintectónico, offset, fuera de secuencia, en secuencia normal, partición de strain.</a:t>
            </a:r>
            <a:endParaRPr b="0" lang="en-US" sz="2400" spc="-1" strike="noStrike">
              <a:solidFill>
                <a:srgbClr val="000000"/>
              </a:solidFill>
              <a:latin typeface="Arial"/>
            </a:endParaRPr>
          </a:p>
          <a:p>
            <a:pPr marL="343080" indent="-343080">
              <a:lnSpc>
                <a:spcPct val="100000"/>
              </a:lnSpc>
              <a:spcBef>
                <a:spcPts val="60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s-ES" sz="2400" spc="-1" strike="noStrike">
                <a:solidFill>
                  <a:srgbClr val="000000"/>
                </a:solidFill>
                <a:latin typeface="Times New Roman"/>
              </a:rPr>
              <a:t>Delimitar las edades Jurasico, Cretácico, Paleoceno, Eoceno, Oligoceno, Mioceno.</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0</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4-08-20T19:25:50Z</dcterms:created>
  <dc:creator>LPINTO</dc:creator>
  <dc:description/>
  <dc:language>en-US</dc:language>
  <cp:lastModifiedBy>LPINTO</cp:lastModifiedBy>
  <dcterms:modified xsi:type="dcterms:W3CDTF">2004-08-20T19:26:03Z</dcterms:modified>
  <cp:revision>1</cp:revision>
  <dc:subject/>
  <dc:title>TAREA</dc:title>
</cp:coreProperties>
</file>