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D84F-F8C0-4069-BD1C-7BE66FE56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29BD-C2ED-43E8-8106-9849ACB7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BF1F-0C2B-4C4D-9B5E-9A03553B4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65FE-3709-4AE4-B1B1-E883B5654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9DEA-B3DD-4566-9AAD-B6D693E6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264D-2960-4F14-8362-1395AF24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BA72-9A60-46EE-833C-35B5D840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4757-5038-48FC-8CB1-0DEC6C92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F32D-4C12-4B16-9AF4-3DBC3CBD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8E1B-F1C3-4C3C-88DC-45D3A43E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DB7D-C5FC-4BCB-B3D0-529E14C6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09AE-306E-47BE-A037-12150210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5D35-1AB3-4730-B551-706B94AB5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E AMBIENTE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874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REC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80960" y="1068480"/>
            <a:ext cx="809172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874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CLO DE BOU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3120" y="1395360"/>
            <a:ext cx="84582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874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GO CONTINENTAL SOM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14280" y="1397160"/>
            <a:ext cx="8393040" cy="45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6280" y="728640"/>
            <a:ext cx="8686800" cy="60310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6280" y="137628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34099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97640" y="3191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183440" y="1682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62320" y="201456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86280" y="29718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308400" y="13240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98760" y="13366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0040" y="41385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63800" y="37479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1960" y="348624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40600" y="34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800680" y="2193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11960" y="4334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08760" y="4290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748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98920" y="43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5412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06880" y="46674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48040" y="52484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78560" y="54007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53040" y="6227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06280" y="728640"/>
            <a:ext cx="8686800" cy="6031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m. Calizas de Charca (Plataforma carbonat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6280" y="137628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4099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97640" y="3191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183440" y="1682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62320" y="201456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86280" y="29718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08400" y="13240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98760" y="13366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0040" y="41385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63800" y="37479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1960" y="348624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40600" y="34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00680" y="2193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1960" y="4334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08760" y="4290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748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98920" y="43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5412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6880" y="46674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48040" y="52484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78560" y="54007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53040" y="6227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0040" y="914400"/>
            <a:ext cx="7904160" cy="5423040"/>
          </a:xfrm>
          <a:prstGeom prst="rect">
            <a:avLst/>
          </a:prstGeom>
          <a:solidFill>
            <a:srgbClr val="bbe0e3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6280" y="728640"/>
            <a:ext cx="8686800" cy="60310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m. Calizas y Margas de Polanco (lagoon restringi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6280" y="137628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34099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97640" y="3191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83440" y="1682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62320" y="201456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86280" y="29718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08400" y="13240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98760" y="13366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0040" y="41385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63800" y="37479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1960" y="348624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40600" y="34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00680" y="2193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11960" y="4334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08760" y="4290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48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98920" y="43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5412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06880" y="46674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48040" y="52484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78560" y="54007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53040" y="6227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857160"/>
            <a:ext cx="4514760" cy="5562720"/>
          </a:xfrm>
          <a:custGeom>
            <a:avLst/>
            <a:gdLst/>
            <a:ahLst/>
            <a:rect l="l" t="t" r="r" b="b"/>
            <a:pathLst>
              <a:path w="2844" h="3504">
                <a:moveTo>
                  <a:pt x="960" y="0"/>
                </a:moveTo>
                <a:cubicBezTo>
                  <a:pt x="955" y="96"/>
                  <a:pt x="974" y="199"/>
                  <a:pt x="936" y="288"/>
                </a:cubicBezTo>
                <a:cubicBezTo>
                  <a:pt x="926" y="311"/>
                  <a:pt x="895" y="346"/>
                  <a:pt x="876" y="360"/>
                </a:cubicBezTo>
                <a:cubicBezTo>
                  <a:pt x="853" y="378"/>
                  <a:pt x="804" y="408"/>
                  <a:pt x="804" y="408"/>
                </a:cubicBezTo>
                <a:cubicBezTo>
                  <a:pt x="769" y="460"/>
                  <a:pt x="726" y="465"/>
                  <a:pt x="672" y="492"/>
                </a:cubicBezTo>
                <a:cubicBezTo>
                  <a:pt x="659" y="498"/>
                  <a:pt x="649" y="510"/>
                  <a:pt x="636" y="516"/>
                </a:cubicBezTo>
                <a:cubicBezTo>
                  <a:pt x="550" y="553"/>
                  <a:pt x="451" y="565"/>
                  <a:pt x="360" y="588"/>
                </a:cubicBezTo>
                <a:cubicBezTo>
                  <a:pt x="315" y="599"/>
                  <a:pt x="272" y="621"/>
                  <a:pt x="228" y="636"/>
                </a:cubicBezTo>
                <a:cubicBezTo>
                  <a:pt x="179" y="673"/>
                  <a:pt x="154" y="681"/>
                  <a:pt x="96" y="696"/>
                </a:cubicBezTo>
                <a:cubicBezTo>
                  <a:pt x="73" y="765"/>
                  <a:pt x="34" y="910"/>
                  <a:pt x="84" y="960"/>
                </a:cubicBezTo>
                <a:cubicBezTo>
                  <a:pt x="100" y="976"/>
                  <a:pt x="124" y="984"/>
                  <a:pt x="144" y="996"/>
                </a:cubicBezTo>
                <a:cubicBezTo>
                  <a:pt x="191" y="1090"/>
                  <a:pt x="209" y="1107"/>
                  <a:pt x="312" y="1128"/>
                </a:cubicBezTo>
                <a:cubicBezTo>
                  <a:pt x="324" y="1238"/>
                  <a:pt x="357" y="1334"/>
                  <a:pt x="384" y="1440"/>
                </a:cubicBezTo>
                <a:cubicBezTo>
                  <a:pt x="365" y="1496"/>
                  <a:pt x="377" y="1513"/>
                  <a:pt x="324" y="1548"/>
                </a:cubicBezTo>
                <a:cubicBezTo>
                  <a:pt x="295" y="1634"/>
                  <a:pt x="336" y="1530"/>
                  <a:pt x="276" y="1620"/>
                </a:cubicBezTo>
                <a:cubicBezTo>
                  <a:pt x="269" y="1631"/>
                  <a:pt x="275" y="1650"/>
                  <a:pt x="264" y="1656"/>
                </a:cubicBezTo>
                <a:cubicBezTo>
                  <a:pt x="227" y="1677"/>
                  <a:pt x="112" y="1687"/>
                  <a:pt x="72" y="1692"/>
                </a:cubicBezTo>
                <a:cubicBezTo>
                  <a:pt x="64" y="1700"/>
                  <a:pt x="13" y="1746"/>
                  <a:pt x="12" y="1764"/>
                </a:cubicBezTo>
                <a:cubicBezTo>
                  <a:pt x="0" y="1926"/>
                  <a:pt x="34" y="1864"/>
                  <a:pt x="60" y="1968"/>
                </a:cubicBezTo>
                <a:cubicBezTo>
                  <a:pt x="65" y="1988"/>
                  <a:pt x="61" y="2011"/>
                  <a:pt x="72" y="2028"/>
                </a:cubicBezTo>
                <a:cubicBezTo>
                  <a:pt x="102" y="2076"/>
                  <a:pt x="138" y="2096"/>
                  <a:pt x="180" y="2124"/>
                </a:cubicBezTo>
                <a:cubicBezTo>
                  <a:pt x="224" y="2191"/>
                  <a:pt x="179" y="2138"/>
                  <a:pt x="240" y="2172"/>
                </a:cubicBezTo>
                <a:cubicBezTo>
                  <a:pt x="302" y="2207"/>
                  <a:pt x="352" y="2245"/>
                  <a:pt x="420" y="2268"/>
                </a:cubicBezTo>
                <a:cubicBezTo>
                  <a:pt x="478" y="2355"/>
                  <a:pt x="503" y="2396"/>
                  <a:pt x="528" y="2496"/>
                </a:cubicBezTo>
                <a:cubicBezTo>
                  <a:pt x="524" y="2540"/>
                  <a:pt x="525" y="2585"/>
                  <a:pt x="516" y="2628"/>
                </a:cubicBezTo>
                <a:cubicBezTo>
                  <a:pt x="488" y="2759"/>
                  <a:pt x="156" y="2745"/>
                  <a:pt x="96" y="2748"/>
                </a:cubicBezTo>
                <a:cubicBezTo>
                  <a:pt x="80" y="2752"/>
                  <a:pt x="61" y="2750"/>
                  <a:pt x="48" y="2760"/>
                </a:cubicBezTo>
                <a:cubicBezTo>
                  <a:pt x="38" y="2768"/>
                  <a:pt x="36" y="2783"/>
                  <a:pt x="36" y="2796"/>
                </a:cubicBezTo>
                <a:cubicBezTo>
                  <a:pt x="36" y="2886"/>
                  <a:pt x="52" y="3007"/>
                  <a:pt x="132" y="3060"/>
                </a:cubicBezTo>
                <a:cubicBezTo>
                  <a:pt x="201" y="3163"/>
                  <a:pt x="109" y="3042"/>
                  <a:pt x="192" y="3108"/>
                </a:cubicBezTo>
                <a:cubicBezTo>
                  <a:pt x="203" y="3117"/>
                  <a:pt x="206" y="3134"/>
                  <a:pt x="216" y="3144"/>
                </a:cubicBezTo>
                <a:cubicBezTo>
                  <a:pt x="226" y="3154"/>
                  <a:pt x="241" y="3159"/>
                  <a:pt x="252" y="3168"/>
                </a:cubicBezTo>
                <a:cubicBezTo>
                  <a:pt x="290" y="3200"/>
                  <a:pt x="306" y="3236"/>
                  <a:pt x="348" y="3264"/>
                </a:cubicBezTo>
                <a:cubicBezTo>
                  <a:pt x="361" y="3343"/>
                  <a:pt x="408" y="3429"/>
                  <a:pt x="408" y="3504"/>
                </a:cubicBezTo>
                <a:lnTo>
                  <a:pt x="2808" y="3492"/>
                </a:lnTo>
                <a:lnTo>
                  <a:pt x="2844" y="0"/>
                </a:lnTo>
                <a:lnTo>
                  <a:pt x="960" y="0"/>
                </a:lnTo>
                <a:close/>
              </a:path>
            </a:pathLst>
          </a:custGeom>
          <a:solidFill>
            <a:srgbClr val="0000ff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06280" y="728640"/>
            <a:ext cx="8686800" cy="60310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m. Calizas y Dolomías Masivas de Talcahuano (Arrecif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6280" y="137628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34099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97640" y="3191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83440" y="1682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62320" y="201456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86280" y="29718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08400" y="13240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98760" y="13366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0040" y="41385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63800" y="37479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1960" y="348624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40600" y="34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00680" y="2193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11960" y="4334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08760" y="4290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748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8920" y="43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412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6880" y="46674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48040" y="52484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78560" y="54007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53040" y="6227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73320" y="857160"/>
            <a:ext cx="1701720" cy="5572080"/>
          </a:xfrm>
          <a:custGeom>
            <a:avLst/>
            <a:gdLst/>
            <a:ahLst/>
            <a:rect l="l" t="t" r="r" b="b"/>
            <a:pathLst>
              <a:path w="1072" h="3510">
                <a:moveTo>
                  <a:pt x="992" y="0"/>
                </a:moveTo>
                <a:cubicBezTo>
                  <a:pt x="1012" y="1"/>
                  <a:pt x="1000" y="40"/>
                  <a:pt x="1004" y="60"/>
                </a:cubicBezTo>
                <a:cubicBezTo>
                  <a:pt x="1022" y="141"/>
                  <a:pt x="1048" y="219"/>
                  <a:pt x="1064" y="300"/>
                </a:cubicBezTo>
                <a:cubicBezTo>
                  <a:pt x="1054" y="410"/>
                  <a:pt x="1072" y="438"/>
                  <a:pt x="992" y="492"/>
                </a:cubicBezTo>
                <a:cubicBezTo>
                  <a:pt x="958" y="544"/>
                  <a:pt x="940" y="543"/>
                  <a:pt x="884" y="564"/>
                </a:cubicBezTo>
                <a:cubicBezTo>
                  <a:pt x="867" y="570"/>
                  <a:pt x="852" y="581"/>
                  <a:pt x="836" y="588"/>
                </a:cubicBezTo>
                <a:cubicBezTo>
                  <a:pt x="824" y="593"/>
                  <a:pt x="812" y="596"/>
                  <a:pt x="800" y="600"/>
                </a:cubicBezTo>
                <a:cubicBezTo>
                  <a:pt x="780" y="660"/>
                  <a:pt x="772" y="720"/>
                  <a:pt x="752" y="780"/>
                </a:cubicBezTo>
                <a:cubicBezTo>
                  <a:pt x="760" y="1016"/>
                  <a:pt x="707" y="1084"/>
                  <a:pt x="812" y="1224"/>
                </a:cubicBezTo>
                <a:cubicBezTo>
                  <a:pt x="844" y="1321"/>
                  <a:pt x="871" y="1497"/>
                  <a:pt x="776" y="1560"/>
                </a:cubicBezTo>
                <a:cubicBezTo>
                  <a:pt x="732" y="1625"/>
                  <a:pt x="707" y="1675"/>
                  <a:pt x="692" y="1752"/>
                </a:cubicBezTo>
                <a:cubicBezTo>
                  <a:pt x="696" y="1812"/>
                  <a:pt x="698" y="1872"/>
                  <a:pt x="704" y="1932"/>
                </a:cubicBezTo>
                <a:cubicBezTo>
                  <a:pt x="713" y="2017"/>
                  <a:pt x="775" y="2171"/>
                  <a:pt x="824" y="2244"/>
                </a:cubicBezTo>
                <a:cubicBezTo>
                  <a:pt x="836" y="2290"/>
                  <a:pt x="838" y="2345"/>
                  <a:pt x="860" y="2388"/>
                </a:cubicBezTo>
                <a:cubicBezTo>
                  <a:pt x="907" y="2481"/>
                  <a:pt x="866" y="2370"/>
                  <a:pt x="896" y="2460"/>
                </a:cubicBezTo>
                <a:cubicBezTo>
                  <a:pt x="892" y="2488"/>
                  <a:pt x="895" y="2518"/>
                  <a:pt x="884" y="2544"/>
                </a:cubicBezTo>
                <a:cubicBezTo>
                  <a:pt x="878" y="2557"/>
                  <a:pt x="857" y="2557"/>
                  <a:pt x="848" y="2568"/>
                </a:cubicBezTo>
                <a:cubicBezTo>
                  <a:pt x="818" y="2602"/>
                  <a:pt x="777" y="2682"/>
                  <a:pt x="740" y="2712"/>
                </a:cubicBezTo>
                <a:cubicBezTo>
                  <a:pt x="700" y="2746"/>
                  <a:pt x="636" y="2760"/>
                  <a:pt x="608" y="2772"/>
                </a:cubicBezTo>
                <a:cubicBezTo>
                  <a:pt x="597" y="2778"/>
                  <a:pt x="583" y="2778"/>
                  <a:pt x="572" y="2784"/>
                </a:cubicBezTo>
                <a:cubicBezTo>
                  <a:pt x="477" y="2838"/>
                  <a:pt x="571" y="2808"/>
                  <a:pt x="476" y="2832"/>
                </a:cubicBezTo>
                <a:cubicBezTo>
                  <a:pt x="454" y="2854"/>
                  <a:pt x="654" y="3182"/>
                  <a:pt x="632" y="3204"/>
                </a:cubicBezTo>
                <a:cubicBezTo>
                  <a:pt x="622" y="3214"/>
                  <a:pt x="739" y="3363"/>
                  <a:pt x="728" y="3372"/>
                </a:cubicBezTo>
                <a:cubicBezTo>
                  <a:pt x="718" y="3380"/>
                  <a:pt x="643" y="3498"/>
                  <a:pt x="632" y="3504"/>
                </a:cubicBezTo>
                <a:cubicBezTo>
                  <a:pt x="619" y="3510"/>
                  <a:pt x="104" y="3484"/>
                  <a:pt x="92" y="3492"/>
                </a:cubicBezTo>
                <a:cubicBezTo>
                  <a:pt x="0" y="3414"/>
                  <a:pt x="84" y="3118"/>
                  <a:pt x="80" y="3036"/>
                </a:cubicBezTo>
                <a:cubicBezTo>
                  <a:pt x="69" y="3030"/>
                  <a:pt x="68" y="3013"/>
                  <a:pt x="68" y="3000"/>
                </a:cubicBezTo>
                <a:cubicBezTo>
                  <a:pt x="68" y="2936"/>
                  <a:pt x="74" y="2872"/>
                  <a:pt x="80" y="2808"/>
                </a:cubicBezTo>
                <a:cubicBezTo>
                  <a:pt x="81" y="2800"/>
                  <a:pt x="93" y="2698"/>
                  <a:pt x="104" y="2676"/>
                </a:cubicBezTo>
                <a:cubicBezTo>
                  <a:pt x="177" y="2529"/>
                  <a:pt x="122" y="2660"/>
                  <a:pt x="188" y="2568"/>
                </a:cubicBezTo>
                <a:cubicBezTo>
                  <a:pt x="198" y="2553"/>
                  <a:pt x="203" y="2536"/>
                  <a:pt x="212" y="2520"/>
                </a:cubicBezTo>
                <a:cubicBezTo>
                  <a:pt x="271" y="2416"/>
                  <a:pt x="326" y="2365"/>
                  <a:pt x="356" y="2244"/>
                </a:cubicBezTo>
                <a:cubicBezTo>
                  <a:pt x="362" y="2116"/>
                  <a:pt x="380" y="1988"/>
                  <a:pt x="380" y="1860"/>
                </a:cubicBezTo>
                <a:cubicBezTo>
                  <a:pt x="380" y="1697"/>
                  <a:pt x="357" y="1541"/>
                  <a:pt x="344" y="1380"/>
                </a:cubicBezTo>
                <a:cubicBezTo>
                  <a:pt x="348" y="1344"/>
                  <a:pt x="344" y="1306"/>
                  <a:pt x="356" y="1272"/>
                </a:cubicBezTo>
                <a:cubicBezTo>
                  <a:pt x="361" y="1258"/>
                  <a:pt x="383" y="1259"/>
                  <a:pt x="392" y="1248"/>
                </a:cubicBezTo>
                <a:cubicBezTo>
                  <a:pt x="403" y="1234"/>
                  <a:pt x="409" y="1216"/>
                  <a:pt x="416" y="1200"/>
                </a:cubicBezTo>
                <a:cubicBezTo>
                  <a:pt x="445" y="1133"/>
                  <a:pt x="453" y="1054"/>
                  <a:pt x="476" y="984"/>
                </a:cubicBezTo>
                <a:cubicBezTo>
                  <a:pt x="468" y="743"/>
                  <a:pt x="466" y="547"/>
                  <a:pt x="392" y="324"/>
                </a:cubicBezTo>
                <a:cubicBezTo>
                  <a:pt x="399" y="216"/>
                  <a:pt x="416" y="118"/>
                  <a:pt x="416" y="12"/>
                </a:cubicBezTo>
              </a:path>
            </a:pathLst>
          </a:custGeom>
          <a:solidFill>
            <a:srgbClr val="ff6600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06280" y="728640"/>
            <a:ext cx="8686800" cy="60310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m. Margas de Huilque (Plataforma exter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6280" y="137628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34099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97640" y="3191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183440" y="1682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62320" y="201456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86280" y="29718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08400" y="13240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98760" y="13366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0040" y="41385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63800" y="37479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01960" y="348624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140600" y="34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00680" y="2193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11960" y="4334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08760" y="4290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748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98920" y="43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5412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06880" y="46674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48040" y="52484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378560" y="54007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53040" y="6227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1680" y="870120"/>
            <a:ext cx="3138480" cy="5587920"/>
          </a:xfrm>
          <a:custGeom>
            <a:avLst/>
            <a:gdLst/>
            <a:ahLst/>
            <a:rect l="l" t="t" r="r" b="b"/>
            <a:pathLst>
              <a:path w="1977" h="3520">
                <a:moveTo>
                  <a:pt x="12" y="4"/>
                </a:moveTo>
                <a:cubicBezTo>
                  <a:pt x="652" y="8"/>
                  <a:pt x="1292" y="0"/>
                  <a:pt x="1932" y="16"/>
                </a:cubicBezTo>
                <a:cubicBezTo>
                  <a:pt x="1977" y="17"/>
                  <a:pt x="1915" y="48"/>
                  <a:pt x="1884" y="88"/>
                </a:cubicBezTo>
                <a:cubicBezTo>
                  <a:pt x="1866" y="111"/>
                  <a:pt x="1852" y="136"/>
                  <a:pt x="1836" y="160"/>
                </a:cubicBezTo>
                <a:cubicBezTo>
                  <a:pt x="1822" y="181"/>
                  <a:pt x="1815" y="258"/>
                  <a:pt x="1812" y="268"/>
                </a:cubicBezTo>
                <a:cubicBezTo>
                  <a:pt x="1790" y="357"/>
                  <a:pt x="1763" y="377"/>
                  <a:pt x="1716" y="448"/>
                </a:cubicBezTo>
                <a:cubicBezTo>
                  <a:pt x="1708" y="488"/>
                  <a:pt x="1705" y="529"/>
                  <a:pt x="1692" y="568"/>
                </a:cubicBezTo>
                <a:cubicBezTo>
                  <a:pt x="1684" y="592"/>
                  <a:pt x="1668" y="640"/>
                  <a:pt x="1668" y="640"/>
                </a:cubicBezTo>
                <a:cubicBezTo>
                  <a:pt x="1645" y="802"/>
                  <a:pt x="1669" y="668"/>
                  <a:pt x="1644" y="760"/>
                </a:cubicBezTo>
                <a:cubicBezTo>
                  <a:pt x="1635" y="792"/>
                  <a:pt x="1620" y="856"/>
                  <a:pt x="1620" y="856"/>
                </a:cubicBezTo>
                <a:cubicBezTo>
                  <a:pt x="1624" y="896"/>
                  <a:pt x="1620" y="938"/>
                  <a:pt x="1632" y="976"/>
                </a:cubicBezTo>
                <a:cubicBezTo>
                  <a:pt x="1637" y="992"/>
                  <a:pt x="1659" y="998"/>
                  <a:pt x="1668" y="1012"/>
                </a:cubicBezTo>
                <a:cubicBezTo>
                  <a:pt x="1675" y="1022"/>
                  <a:pt x="1690" y="1090"/>
                  <a:pt x="1692" y="1096"/>
                </a:cubicBezTo>
                <a:cubicBezTo>
                  <a:pt x="1711" y="1365"/>
                  <a:pt x="1675" y="1191"/>
                  <a:pt x="1764" y="1324"/>
                </a:cubicBezTo>
                <a:cubicBezTo>
                  <a:pt x="1760" y="1352"/>
                  <a:pt x="1760" y="1381"/>
                  <a:pt x="1752" y="1408"/>
                </a:cubicBezTo>
                <a:cubicBezTo>
                  <a:pt x="1737" y="1460"/>
                  <a:pt x="1682" y="1490"/>
                  <a:pt x="1644" y="1528"/>
                </a:cubicBezTo>
                <a:cubicBezTo>
                  <a:pt x="1631" y="1541"/>
                  <a:pt x="1628" y="1560"/>
                  <a:pt x="1620" y="1576"/>
                </a:cubicBezTo>
                <a:cubicBezTo>
                  <a:pt x="1627" y="1620"/>
                  <a:pt x="1630" y="1686"/>
                  <a:pt x="1668" y="1720"/>
                </a:cubicBezTo>
                <a:cubicBezTo>
                  <a:pt x="1689" y="1739"/>
                  <a:pt x="1773" y="1790"/>
                  <a:pt x="1800" y="1828"/>
                </a:cubicBezTo>
                <a:cubicBezTo>
                  <a:pt x="1810" y="1843"/>
                  <a:pt x="1817" y="1859"/>
                  <a:pt x="1824" y="1876"/>
                </a:cubicBezTo>
                <a:cubicBezTo>
                  <a:pt x="1833" y="1899"/>
                  <a:pt x="1848" y="1948"/>
                  <a:pt x="1848" y="1948"/>
                </a:cubicBezTo>
                <a:cubicBezTo>
                  <a:pt x="1826" y="2059"/>
                  <a:pt x="1789" y="2111"/>
                  <a:pt x="1692" y="2176"/>
                </a:cubicBezTo>
                <a:cubicBezTo>
                  <a:pt x="1679" y="2214"/>
                  <a:pt x="1667" y="2260"/>
                  <a:pt x="1632" y="2284"/>
                </a:cubicBezTo>
                <a:cubicBezTo>
                  <a:pt x="1620" y="2292"/>
                  <a:pt x="1606" y="2298"/>
                  <a:pt x="1596" y="2308"/>
                </a:cubicBezTo>
                <a:cubicBezTo>
                  <a:pt x="1582" y="2322"/>
                  <a:pt x="1575" y="2343"/>
                  <a:pt x="1560" y="2356"/>
                </a:cubicBezTo>
                <a:cubicBezTo>
                  <a:pt x="1504" y="2406"/>
                  <a:pt x="1499" y="2401"/>
                  <a:pt x="1440" y="2416"/>
                </a:cubicBezTo>
                <a:cubicBezTo>
                  <a:pt x="1428" y="2428"/>
                  <a:pt x="1413" y="2438"/>
                  <a:pt x="1404" y="2452"/>
                </a:cubicBezTo>
                <a:cubicBezTo>
                  <a:pt x="1380" y="2488"/>
                  <a:pt x="1397" y="2536"/>
                  <a:pt x="1404" y="2572"/>
                </a:cubicBezTo>
                <a:cubicBezTo>
                  <a:pt x="1417" y="2639"/>
                  <a:pt x="1468" y="2703"/>
                  <a:pt x="1524" y="2740"/>
                </a:cubicBezTo>
                <a:cubicBezTo>
                  <a:pt x="1563" y="2799"/>
                  <a:pt x="1560" y="2810"/>
                  <a:pt x="1548" y="2884"/>
                </a:cubicBezTo>
                <a:cubicBezTo>
                  <a:pt x="1559" y="2950"/>
                  <a:pt x="1545" y="2983"/>
                  <a:pt x="1608" y="3004"/>
                </a:cubicBezTo>
                <a:cubicBezTo>
                  <a:pt x="1644" y="3058"/>
                  <a:pt x="1631" y="3075"/>
                  <a:pt x="1680" y="3124"/>
                </a:cubicBezTo>
                <a:cubicBezTo>
                  <a:pt x="1697" y="3193"/>
                  <a:pt x="1731" y="3269"/>
                  <a:pt x="1800" y="3292"/>
                </a:cubicBezTo>
                <a:cubicBezTo>
                  <a:pt x="1838" y="3349"/>
                  <a:pt x="1819" y="3314"/>
                  <a:pt x="1848" y="3400"/>
                </a:cubicBezTo>
                <a:cubicBezTo>
                  <a:pt x="1853" y="3414"/>
                  <a:pt x="1868" y="3422"/>
                  <a:pt x="1872" y="3436"/>
                </a:cubicBezTo>
                <a:cubicBezTo>
                  <a:pt x="1876" y="3451"/>
                  <a:pt x="1872" y="3468"/>
                  <a:pt x="1872" y="3484"/>
                </a:cubicBezTo>
                <a:lnTo>
                  <a:pt x="0" y="3520"/>
                </a:lnTo>
                <a:lnTo>
                  <a:pt x="12" y="4"/>
                </a:lnTo>
                <a:close/>
              </a:path>
            </a:pathLst>
          </a:custGeom>
          <a:solidFill>
            <a:srgbClr val="3366ff">
              <a:alpha val="7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06280" y="728640"/>
            <a:ext cx="8686800" cy="603108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m. Margocalizas de Cautín (Plataforma exter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06280" y="137628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34099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97640" y="3191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183440" y="1682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62320" y="201456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86280" y="29718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08400" y="13240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98760" y="13366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0040" y="41385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63800" y="37479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1960" y="348624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140600" y="34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800680" y="2193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311960" y="4334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08760" y="4290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748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98920" y="43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5412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06880" y="46674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48040" y="52484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378560" y="54007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53040" y="6227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381560" y="806400"/>
            <a:ext cx="4095720" cy="5651640"/>
          </a:xfrm>
          <a:custGeom>
            <a:avLst/>
            <a:gdLst/>
            <a:ahLst/>
            <a:rect l="l" t="t" r="r" b="b"/>
            <a:pathLst>
              <a:path w="2580" h="3560">
                <a:moveTo>
                  <a:pt x="2568" y="44"/>
                </a:moveTo>
                <a:cubicBezTo>
                  <a:pt x="1812" y="40"/>
                  <a:pt x="1055" y="0"/>
                  <a:pt x="300" y="32"/>
                </a:cubicBezTo>
                <a:cubicBezTo>
                  <a:pt x="264" y="34"/>
                  <a:pt x="306" y="104"/>
                  <a:pt x="312" y="140"/>
                </a:cubicBezTo>
                <a:cubicBezTo>
                  <a:pt x="317" y="169"/>
                  <a:pt x="330" y="195"/>
                  <a:pt x="336" y="224"/>
                </a:cubicBezTo>
                <a:cubicBezTo>
                  <a:pt x="347" y="278"/>
                  <a:pt x="355" y="328"/>
                  <a:pt x="372" y="380"/>
                </a:cubicBezTo>
                <a:cubicBezTo>
                  <a:pt x="364" y="541"/>
                  <a:pt x="410" y="606"/>
                  <a:pt x="300" y="680"/>
                </a:cubicBezTo>
                <a:cubicBezTo>
                  <a:pt x="275" y="731"/>
                  <a:pt x="234" y="793"/>
                  <a:pt x="216" y="848"/>
                </a:cubicBezTo>
                <a:cubicBezTo>
                  <a:pt x="322" y="919"/>
                  <a:pt x="343" y="1068"/>
                  <a:pt x="372" y="1184"/>
                </a:cubicBezTo>
                <a:cubicBezTo>
                  <a:pt x="364" y="1299"/>
                  <a:pt x="384" y="1384"/>
                  <a:pt x="288" y="1448"/>
                </a:cubicBezTo>
                <a:cubicBezTo>
                  <a:pt x="252" y="1520"/>
                  <a:pt x="240" y="1532"/>
                  <a:pt x="168" y="1580"/>
                </a:cubicBezTo>
                <a:cubicBezTo>
                  <a:pt x="118" y="1614"/>
                  <a:pt x="133" y="1644"/>
                  <a:pt x="72" y="1664"/>
                </a:cubicBezTo>
                <a:cubicBezTo>
                  <a:pt x="55" y="1715"/>
                  <a:pt x="30" y="1755"/>
                  <a:pt x="12" y="1808"/>
                </a:cubicBezTo>
                <a:cubicBezTo>
                  <a:pt x="8" y="1820"/>
                  <a:pt x="0" y="1844"/>
                  <a:pt x="0" y="1844"/>
                </a:cubicBezTo>
                <a:cubicBezTo>
                  <a:pt x="8" y="1931"/>
                  <a:pt x="13" y="1983"/>
                  <a:pt x="36" y="2060"/>
                </a:cubicBezTo>
                <a:cubicBezTo>
                  <a:pt x="47" y="2096"/>
                  <a:pt x="60" y="2132"/>
                  <a:pt x="72" y="2168"/>
                </a:cubicBezTo>
                <a:cubicBezTo>
                  <a:pt x="76" y="2180"/>
                  <a:pt x="84" y="2204"/>
                  <a:pt x="84" y="2204"/>
                </a:cubicBezTo>
                <a:cubicBezTo>
                  <a:pt x="97" y="2306"/>
                  <a:pt x="112" y="2407"/>
                  <a:pt x="144" y="2504"/>
                </a:cubicBezTo>
                <a:cubicBezTo>
                  <a:pt x="125" y="2637"/>
                  <a:pt x="155" y="2548"/>
                  <a:pt x="96" y="2624"/>
                </a:cubicBezTo>
                <a:cubicBezTo>
                  <a:pt x="78" y="2647"/>
                  <a:pt x="48" y="2696"/>
                  <a:pt x="48" y="2696"/>
                </a:cubicBezTo>
                <a:cubicBezTo>
                  <a:pt x="44" y="2760"/>
                  <a:pt x="42" y="2824"/>
                  <a:pt x="36" y="2888"/>
                </a:cubicBezTo>
                <a:cubicBezTo>
                  <a:pt x="28" y="2976"/>
                  <a:pt x="15" y="3002"/>
                  <a:pt x="96" y="3056"/>
                </a:cubicBezTo>
                <a:cubicBezTo>
                  <a:pt x="104" y="3080"/>
                  <a:pt x="106" y="3107"/>
                  <a:pt x="120" y="3128"/>
                </a:cubicBezTo>
                <a:cubicBezTo>
                  <a:pt x="175" y="3211"/>
                  <a:pt x="159" y="3173"/>
                  <a:pt x="180" y="3236"/>
                </a:cubicBezTo>
                <a:cubicBezTo>
                  <a:pt x="184" y="3272"/>
                  <a:pt x="181" y="3310"/>
                  <a:pt x="192" y="3344"/>
                </a:cubicBezTo>
                <a:cubicBezTo>
                  <a:pt x="201" y="3371"/>
                  <a:pt x="240" y="3416"/>
                  <a:pt x="240" y="3416"/>
                </a:cubicBezTo>
                <a:cubicBezTo>
                  <a:pt x="253" y="3554"/>
                  <a:pt x="283" y="3517"/>
                  <a:pt x="240" y="3560"/>
                </a:cubicBezTo>
                <a:lnTo>
                  <a:pt x="2580" y="3524"/>
                </a:lnTo>
                <a:lnTo>
                  <a:pt x="2568" y="44"/>
                </a:lnTo>
                <a:close/>
              </a:path>
            </a:pathLst>
          </a:custGeom>
          <a:solidFill>
            <a:srgbClr val="333399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06280" y="728640"/>
            <a:ext cx="8686800" cy="60310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m. Calizas rojas de Colombo (Platafor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6280" y="137628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34099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97640" y="3191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183440" y="1682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62320" y="201456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86280" y="29718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08400" y="13240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98760" y="13366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0040" y="41385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63800" y="37479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01960" y="348624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140600" y="34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800680" y="2193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311960" y="4334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08760" y="4290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748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98920" y="43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5412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06880" y="46674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48040" y="52484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378560" y="54007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53040" y="6227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32240" y="857160"/>
            <a:ext cx="1604880" cy="3071880"/>
          </a:xfrm>
          <a:custGeom>
            <a:avLst/>
            <a:gdLst/>
            <a:ahLst/>
            <a:rect l="l" t="t" r="r" b="b"/>
            <a:pathLst>
              <a:path w="1011" h="1935">
                <a:moveTo>
                  <a:pt x="982" y="0"/>
                </a:moveTo>
                <a:cubicBezTo>
                  <a:pt x="997" y="5"/>
                  <a:pt x="1011" y="377"/>
                  <a:pt x="910" y="444"/>
                </a:cubicBezTo>
                <a:cubicBezTo>
                  <a:pt x="886" y="460"/>
                  <a:pt x="838" y="492"/>
                  <a:pt x="838" y="492"/>
                </a:cubicBezTo>
                <a:cubicBezTo>
                  <a:pt x="802" y="545"/>
                  <a:pt x="788" y="526"/>
                  <a:pt x="742" y="564"/>
                </a:cubicBezTo>
                <a:cubicBezTo>
                  <a:pt x="700" y="599"/>
                  <a:pt x="706" y="599"/>
                  <a:pt x="682" y="648"/>
                </a:cubicBezTo>
                <a:cubicBezTo>
                  <a:pt x="673" y="702"/>
                  <a:pt x="662" y="752"/>
                  <a:pt x="646" y="804"/>
                </a:cubicBezTo>
                <a:cubicBezTo>
                  <a:pt x="639" y="828"/>
                  <a:pt x="622" y="876"/>
                  <a:pt x="622" y="876"/>
                </a:cubicBezTo>
                <a:cubicBezTo>
                  <a:pt x="630" y="1125"/>
                  <a:pt x="671" y="1236"/>
                  <a:pt x="586" y="1428"/>
                </a:cubicBezTo>
                <a:cubicBezTo>
                  <a:pt x="547" y="1516"/>
                  <a:pt x="591" y="1490"/>
                  <a:pt x="526" y="1512"/>
                </a:cubicBezTo>
                <a:cubicBezTo>
                  <a:pt x="496" y="1602"/>
                  <a:pt x="540" y="1494"/>
                  <a:pt x="478" y="1572"/>
                </a:cubicBezTo>
                <a:cubicBezTo>
                  <a:pt x="470" y="1582"/>
                  <a:pt x="475" y="1599"/>
                  <a:pt x="466" y="1608"/>
                </a:cubicBezTo>
                <a:cubicBezTo>
                  <a:pt x="446" y="1628"/>
                  <a:pt x="394" y="1656"/>
                  <a:pt x="394" y="1656"/>
                </a:cubicBezTo>
                <a:cubicBezTo>
                  <a:pt x="364" y="1701"/>
                  <a:pt x="351" y="1749"/>
                  <a:pt x="334" y="1800"/>
                </a:cubicBezTo>
                <a:cubicBezTo>
                  <a:pt x="327" y="1822"/>
                  <a:pt x="313" y="1869"/>
                  <a:pt x="298" y="1884"/>
                </a:cubicBezTo>
                <a:cubicBezTo>
                  <a:pt x="289" y="1893"/>
                  <a:pt x="274" y="1892"/>
                  <a:pt x="262" y="1896"/>
                </a:cubicBezTo>
                <a:cubicBezTo>
                  <a:pt x="254" y="1908"/>
                  <a:pt x="252" y="1930"/>
                  <a:pt x="238" y="1932"/>
                </a:cubicBezTo>
                <a:cubicBezTo>
                  <a:pt x="217" y="1935"/>
                  <a:pt x="197" y="1918"/>
                  <a:pt x="178" y="1908"/>
                </a:cubicBezTo>
                <a:cubicBezTo>
                  <a:pt x="135" y="1884"/>
                  <a:pt x="92" y="1846"/>
                  <a:pt x="58" y="1812"/>
                </a:cubicBezTo>
                <a:cubicBezTo>
                  <a:pt x="0" y="1637"/>
                  <a:pt x="50" y="1379"/>
                  <a:pt x="82" y="1188"/>
                </a:cubicBezTo>
                <a:cubicBezTo>
                  <a:pt x="86" y="1072"/>
                  <a:pt x="84" y="956"/>
                  <a:pt x="94" y="840"/>
                </a:cubicBezTo>
                <a:cubicBezTo>
                  <a:pt x="97" y="802"/>
                  <a:pt x="118" y="768"/>
                  <a:pt x="130" y="732"/>
                </a:cubicBezTo>
                <a:cubicBezTo>
                  <a:pt x="138" y="708"/>
                  <a:pt x="154" y="660"/>
                  <a:pt x="154" y="660"/>
                </a:cubicBezTo>
                <a:cubicBezTo>
                  <a:pt x="150" y="564"/>
                  <a:pt x="152" y="468"/>
                  <a:pt x="142" y="372"/>
                </a:cubicBezTo>
                <a:cubicBezTo>
                  <a:pt x="137" y="327"/>
                  <a:pt x="115" y="285"/>
                  <a:pt x="106" y="240"/>
                </a:cubicBezTo>
                <a:cubicBezTo>
                  <a:pt x="132" y="59"/>
                  <a:pt x="88" y="214"/>
                  <a:pt x="154" y="132"/>
                </a:cubicBezTo>
                <a:cubicBezTo>
                  <a:pt x="201" y="74"/>
                  <a:pt x="123" y="110"/>
                  <a:pt x="202" y="84"/>
                </a:cubicBezTo>
                <a:cubicBezTo>
                  <a:pt x="206" y="68"/>
                  <a:pt x="226" y="0"/>
                  <a:pt x="226" y="0"/>
                </a:cubicBezTo>
              </a:path>
            </a:pathLst>
          </a:custGeom>
          <a:solidFill>
            <a:srgbClr val="666699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874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TAFORMA CARBONAT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100080" y="704880"/>
            <a:ext cx="9318600" cy="60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06280" y="728640"/>
            <a:ext cx="8686800" cy="603108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m. Calizas y Margas de Budi (platafor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06280" y="137628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34099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97640" y="3191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183440" y="1682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162320" y="201456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86280" y="29718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308400" y="13240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598760" y="13366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0040" y="41385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63800" y="37479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01960" y="348624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140600" y="34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800680" y="2193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11960" y="4334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08760" y="4290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748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98920" y="43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5412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06880" y="46674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48040" y="52484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378560" y="54007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53040" y="6227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844560"/>
            <a:ext cx="2838240" cy="5715000"/>
          </a:xfrm>
          <a:custGeom>
            <a:avLst/>
            <a:gdLst/>
            <a:ahLst/>
            <a:rect l="l" t="t" r="r" b="b"/>
            <a:pathLst>
              <a:path w="1788" h="3600">
                <a:moveTo>
                  <a:pt x="48" y="32"/>
                </a:moveTo>
                <a:cubicBezTo>
                  <a:pt x="620" y="28"/>
                  <a:pt x="1192" y="0"/>
                  <a:pt x="1764" y="20"/>
                </a:cubicBezTo>
                <a:cubicBezTo>
                  <a:pt x="1788" y="21"/>
                  <a:pt x="1776" y="68"/>
                  <a:pt x="1776" y="92"/>
                </a:cubicBezTo>
                <a:cubicBezTo>
                  <a:pt x="1776" y="196"/>
                  <a:pt x="1778" y="275"/>
                  <a:pt x="1692" y="332"/>
                </a:cubicBezTo>
                <a:cubicBezTo>
                  <a:pt x="1665" y="413"/>
                  <a:pt x="1702" y="325"/>
                  <a:pt x="1644" y="392"/>
                </a:cubicBezTo>
                <a:cubicBezTo>
                  <a:pt x="1591" y="452"/>
                  <a:pt x="1570" y="516"/>
                  <a:pt x="1536" y="584"/>
                </a:cubicBezTo>
                <a:cubicBezTo>
                  <a:pt x="1535" y="592"/>
                  <a:pt x="1526" y="769"/>
                  <a:pt x="1512" y="812"/>
                </a:cubicBezTo>
                <a:cubicBezTo>
                  <a:pt x="1504" y="837"/>
                  <a:pt x="1484" y="859"/>
                  <a:pt x="1476" y="884"/>
                </a:cubicBezTo>
                <a:cubicBezTo>
                  <a:pt x="1480" y="976"/>
                  <a:pt x="1481" y="1068"/>
                  <a:pt x="1488" y="1160"/>
                </a:cubicBezTo>
                <a:cubicBezTo>
                  <a:pt x="1494" y="1235"/>
                  <a:pt x="1582" y="1346"/>
                  <a:pt x="1608" y="1424"/>
                </a:cubicBezTo>
                <a:cubicBezTo>
                  <a:pt x="1618" y="1524"/>
                  <a:pt x="1605" y="1553"/>
                  <a:pt x="1668" y="1616"/>
                </a:cubicBezTo>
                <a:cubicBezTo>
                  <a:pt x="1697" y="1702"/>
                  <a:pt x="1656" y="1598"/>
                  <a:pt x="1716" y="1688"/>
                </a:cubicBezTo>
                <a:cubicBezTo>
                  <a:pt x="1723" y="1699"/>
                  <a:pt x="1722" y="1713"/>
                  <a:pt x="1728" y="1724"/>
                </a:cubicBezTo>
                <a:cubicBezTo>
                  <a:pt x="1775" y="1817"/>
                  <a:pt x="1734" y="1706"/>
                  <a:pt x="1764" y="1796"/>
                </a:cubicBezTo>
                <a:cubicBezTo>
                  <a:pt x="1750" y="1969"/>
                  <a:pt x="1779" y="1900"/>
                  <a:pt x="1704" y="2012"/>
                </a:cubicBezTo>
                <a:cubicBezTo>
                  <a:pt x="1696" y="2024"/>
                  <a:pt x="1688" y="2036"/>
                  <a:pt x="1680" y="2048"/>
                </a:cubicBezTo>
                <a:cubicBezTo>
                  <a:pt x="1672" y="2060"/>
                  <a:pt x="1656" y="2084"/>
                  <a:pt x="1656" y="2084"/>
                </a:cubicBezTo>
                <a:cubicBezTo>
                  <a:pt x="1652" y="2100"/>
                  <a:pt x="1647" y="2116"/>
                  <a:pt x="1644" y="2132"/>
                </a:cubicBezTo>
                <a:cubicBezTo>
                  <a:pt x="1639" y="2160"/>
                  <a:pt x="1638" y="2188"/>
                  <a:pt x="1632" y="2216"/>
                </a:cubicBezTo>
                <a:cubicBezTo>
                  <a:pt x="1619" y="2274"/>
                  <a:pt x="1590" y="2306"/>
                  <a:pt x="1572" y="2360"/>
                </a:cubicBezTo>
                <a:cubicBezTo>
                  <a:pt x="1568" y="2476"/>
                  <a:pt x="1567" y="2592"/>
                  <a:pt x="1560" y="2708"/>
                </a:cubicBezTo>
                <a:cubicBezTo>
                  <a:pt x="1553" y="2819"/>
                  <a:pt x="1538" y="2949"/>
                  <a:pt x="1644" y="3020"/>
                </a:cubicBezTo>
                <a:cubicBezTo>
                  <a:pt x="1716" y="3127"/>
                  <a:pt x="1719" y="3156"/>
                  <a:pt x="1668" y="3308"/>
                </a:cubicBezTo>
                <a:cubicBezTo>
                  <a:pt x="1672" y="3340"/>
                  <a:pt x="1677" y="3372"/>
                  <a:pt x="1680" y="3404"/>
                </a:cubicBezTo>
                <a:cubicBezTo>
                  <a:pt x="1693" y="3531"/>
                  <a:pt x="1692" y="3600"/>
                  <a:pt x="1692" y="3524"/>
                </a:cubicBezTo>
                <a:lnTo>
                  <a:pt x="0" y="3536"/>
                </a:lnTo>
                <a:lnTo>
                  <a:pt x="48" y="32"/>
                </a:lnTo>
                <a:close/>
              </a:path>
            </a:pathLst>
          </a:custGeom>
          <a:solidFill>
            <a:srgbClr val="33cccc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06280" y="728640"/>
            <a:ext cx="8686800" cy="603108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m. Calizas y Areniscas calcáreas de Acevedo (plataforma carbonata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06280" y="137628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" y="34099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597640" y="3191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183440" y="1682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162320" y="201456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86280" y="29718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308400" y="13240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598760" y="13366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0040" y="41385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63800" y="37479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01960" y="348624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40600" y="34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800680" y="2193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311960" y="4334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08760" y="4290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748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498920" y="43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55412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06880" y="46674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48040" y="52484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78560" y="54007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153040" y="6227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675240" y="838080"/>
            <a:ext cx="4821120" cy="5613480"/>
          </a:xfrm>
          <a:custGeom>
            <a:avLst/>
            <a:gdLst/>
            <a:ahLst/>
            <a:rect l="l" t="t" r="r" b="b"/>
            <a:pathLst>
              <a:path w="3037" h="3536">
                <a:moveTo>
                  <a:pt x="709" y="12"/>
                </a:moveTo>
                <a:lnTo>
                  <a:pt x="3037" y="0"/>
                </a:lnTo>
                <a:lnTo>
                  <a:pt x="3001" y="3504"/>
                </a:lnTo>
                <a:cubicBezTo>
                  <a:pt x="2009" y="3508"/>
                  <a:pt x="1017" y="3536"/>
                  <a:pt x="25" y="3516"/>
                </a:cubicBezTo>
                <a:cubicBezTo>
                  <a:pt x="0" y="3515"/>
                  <a:pt x="41" y="3468"/>
                  <a:pt x="49" y="3444"/>
                </a:cubicBezTo>
                <a:cubicBezTo>
                  <a:pt x="65" y="3396"/>
                  <a:pt x="97" y="3300"/>
                  <a:pt x="97" y="3300"/>
                </a:cubicBezTo>
                <a:cubicBezTo>
                  <a:pt x="105" y="3239"/>
                  <a:pt x="111" y="3156"/>
                  <a:pt x="133" y="3096"/>
                </a:cubicBezTo>
                <a:cubicBezTo>
                  <a:pt x="138" y="3082"/>
                  <a:pt x="150" y="3073"/>
                  <a:pt x="157" y="3060"/>
                </a:cubicBezTo>
                <a:cubicBezTo>
                  <a:pt x="214" y="2960"/>
                  <a:pt x="285" y="2868"/>
                  <a:pt x="349" y="2772"/>
                </a:cubicBezTo>
                <a:cubicBezTo>
                  <a:pt x="359" y="2757"/>
                  <a:pt x="381" y="2757"/>
                  <a:pt x="397" y="2748"/>
                </a:cubicBezTo>
                <a:cubicBezTo>
                  <a:pt x="424" y="2733"/>
                  <a:pt x="442" y="2703"/>
                  <a:pt x="469" y="2688"/>
                </a:cubicBezTo>
                <a:cubicBezTo>
                  <a:pt x="509" y="2610"/>
                  <a:pt x="619" y="2362"/>
                  <a:pt x="637" y="2280"/>
                </a:cubicBezTo>
                <a:cubicBezTo>
                  <a:pt x="624" y="2255"/>
                  <a:pt x="591" y="2218"/>
                  <a:pt x="577" y="2196"/>
                </a:cubicBezTo>
                <a:cubicBezTo>
                  <a:pt x="549" y="2151"/>
                  <a:pt x="526" y="2120"/>
                  <a:pt x="481" y="2088"/>
                </a:cubicBezTo>
                <a:cubicBezTo>
                  <a:pt x="460" y="2073"/>
                  <a:pt x="394" y="2049"/>
                  <a:pt x="373" y="2040"/>
                </a:cubicBezTo>
                <a:cubicBezTo>
                  <a:pt x="330" y="1932"/>
                  <a:pt x="340" y="1701"/>
                  <a:pt x="433" y="1608"/>
                </a:cubicBezTo>
                <a:cubicBezTo>
                  <a:pt x="473" y="1489"/>
                  <a:pt x="406" y="1671"/>
                  <a:pt x="481" y="1536"/>
                </a:cubicBezTo>
                <a:cubicBezTo>
                  <a:pt x="493" y="1514"/>
                  <a:pt x="497" y="1488"/>
                  <a:pt x="505" y="1464"/>
                </a:cubicBezTo>
                <a:cubicBezTo>
                  <a:pt x="510" y="1450"/>
                  <a:pt x="523" y="1441"/>
                  <a:pt x="529" y="1428"/>
                </a:cubicBezTo>
                <a:lnTo>
                  <a:pt x="553" y="1356"/>
                </a:lnTo>
                <a:cubicBezTo>
                  <a:pt x="553" y="1356"/>
                  <a:pt x="553" y="1356"/>
                  <a:pt x="553" y="1356"/>
                </a:cubicBezTo>
                <a:cubicBezTo>
                  <a:pt x="557" y="1336"/>
                  <a:pt x="560" y="1316"/>
                  <a:pt x="565" y="1296"/>
                </a:cubicBezTo>
                <a:cubicBezTo>
                  <a:pt x="572" y="1272"/>
                  <a:pt x="589" y="1224"/>
                  <a:pt x="589" y="1224"/>
                </a:cubicBezTo>
                <a:cubicBezTo>
                  <a:pt x="538" y="1071"/>
                  <a:pt x="528" y="1159"/>
                  <a:pt x="553" y="936"/>
                </a:cubicBezTo>
                <a:cubicBezTo>
                  <a:pt x="554" y="923"/>
                  <a:pt x="553" y="903"/>
                  <a:pt x="565" y="900"/>
                </a:cubicBezTo>
                <a:cubicBezTo>
                  <a:pt x="599" y="890"/>
                  <a:pt x="731" y="882"/>
                  <a:pt x="757" y="876"/>
                </a:cubicBezTo>
                <a:cubicBezTo>
                  <a:pt x="785" y="844"/>
                  <a:pt x="733" y="748"/>
                  <a:pt x="733" y="708"/>
                </a:cubicBezTo>
                <a:cubicBezTo>
                  <a:pt x="737" y="683"/>
                  <a:pt x="757" y="636"/>
                  <a:pt x="757" y="636"/>
                </a:cubicBezTo>
                <a:cubicBezTo>
                  <a:pt x="770" y="517"/>
                  <a:pt x="790" y="395"/>
                  <a:pt x="757" y="276"/>
                </a:cubicBezTo>
                <a:cubicBezTo>
                  <a:pt x="752" y="256"/>
                  <a:pt x="717" y="269"/>
                  <a:pt x="697" y="264"/>
                </a:cubicBezTo>
                <a:cubicBezTo>
                  <a:pt x="652" y="253"/>
                  <a:pt x="592" y="55"/>
                  <a:pt x="565" y="0"/>
                </a:cubicBezTo>
              </a:path>
            </a:pathLst>
          </a:custGeom>
          <a:solidFill>
            <a:srgbClr val="339966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206280" y="728640"/>
            <a:ext cx="8686800" cy="603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m. Areniscas de Curicó (abanicos submarin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06280" y="137628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34099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597640" y="3191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183440" y="1682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162320" y="201456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086280" y="29718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308400" y="13240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598760" y="13366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00040" y="41385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63800" y="37479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801960" y="348624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140600" y="34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00680" y="2193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311960" y="4334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008760" y="4290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748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498920" y="43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5412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206880" y="46674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48040" y="52484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378560" y="54007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53040" y="6227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52600" y="857160"/>
            <a:ext cx="3390840" cy="5581800"/>
          </a:xfrm>
          <a:custGeom>
            <a:avLst/>
            <a:gdLst/>
            <a:ahLst/>
            <a:rect l="l" t="t" r="r" b="b"/>
            <a:pathLst>
              <a:path w="2136" h="3516">
                <a:moveTo>
                  <a:pt x="36" y="24"/>
                </a:moveTo>
                <a:cubicBezTo>
                  <a:pt x="700" y="20"/>
                  <a:pt x="1364" y="0"/>
                  <a:pt x="2028" y="12"/>
                </a:cubicBezTo>
                <a:cubicBezTo>
                  <a:pt x="2071" y="13"/>
                  <a:pt x="1920" y="84"/>
                  <a:pt x="1920" y="84"/>
                </a:cubicBezTo>
                <a:cubicBezTo>
                  <a:pt x="1888" y="133"/>
                  <a:pt x="1848" y="184"/>
                  <a:pt x="1800" y="216"/>
                </a:cubicBezTo>
                <a:cubicBezTo>
                  <a:pt x="1796" y="228"/>
                  <a:pt x="1796" y="242"/>
                  <a:pt x="1788" y="252"/>
                </a:cubicBezTo>
                <a:cubicBezTo>
                  <a:pt x="1779" y="263"/>
                  <a:pt x="1760" y="264"/>
                  <a:pt x="1752" y="276"/>
                </a:cubicBezTo>
                <a:cubicBezTo>
                  <a:pt x="1739" y="297"/>
                  <a:pt x="1736" y="324"/>
                  <a:pt x="1728" y="348"/>
                </a:cubicBezTo>
                <a:cubicBezTo>
                  <a:pt x="1720" y="373"/>
                  <a:pt x="1700" y="395"/>
                  <a:pt x="1692" y="420"/>
                </a:cubicBezTo>
                <a:cubicBezTo>
                  <a:pt x="1675" y="605"/>
                  <a:pt x="1655" y="644"/>
                  <a:pt x="1680" y="864"/>
                </a:cubicBezTo>
                <a:cubicBezTo>
                  <a:pt x="1682" y="878"/>
                  <a:pt x="1698" y="887"/>
                  <a:pt x="1704" y="900"/>
                </a:cubicBezTo>
                <a:cubicBezTo>
                  <a:pt x="1714" y="923"/>
                  <a:pt x="1720" y="948"/>
                  <a:pt x="1728" y="972"/>
                </a:cubicBezTo>
                <a:cubicBezTo>
                  <a:pt x="1747" y="1030"/>
                  <a:pt x="1787" y="1107"/>
                  <a:pt x="1836" y="1140"/>
                </a:cubicBezTo>
                <a:cubicBezTo>
                  <a:pt x="1844" y="1164"/>
                  <a:pt x="1868" y="1188"/>
                  <a:pt x="1860" y="1212"/>
                </a:cubicBezTo>
                <a:cubicBezTo>
                  <a:pt x="1834" y="1291"/>
                  <a:pt x="1775" y="1369"/>
                  <a:pt x="1716" y="1428"/>
                </a:cubicBezTo>
                <a:cubicBezTo>
                  <a:pt x="1675" y="1552"/>
                  <a:pt x="1683" y="1496"/>
                  <a:pt x="1704" y="1692"/>
                </a:cubicBezTo>
                <a:cubicBezTo>
                  <a:pt x="1705" y="1705"/>
                  <a:pt x="1707" y="1719"/>
                  <a:pt x="1716" y="1728"/>
                </a:cubicBezTo>
                <a:cubicBezTo>
                  <a:pt x="1736" y="1748"/>
                  <a:pt x="1764" y="1760"/>
                  <a:pt x="1788" y="1776"/>
                </a:cubicBezTo>
                <a:cubicBezTo>
                  <a:pt x="1815" y="1794"/>
                  <a:pt x="1852" y="1784"/>
                  <a:pt x="1884" y="1788"/>
                </a:cubicBezTo>
                <a:cubicBezTo>
                  <a:pt x="1932" y="1820"/>
                  <a:pt x="1949" y="1828"/>
                  <a:pt x="1992" y="1884"/>
                </a:cubicBezTo>
                <a:cubicBezTo>
                  <a:pt x="2012" y="1910"/>
                  <a:pt x="2020" y="1943"/>
                  <a:pt x="2040" y="1968"/>
                </a:cubicBezTo>
                <a:cubicBezTo>
                  <a:pt x="2057" y="1989"/>
                  <a:pt x="2109" y="2022"/>
                  <a:pt x="2136" y="2040"/>
                </a:cubicBezTo>
                <a:cubicBezTo>
                  <a:pt x="2074" y="2132"/>
                  <a:pt x="1994" y="2207"/>
                  <a:pt x="1896" y="2256"/>
                </a:cubicBezTo>
                <a:cubicBezTo>
                  <a:pt x="1874" y="2322"/>
                  <a:pt x="1823" y="2346"/>
                  <a:pt x="1764" y="2376"/>
                </a:cubicBezTo>
                <a:cubicBezTo>
                  <a:pt x="1748" y="2424"/>
                  <a:pt x="1728" y="2448"/>
                  <a:pt x="1692" y="2484"/>
                </a:cubicBezTo>
                <a:cubicBezTo>
                  <a:pt x="1674" y="2537"/>
                  <a:pt x="1657" y="2587"/>
                  <a:pt x="1644" y="2640"/>
                </a:cubicBezTo>
                <a:cubicBezTo>
                  <a:pt x="1647" y="2755"/>
                  <a:pt x="1537" y="3174"/>
                  <a:pt x="1740" y="3276"/>
                </a:cubicBezTo>
                <a:cubicBezTo>
                  <a:pt x="1770" y="3366"/>
                  <a:pt x="1726" y="3258"/>
                  <a:pt x="1788" y="3336"/>
                </a:cubicBezTo>
                <a:cubicBezTo>
                  <a:pt x="1795" y="3345"/>
                  <a:pt x="1810" y="3415"/>
                  <a:pt x="1812" y="3420"/>
                </a:cubicBezTo>
                <a:cubicBezTo>
                  <a:pt x="1826" y="3452"/>
                  <a:pt x="1848" y="3466"/>
                  <a:pt x="1848" y="3504"/>
                </a:cubicBezTo>
                <a:lnTo>
                  <a:pt x="0" y="3516"/>
                </a:lnTo>
                <a:lnTo>
                  <a:pt x="36" y="24"/>
                </a:lnTo>
                <a:close/>
              </a:path>
            </a:pathLst>
          </a:custGeom>
          <a:solidFill>
            <a:srgbClr val="00ccff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206280" y="728640"/>
            <a:ext cx="8686800" cy="603108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m. Margas de Toltén (Medio supramareal, maris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06280" y="137628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" y="34099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597640" y="3191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183440" y="1682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162320" y="201456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86280" y="29718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308400" y="13240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598760" y="13366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00040" y="41385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963800" y="37479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801960" y="348624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140600" y="34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800680" y="2193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311960" y="4334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008760" y="4290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748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498920" y="43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55412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6880" y="46674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848040" y="52484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378560" y="54007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53040" y="6227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191120" y="838080"/>
            <a:ext cx="4286160" cy="5588280"/>
          </a:xfrm>
          <a:custGeom>
            <a:avLst/>
            <a:gdLst/>
            <a:ahLst/>
            <a:rect l="l" t="t" r="r" b="b"/>
            <a:pathLst>
              <a:path w="2700" h="3520">
                <a:moveTo>
                  <a:pt x="2700" y="12"/>
                </a:moveTo>
                <a:lnTo>
                  <a:pt x="372" y="0"/>
                </a:lnTo>
                <a:cubicBezTo>
                  <a:pt x="380" y="109"/>
                  <a:pt x="381" y="160"/>
                  <a:pt x="408" y="252"/>
                </a:cubicBezTo>
                <a:cubicBezTo>
                  <a:pt x="408" y="252"/>
                  <a:pt x="438" y="342"/>
                  <a:pt x="444" y="360"/>
                </a:cubicBezTo>
                <a:cubicBezTo>
                  <a:pt x="448" y="372"/>
                  <a:pt x="456" y="396"/>
                  <a:pt x="456" y="396"/>
                </a:cubicBezTo>
                <a:cubicBezTo>
                  <a:pt x="452" y="436"/>
                  <a:pt x="456" y="478"/>
                  <a:pt x="444" y="516"/>
                </a:cubicBezTo>
                <a:cubicBezTo>
                  <a:pt x="439" y="532"/>
                  <a:pt x="419" y="539"/>
                  <a:pt x="408" y="552"/>
                </a:cubicBezTo>
                <a:cubicBezTo>
                  <a:pt x="383" y="583"/>
                  <a:pt x="364" y="620"/>
                  <a:pt x="336" y="648"/>
                </a:cubicBezTo>
                <a:cubicBezTo>
                  <a:pt x="324" y="660"/>
                  <a:pt x="311" y="671"/>
                  <a:pt x="300" y="684"/>
                </a:cubicBezTo>
                <a:cubicBezTo>
                  <a:pt x="275" y="714"/>
                  <a:pt x="252" y="792"/>
                  <a:pt x="252" y="792"/>
                </a:cubicBezTo>
                <a:cubicBezTo>
                  <a:pt x="264" y="863"/>
                  <a:pt x="277" y="927"/>
                  <a:pt x="300" y="996"/>
                </a:cubicBezTo>
                <a:cubicBezTo>
                  <a:pt x="305" y="1010"/>
                  <a:pt x="318" y="1019"/>
                  <a:pt x="324" y="1032"/>
                </a:cubicBezTo>
                <a:cubicBezTo>
                  <a:pt x="334" y="1055"/>
                  <a:pt x="348" y="1104"/>
                  <a:pt x="348" y="1104"/>
                </a:cubicBezTo>
                <a:cubicBezTo>
                  <a:pt x="338" y="1356"/>
                  <a:pt x="389" y="1363"/>
                  <a:pt x="264" y="1488"/>
                </a:cubicBezTo>
                <a:cubicBezTo>
                  <a:pt x="260" y="1500"/>
                  <a:pt x="260" y="1514"/>
                  <a:pt x="252" y="1524"/>
                </a:cubicBezTo>
                <a:cubicBezTo>
                  <a:pt x="236" y="1544"/>
                  <a:pt x="157" y="1597"/>
                  <a:pt x="132" y="1608"/>
                </a:cubicBezTo>
                <a:cubicBezTo>
                  <a:pt x="109" y="1618"/>
                  <a:pt x="60" y="1632"/>
                  <a:pt x="60" y="1632"/>
                </a:cubicBezTo>
                <a:cubicBezTo>
                  <a:pt x="44" y="1680"/>
                  <a:pt x="40" y="1728"/>
                  <a:pt x="24" y="1776"/>
                </a:cubicBezTo>
                <a:cubicBezTo>
                  <a:pt x="28" y="1828"/>
                  <a:pt x="14" y="1885"/>
                  <a:pt x="36" y="1932"/>
                </a:cubicBezTo>
                <a:cubicBezTo>
                  <a:pt x="47" y="1955"/>
                  <a:pt x="108" y="1956"/>
                  <a:pt x="108" y="1956"/>
                </a:cubicBezTo>
                <a:cubicBezTo>
                  <a:pt x="116" y="1968"/>
                  <a:pt x="122" y="1982"/>
                  <a:pt x="132" y="1992"/>
                </a:cubicBezTo>
                <a:cubicBezTo>
                  <a:pt x="142" y="2002"/>
                  <a:pt x="159" y="2005"/>
                  <a:pt x="168" y="2016"/>
                </a:cubicBezTo>
                <a:cubicBezTo>
                  <a:pt x="176" y="2026"/>
                  <a:pt x="174" y="2041"/>
                  <a:pt x="180" y="2052"/>
                </a:cubicBezTo>
                <a:cubicBezTo>
                  <a:pt x="210" y="2107"/>
                  <a:pt x="245" y="2153"/>
                  <a:pt x="288" y="2196"/>
                </a:cubicBezTo>
                <a:cubicBezTo>
                  <a:pt x="305" y="2331"/>
                  <a:pt x="300" y="2449"/>
                  <a:pt x="240" y="2568"/>
                </a:cubicBezTo>
                <a:cubicBezTo>
                  <a:pt x="215" y="2618"/>
                  <a:pt x="198" y="2616"/>
                  <a:pt x="144" y="2652"/>
                </a:cubicBezTo>
                <a:cubicBezTo>
                  <a:pt x="132" y="2660"/>
                  <a:pt x="108" y="2676"/>
                  <a:pt x="108" y="2676"/>
                </a:cubicBezTo>
                <a:cubicBezTo>
                  <a:pt x="60" y="2821"/>
                  <a:pt x="78" y="2886"/>
                  <a:pt x="96" y="3084"/>
                </a:cubicBezTo>
                <a:cubicBezTo>
                  <a:pt x="102" y="3152"/>
                  <a:pt x="148" y="3203"/>
                  <a:pt x="168" y="3264"/>
                </a:cubicBezTo>
                <a:cubicBezTo>
                  <a:pt x="164" y="3280"/>
                  <a:pt x="167" y="3300"/>
                  <a:pt x="156" y="3312"/>
                </a:cubicBezTo>
                <a:cubicBezTo>
                  <a:pt x="122" y="3351"/>
                  <a:pt x="90" y="3358"/>
                  <a:pt x="48" y="3372"/>
                </a:cubicBezTo>
                <a:cubicBezTo>
                  <a:pt x="40" y="3392"/>
                  <a:pt x="29" y="3411"/>
                  <a:pt x="24" y="3432"/>
                </a:cubicBezTo>
                <a:cubicBezTo>
                  <a:pt x="17" y="3459"/>
                  <a:pt x="20" y="3489"/>
                  <a:pt x="12" y="3516"/>
                </a:cubicBezTo>
                <a:cubicBezTo>
                  <a:pt x="11" y="3520"/>
                  <a:pt x="4" y="3516"/>
                  <a:pt x="0" y="3516"/>
                </a:cubicBezTo>
                <a:lnTo>
                  <a:pt x="2676" y="3516"/>
                </a:lnTo>
                <a:lnTo>
                  <a:pt x="2700" y="12"/>
                </a:lnTo>
                <a:close/>
              </a:path>
            </a:pathLst>
          </a:custGeom>
          <a:solidFill>
            <a:srgbClr val="e0ccbe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206280" y="728640"/>
            <a:ext cx="8686800" cy="60310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Fm. Calizas de Lebu (lago cont. somero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06280" y="137628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" y="34099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597640" y="3191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183440" y="1682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162320" y="201456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086280" y="29718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308400" y="13240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598760" y="13366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00040" y="41385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963800" y="37479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1960" y="348624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140600" y="34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00680" y="2193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311960" y="4334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08760" y="4290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748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498920" y="43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55412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206880" y="46674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48040" y="52484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78560" y="54007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153040" y="6227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359240" y="838080"/>
            <a:ext cx="4137120" cy="5600880"/>
          </a:xfrm>
          <a:custGeom>
            <a:avLst/>
            <a:gdLst/>
            <a:ahLst/>
            <a:rect l="l" t="t" r="r" b="b"/>
            <a:pathLst>
              <a:path w="2606" h="3528">
                <a:moveTo>
                  <a:pt x="2606" y="0"/>
                </a:moveTo>
                <a:lnTo>
                  <a:pt x="434" y="0"/>
                </a:lnTo>
                <a:cubicBezTo>
                  <a:pt x="423" y="192"/>
                  <a:pt x="507" y="387"/>
                  <a:pt x="350" y="492"/>
                </a:cubicBezTo>
                <a:cubicBezTo>
                  <a:pt x="314" y="546"/>
                  <a:pt x="314" y="605"/>
                  <a:pt x="278" y="660"/>
                </a:cubicBezTo>
                <a:cubicBezTo>
                  <a:pt x="246" y="787"/>
                  <a:pt x="289" y="637"/>
                  <a:pt x="242" y="744"/>
                </a:cubicBezTo>
                <a:cubicBezTo>
                  <a:pt x="232" y="767"/>
                  <a:pt x="218" y="816"/>
                  <a:pt x="218" y="816"/>
                </a:cubicBezTo>
                <a:cubicBezTo>
                  <a:pt x="234" y="1084"/>
                  <a:pt x="238" y="1050"/>
                  <a:pt x="218" y="1380"/>
                </a:cubicBezTo>
                <a:cubicBezTo>
                  <a:pt x="214" y="1441"/>
                  <a:pt x="179" y="1500"/>
                  <a:pt x="146" y="1548"/>
                </a:cubicBezTo>
                <a:cubicBezTo>
                  <a:pt x="132" y="1586"/>
                  <a:pt x="138" y="1586"/>
                  <a:pt x="134" y="1608"/>
                </a:cubicBezTo>
                <a:cubicBezTo>
                  <a:pt x="148" y="1628"/>
                  <a:pt x="125" y="1656"/>
                  <a:pt x="122" y="1680"/>
                </a:cubicBezTo>
                <a:cubicBezTo>
                  <a:pt x="117" y="1720"/>
                  <a:pt x="115" y="1760"/>
                  <a:pt x="110" y="1800"/>
                </a:cubicBezTo>
                <a:cubicBezTo>
                  <a:pt x="103" y="1856"/>
                  <a:pt x="86" y="1968"/>
                  <a:pt x="86" y="1968"/>
                </a:cubicBezTo>
                <a:cubicBezTo>
                  <a:pt x="90" y="2040"/>
                  <a:pt x="91" y="2112"/>
                  <a:pt x="98" y="2184"/>
                </a:cubicBezTo>
                <a:cubicBezTo>
                  <a:pt x="102" y="2223"/>
                  <a:pt x="182" y="2268"/>
                  <a:pt x="182" y="2268"/>
                </a:cubicBezTo>
                <a:cubicBezTo>
                  <a:pt x="199" y="2408"/>
                  <a:pt x="232" y="2547"/>
                  <a:pt x="158" y="2676"/>
                </a:cubicBezTo>
                <a:cubicBezTo>
                  <a:pt x="130" y="2725"/>
                  <a:pt x="129" y="2754"/>
                  <a:pt x="74" y="2772"/>
                </a:cubicBezTo>
                <a:cubicBezTo>
                  <a:pt x="58" y="2796"/>
                  <a:pt x="42" y="2820"/>
                  <a:pt x="26" y="2844"/>
                </a:cubicBezTo>
                <a:cubicBezTo>
                  <a:pt x="18" y="2856"/>
                  <a:pt x="2" y="2880"/>
                  <a:pt x="2" y="2880"/>
                </a:cubicBezTo>
                <a:cubicBezTo>
                  <a:pt x="9" y="2992"/>
                  <a:pt x="0" y="3088"/>
                  <a:pt x="62" y="3180"/>
                </a:cubicBezTo>
                <a:cubicBezTo>
                  <a:pt x="80" y="3253"/>
                  <a:pt x="69" y="3212"/>
                  <a:pt x="98" y="3300"/>
                </a:cubicBezTo>
                <a:cubicBezTo>
                  <a:pt x="106" y="3325"/>
                  <a:pt x="126" y="3347"/>
                  <a:pt x="134" y="3372"/>
                </a:cubicBezTo>
                <a:cubicBezTo>
                  <a:pt x="130" y="3424"/>
                  <a:pt x="122" y="3528"/>
                  <a:pt x="122" y="3528"/>
                </a:cubicBezTo>
                <a:lnTo>
                  <a:pt x="2558" y="3504"/>
                </a:lnTo>
                <a:lnTo>
                  <a:pt x="2606" y="0"/>
                </a:lnTo>
                <a:close/>
              </a:path>
            </a:pathLst>
          </a:custGeom>
          <a:solidFill>
            <a:srgbClr val="00ccff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874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TAFORMA CARBONAT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90880" y="863640"/>
            <a:ext cx="48528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874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TAFORMA CARBONAT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06600" y="727200"/>
            <a:ext cx="6062760" cy="61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874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TAFORMA CARBONAT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52480" y="884160"/>
            <a:ext cx="738828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874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TAFORMA CARBONAT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38240" y="878040"/>
            <a:ext cx="691992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874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TAFORMA CARBONAT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46160" y="1533600"/>
          <a:ext cx="8778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60" y="1533600"/>
                    <a:ext cx="8778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874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GOON RESTRING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34920" y="1084320"/>
            <a:ext cx="919944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874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GOON RESTRING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1280" y="1847880"/>
            <a:ext cx="886968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01:33:08Z</dcterms:created>
  <dc:creator>cliente</dc:creator>
  <dc:description/>
  <dc:language>en-US</dc:language>
  <cp:lastModifiedBy>cliente</cp:lastModifiedBy>
  <dcterms:modified xsi:type="dcterms:W3CDTF">2004-11-26T03:21:09Z</dcterms:modified>
  <cp:revision>5</cp:revision>
  <dc:subject/>
  <dc:title>CLASE AMBIENTES 3</dc:title>
</cp:coreProperties>
</file>