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CA2-8AA5-45CA-81F5-5539E5D9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A69D-21DF-4E62-BD3C-0DDD2A47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F30-377D-4019-B4A9-C8DEB66E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26F-9057-42DC-AD25-5D6BEA37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29C0-1227-4D63-A157-B5B56223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C2AC-4D5D-4082-8741-911C9DD8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502F-FC91-48BD-9BCC-5A2B4565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9117-A3E7-45B6-AB1A-D72FCDCC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DDA-765D-461A-A819-72C98796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FB2-3740-427B-818F-2D8F5120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4AE-F3D7-4664-B10F-E487E84E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382-65A2-4878-A038-C4C4C6D3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CFBC-20B6-4B97-81FF-798F7AD611A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ASE AMBIENTE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763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PLATAF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320" y="1646280"/>
            <a:ext cx="899136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2320" y="763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PLATAF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1510600">
            <a:off x="304920" y="1893600"/>
            <a:ext cx="81532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763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PLATAF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815328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PLATAF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0" b="38298"/>
          <a:stretch/>
        </p:blipFill>
        <p:spPr>
          <a:xfrm>
            <a:off x="171360" y="1600200"/>
            <a:ext cx="4172040" cy="4724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61113" r="0" b="0"/>
          <a:stretch/>
        </p:blipFill>
        <p:spPr>
          <a:xfrm>
            <a:off x="4419720" y="1447920"/>
            <a:ext cx="43434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PLATAF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0" r="0" b="38000"/>
          <a:stretch/>
        </p:blipFill>
        <p:spPr>
          <a:xfrm>
            <a:off x="457200" y="1981080"/>
            <a:ext cx="4114800" cy="3998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0" t="62502" r="0" b="0"/>
          <a:stretch/>
        </p:blipFill>
        <p:spPr>
          <a:xfrm>
            <a:off x="4343400" y="2057400"/>
            <a:ext cx="449568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DE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95560" y="1133640"/>
            <a:ext cx="666252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MEN: Areniscas Amarillas de Tal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790560"/>
            <a:ext cx="8076960" cy="5686560"/>
          </a:xfrm>
          <a:custGeom>
            <a:avLst/>
            <a:gdLst/>
            <a:ahLst/>
            <a:rect l="l" t="t" r="r" b="b"/>
            <a:pathLst>
              <a:path w="5088" h="3582">
                <a:moveTo>
                  <a:pt x="48" y="30"/>
                </a:moveTo>
                <a:lnTo>
                  <a:pt x="0" y="3582"/>
                </a:lnTo>
                <a:lnTo>
                  <a:pt x="4224" y="3534"/>
                </a:lnTo>
                <a:cubicBezTo>
                  <a:pt x="4237" y="3323"/>
                  <a:pt x="4253" y="3157"/>
                  <a:pt x="4437" y="3031"/>
                </a:cubicBezTo>
                <a:cubicBezTo>
                  <a:pt x="4458" y="2999"/>
                  <a:pt x="4476" y="2972"/>
                  <a:pt x="4508" y="2951"/>
                </a:cubicBezTo>
                <a:cubicBezTo>
                  <a:pt x="4540" y="2902"/>
                  <a:pt x="4595" y="2822"/>
                  <a:pt x="4642" y="2791"/>
                </a:cubicBezTo>
                <a:cubicBezTo>
                  <a:pt x="4686" y="2761"/>
                  <a:pt x="4731" y="2739"/>
                  <a:pt x="4775" y="2711"/>
                </a:cubicBezTo>
                <a:cubicBezTo>
                  <a:pt x="4781" y="2702"/>
                  <a:pt x="4783" y="2688"/>
                  <a:pt x="4793" y="2684"/>
                </a:cubicBezTo>
                <a:cubicBezTo>
                  <a:pt x="4827" y="2666"/>
                  <a:pt x="4922" y="2650"/>
                  <a:pt x="4962" y="2640"/>
                </a:cubicBezTo>
                <a:lnTo>
                  <a:pt x="5042" y="2595"/>
                </a:lnTo>
                <a:cubicBezTo>
                  <a:pt x="5042" y="2595"/>
                  <a:pt x="5042" y="2595"/>
                  <a:pt x="5042" y="2595"/>
                </a:cubicBezTo>
                <a:cubicBezTo>
                  <a:pt x="5050" y="2592"/>
                  <a:pt x="5068" y="2586"/>
                  <a:pt x="5068" y="2586"/>
                </a:cubicBezTo>
                <a:lnTo>
                  <a:pt x="5088" y="2142"/>
                </a:lnTo>
                <a:lnTo>
                  <a:pt x="5073" y="1847"/>
                </a:lnTo>
                <a:lnTo>
                  <a:pt x="4655" y="1756"/>
                </a:lnTo>
                <a:lnTo>
                  <a:pt x="4173" y="1375"/>
                </a:lnTo>
                <a:cubicBezTo>
                  <a:pt x="4095" y="1376"/>
                  <a:pt x="3811" y="1257"/>
                  <a:pt x="3646" y="1306"/>
                </a:cubicBezTo>
                <a:cubicBezTo>
                  <a:pt x="3637" y="1312"/>
                  <a:pt x="3627" y="1316"/>
                  <a:pt x="3620" y="1324"/>
                </a:cubicBezTo>
                <a:cubicBezTo>
                  <a:pt x="3612" y="1331"/>
                  <a:pt x="3610" y="1344"/>
                  <a:pt x="3602" y="1351"/>
                </a:cubicBezTo>
                <a:cubicBezTo>
                  <a:pt x="3594" y="1356"/>
                  <a:pt x="3583" y="1355"/>
                  <a:pt x="3575" y="1360"/>
                </a:cubicBezTo>
                <a:cubicBezTo>
                  <a:pt x="3515" y="1389"/>
                  <a:pt x="3451" y="1415"/>
                  <a:pt x="3388" y="1440"/>
                </a:cubicBezTo>
                <a:cubicBezTo>
                  <a:pt x="3367" y="1447"/>
                  <a:pt x="3347" y="1459"/>
                  <a:pt x="3326" y="1466"/>
                </a:cubicBezTo>
                <a:cubicBezTo>
                  <a:pt x="3302" y="1473"/>
                  <a:pt x="3255" y="1484"/>
                  <a:pt x="3255" y="1484"/>
                </a:cubicBezTo>
                <a:cubicBezTo>
                  <a:pt x="3163" y="1481"/>
                  <a:pt x="3071" y="1479"/>
                  <a:pt x="2980" y="1475"/>
                </a:cubicBezTo>
                <a:cubicBezTo>
                  <a:pt x="2950" y="1473"/>
                  <a:pt x="2897" y="1467"/>
                  <a:pt x="2864" y="1458"/>
                </a:cubicBezTo>
                <a:cubicBezTo>
                  <a:pt x="2846" y="1452"/>
                  <a:pt x="2811" y="1440"/>
                  <a:pt x="2811" y="1440"/>
                </a:cubicBezTo>
                <a:cubicBezTo>
                  <a:pt x="2796" y="1419"/>
                  <a:pt x="2774" y="1402"/>
                  <a:pt x="2766" y="1378"/>
                </a:cubicBezTo>
                <a:cubicBezTo>
                  <a:pt x="2763" y="1369"/>
                  <a:pt x="2762" y="1358"/>
                  <a:pt x="2757" y="1351"/>
                </a:cubicBezTo>
                <a:cubicBezTo>
                  <a:pt x="2741" y="1331"/>
                  <a:pt x="2665" y="1278"/>
                  <a:pt x="2642" y="1262"/>
                </a:cubicBezTo>
                <a:cubicBezTo>
                  <a:pt x="2570" y="1154"/>
                  <a:pt x="2686" y="1323"/>
                  <a:pt x="2597" y="1209"/>
                </a:cubicBezTo>
                <a:cubicBezTo>
                  <a:pt x="2548" y="1146"/>
                  <a:pt x="2509" y="1070"/>
                  <a:pt x="2491" y="995"/>
                </a:cubicBezTo>
                <a:cubicBezTo>
                  <a:pt x="2497" y="906"/>
                  <a:pt x="2491" y="842"/>
                  <a:pt x="2544" y="773"/>
                </a:cubicBezTo>
                <a:cubicBezTo>
                  <a:pt x="2565" y="708"/>
                  <a:pt x="2601" y="649"/>
                  <a:pt x="2642" y="595"/>
                </a:cubicBezTo>
                <a:cubicBezTo>
                  <a:pt x="2673" y="503"/>
                  <a:pt x="2642" y="601"/>
                  <a:pt x="2660" y="373"/>
                </a:cubicBezTo>
                <a:cubicBezTo>
                  <a:pt x="2665" y="307"/>
                  <a:pt x="2719" y="255"/>
                  <a:pt x="2740" y="195"/>
                </a:cubicBezTo>
                <a:cubicBezTo>
                  <a:pt x="2742" y="168"/>
                  <a:pt x="2748" y="141"/>
                  <a:pt x="2748" y="115"/>
                </a:cubicBezTo>
                <a:cubicBezTo>
                  <a:pt x="2748" y="105"/>
                  <a:pt x="2740" y="98"/>
                  <a:pt x="2740" y="89"/>
                </a:cubicBezTo>
                <a:cubicBezTo>
                  <a:pt x="2740" y="60"/>
                  <a:pt x="2754" y="20"/>
                  <a:pt x="2775" y="0"/>
                </a:cubicBezTo>
                <a:lnTo>
                  <a:pt x="48" y="30"/>
                </a:lnTo>
                <a:close/>
              </a:path>
            </a:pathLst>
          </a:cu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UMEN: Fm. Margas y areniscas de Carah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21040" y="762120"/>
            <a:ext cx="6589440" cy="5688000"/>
          </a:xfrm>
          <a:custGeom>
            <a:avLst/>
            <a:gdLst/>
            <a:ahLst/>
            <a:rect l="l" t="t" r="r" b="b"/>
            <a:pathLst>
              <a:path w="4151" h="3583">
                <a:moveTo>
                  <a:pt x="0" y="29"/>
                </a:moveTo>
                <a:cubicBezTo>
                  <a:pt x="17" y="80"/>
                  <a:pt x="26" y="138"/>
                  <a:pt x="36" y="193"/>
                </a:cubicBezTo>
                <a:cubicBezTo>
                  <a:pt x="42" y="229"/>
                  <a:pt x="54" y="302"/>
                  <a:pt x="54" y="302"/>
                </a:cubicBezTo>
                <a:cubicBezTo>
                  <a:pt x="59" y="440"/>
                  <a:pt x="60" y="635"/>
                  <a:pt x="136" y="765"/>
                </a:cubicBezTo>
                <a:cubicBezTo>
                  <a:pt x="158" y="803"/>
                  <a:pt x="208" y="816"/>
                  <a:pt x="245" y="838"/>
                </a:cubicBezTo>
                <a:cubicBezTo>
                  <a:pt x="275" y="856"/>
                  <a:pt x="340" y="918"/>
                  <a:pt x="372" y="929"/>
                </a:cubicBezTo>
                <a:cubicBezTo>
                  <a:pt x="412" y="942"/>
                  <a:pt x="391" y="933"/>
                  <a:pt x="436" y="956"/>
                </a:cubicBezTo>
                <a:cubicBezTo>
                  <a:pt x="491" y="1039"/>
                  <a:pt x="420" y="935"/>
                  <a:pt x="472" y="1002"/>
                </a:cubicBezTo>
                <a:cubicBezTo>
                  <a:pt x="487" y="1022"/>
                  <a:pt x="518" y="1065"/>
                  <a:pt x="518" y="1065"/>
                </a:cubicBezTo>
                <a:cubicBezTo>
                  <a:pt x="538" y="1129"/>
                  <a:pt x="589" y="1175"/>
                  <a:pt x="654" y="1193"/>
                </a:cubicBezTo>
                <a:cubicBezTo>
                  <a:pt x="735" y="1253"/>
                  <a:pt x="701" y="1230"/>
                  <a:pt x="754" y="1265"/>
                </a:cubicBezTo>
                <a:cubicBezTo>
                  <a:pt x="801" y="1331"/>
                  <a:pt x="832" y="1408"/>
                  <a:pt x="891" y="1465"/>
                </a:cubicBezTo>
                <a:cubicBezTo>
                  <a:pt x="969" y="1624"/>
                  <a:pt x="890" y="1483"/>
                  <a:pt x="954" y="1565"/>
                </a:cubicBezTo>
                <a:cubicBezTo>
                  <a:pt x="987" y="1608"/>
                  <a:pt x="1010" y="1666"/>
                  <a:pt x="1054" y="1702"/>
                </a:cubicBezTo>
                <a:cubicBezTo>
                  <a:pt x="1180" y="1803"/>
                  <a:pt x="1073" y="1720"/>
                  <a:pt x="1145" y="1756"/>
                </a:cubicBezTo>
                <a:cubicBezTo>
                  <a:pt x="1191" y="1779"/>
                  <a:pt x="1206" y="1805"/>
                  <a:pt x="1263" y="1820"/>
                </a:cubicBezTo>
                <a:cubicBezTo>
                  <a:pt x="1294" y="1850"/>
                  <a:pt x="1336" y="1867"/>
                  <a:pt x="1363" y="1902"/>
                </a:cubicBezTo>
                <a:cubicBezTo>
                  <a:pt x="1376" y="1919"/>
                  <a:pt x="1400" y="1956"/>
                  <a:pt x="1400" y="1956"/>
                </a:cubicBezTo>
                <a:cubicBezTo>
                  <a:pt x="1421" y="2020"/>
                  <a:pt x="1509" y="2047"/>
                  <a:pt x="1554" y="2092"/>
                </a:cubicBezTo>
                <a:cubicBezTo>
                  <a:pt x="1597" y="2135"/>
                  <a:pt x="1574" y="2123"/>
                  <a:pt x="1618" y="2138"/>
                </a:cubicBezTo>
                <a:cubicBezTo>
                  <a:pt x="1703" y="2201"/>
                  <a:pt x="1787" y="2265"/>
                  <a:pt x="1872" y="2329"/>
                </a:cubicBezTo>
                <a:cubicBezTo>
                  <a:pt x="1890" y="2383"/>
                  <a:pt x="1868" y="2331"/>
                  <a:pt x="1900" y="2374"/>
                </a:cubicBezTo>
                <a:cubicBezTo>
                  <a:pt x="1920" y="2401"/>
                  <a:pt x="1957" y="2468"/>
                  <a:pt x="1981" y="2492"/>
                </a:cubicBezTo>
                <a:cubicBezTo>
                  <a:pt x="2022" y="2533"/>
                  <a:pt x="2066" y="2571"/>
                  <a:pt x="2100" y="2620"/>
                </a:cubicBezTo>
                <a:cubicBezTo>
                  <a:pt x="2127" y="2702"/>
                  <a:pt x="2164" y="2778"/>
                  <a:pt x="2218" y="2847"/>
                </a:cubicBezTo>
                <a:cubicBezTo>
                  <a:pt x="2234" y="2895"/>
                  <a:pt x="2261" y="2931"/>
                  <a:pt x="2290" y="2974"/>
                </a:cubicBezTo>
                <a:cubicBezTo>
                  <a:pt x="2303" y="3071"/>
                  <a:pt x="2313" y="3171"/>
                  <a:pt x="2345" y="3265"/>
                </a:cubicBezTo>
                <a:cubicBezTo>
                  <a:pt x="2354" y="3564"/>
                  <a:pt x="2354" y="3458"/>
                  <a:pt x="2354" y="3583"/>
                </a:cubicBezTo>
                <a:lnTo>
                  <a:pt x="4151" y="3552"/>
                </a:lnTo>
                <a:lnTo>
                  <a:pt x="4151" y="0"/>
                </a:lnTo>
                <a:lnTo>
                  <a:pt x="0" y="29"/>
                </a:lnTo>
                <a:close/>
              </a:path>
            </a:pathLst>
          </a:cu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UMEN: Areniscas Bioclásticas de Temu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808200"/>
            <a:ext cx="5023080" cy="5645160"/>
          </a:xfrm>
          <a:custGeom>
            <a:avLst/>
            <a:gdLst/>
            <a:ahLst/>
            <a:rect l="l" t="t" r="r" b="b"/>
            <a:pathLst>
              <a:path w="3164" h="3556">
                <a:moveTo>
                  <a:pt x="7" y="473"/>
                </a:moveTo>
                <a:cubicBezTo>
                  <a:pt x="54" y="508"/>
                  <a:pt x="105" y="535"/>
                  <a:pt x="152" y="573"/>
                </a:cubicBezTo>
                <a:cubicBezTo>
                  <a:pt x="202" y="613"/>
                  <a:pt x="234" y="666"/>
                  <a:pt x="280" y="709"/>
                </a:cubicBezTo>
                <a:cubicBezTo>
                  <a:pt x="307" y="792"/>
                  <a:pt x="321" y="884"/>
                  <a:pt x="398" y="936"/>
                </a:cubicBezTo>
                <a:cubicBezTo>
                  <a:pt x="449" y="1015"/>
                  <a:pt x="576" y="1093"/>
                  <a:pt x="671" y="1109"/>
                </a:cubicBezTo>
                <a:cubicBezTo>
                  <a:pt x="722" y="1131"/>
                  <a:pt x="772" y="1144"/>
                  <a:pt x="825" y="1164"/>
                </a:cubicBezTo>
                <a:cubicBezTo>
                  <a:pt x="843" y="1170"/>
                  <a:pt x="880" y="1182"/>
                  <a:pt x="880" y="1182"/>
                </a:cubicBezTo>
                <a:cubicBezTo>
                  <a:pt x="898" y="1194"/>
                  <a:pt x="916" y="1206"/>
                  <a:pt x="934" y="1218"/>
                </a:cubicBezTo>
                <a:cubicBezTo>
                  <a:pt x="943" y="1224"/>
                  <a:pt x="961" y="1236"/>
                  <a:pt x="961" y="1236"/>
                </a:cubicBezTo>
                <a:cubicBezTo>
                  <a:pt x="973" y="1254"/>
                  <a:pt x="991" y="1270"/>
                  <a:pt x="998" y="1291"/>
                </a:cubicBezTo>
                <a:cubicBezTo>
                  <a:pt x="1018" y="1353"/>
                  <a:pt x="1002" y="1331"/>
                  <a:pt x="1034" y="1364"/>
                </a:cubicBezTo>
                <a:cubicBezTo>
                  <a:pt x="1046" y="1449"/>
                  <a:pt x="1080" y="1537"/>
                  <a:pt x="1143" y="1600"/>
                </a:cubicBezTo>
                <a:cubicBezTo>
                  <a:pt x="1149" y="1618"/>
                  <a:pt x="1147" y="1640"/>
                  <a:pt x="1161" y="1654"/>
                </a:cubicBezTo>
                <a:cubicBezTo>
                  <a:pt x="1176" y="1669"/>
                  <a:pt x="1188" y="1679"/>
                  <a:pt x="1198" y="1700"/>
                </a:cubicBezTo>
                <a:cubicBezTo>
                  <a:pt x="1225" y="1761"/>
                  <a:pt x="1246" y="1834"/>
                  <a:pt x="1261" y="1900"/>
                </a:cubicBezTo>
                <a:cubicBezTo>
                  <a:pt x="1269" y="1940"/>
                  <a:pt x="1276" y="1972"/>
                  <a:pt x="1298" y="2009"/>
                </a:cubicBezTo>
                <a:cubicBezTo>
                  <a:pt x="1309" y="2027"/>
                  <a:pt x="1334" y="2063"/>
                  <a:pt x="1334" y="2063"/>
                </a:cubicBezTo>
                <a:cubicBezTo>
                  <a:pt x="1363" y="2154"/>
                  <a:pt x="1318" y="2024"/>
                  <a:pt x="1361" y="2118"/>
                </a:cubicBezTo>
                <a:cubicBezTo>
                  <a:pt x="1383" y="2167"/>
                  <a:pt x="1395" y="2220"/>
                  <a:pt x="1407" y="2273"/>
                </a:cubicBezTo>
                <a:cubicBezTo>
                  <a:pt x="1410" y="2288"/>
                  <a:pt x="1427" y="2356"/>
                  <a:pt x="1434" y="2363"/>
                </a:cubicBezTo>
                <a:cubicBezTo>
                  <a:pt x="1449" y="2378"/>
                  <a:pt x="1461" y="2396"/>
                  <a:pt x="1480" y="2409"/>
                </a:cubicBezTo>
                <a:cubicBezTo>
                  <a:pt x="1498" y="2421"/>
                  <a:pt x="1534" y="2445"/>
                  <a:pt x="1534" y="2445"/>
                </a:cubicBezTo>
                <a:cubicBezTo>
                  <a:pt x="1561" y="2488"/>
                  <a:pt x="1602" y="2507"/>
                  <a:pt x="1643" y="2536"/>
                </a:cubicBezTo>
                <a:cubicBezTo>
                  <a:pt x="1690" y="2570"/>
                  <a:pt x="1648" y="2556"/>
                  <a:pt x="1698" y="2582"/>
                </a:cubicBezTo>
                <a:cubicBezTo>
                  <a:pt x="1727" y="2596"/>
                  <a:pt x="1759" y="2604"/>
                  <a:pt x="1789" y="2618"/>
                </a:cubicBezTo>
                <a:cubicBezTo>
                  <a:pt x="1890" y="2665"/>
                  <a:pt x="1827" y="2643"/>
                  <a:pt x="1889" y="2663"/>
                </a:cubicBezTo>
                <a:cubicBezTo>
                  <a:pt x="1895" y="2669"/>
                  <a:pt x="1902" y="2674"/>
                  <a:pt x="1907" y="2682"/>
                </a:cubicBezTo>
                <a:cubicBezTo>
                  <a:pt x="1911" y="2690"/>
                  <a:pt x="1910" y="2701"/>
                  <a:pt x="1916" y="2709"/>
                </a:cubicBezTo>
                <a:cubicBezTo>
                  <a:pt x="1934" y="2732"/>
                  <a:pt x="1958" y="2750"/>
                  <a:pt x="1980" y="2772"/>
                </a:cubicBezTo>
                <a:cubicBezTo>
                  <a:pt x="1995" y="2787"/>
                  <a:pt x="2025" y="2818"/>
                  <a:pt x="2025" y="2818"/>
                </a:cubicBezTo>
                <a:cubicBezTo>
                  <a:pt x="2043" y="2891"/>
                  <a:pt x="2017" y="2823"/>
                  <a:pt x="2061" y="2872"/>
                </a:cubicBezTo>
                <a:cubicBezTo>
                  <a:pt x="2136" y="2956"/>
                  <a:pt x="2082" y="2909"/>
                  <a:pt x="2125" y="2963"/>
                </a:cubicBezTo>
                <a:cubicBezTo>
                  <a:pt x="2146" y="2990"/>
                  <a:pt x="2189" y="3045"/>
                  <a:pt x="2189" y="3045"/>
                </a:cubicBezTo>
                <a:cubicBezTo>
                  <a:pt x="2207" y="3100"/>
                  <a:pt x="2221" y="3151"/>
                  <a:pt x="2234" y="3209"/>
                </a:cubicBezTo>
                <a:cubicBezTo>
                  <a:pt x="2236" y="3221"/>
                  <a:pt x="2239" y="3233"/>
                  <a:pt x="2243" y="3245"/>
                </a:cubicBezTo>
                <a:cubicBezTo>
                  <a:pt x="2248" y="3263"/>
                  <a:pt x="2261" y="3300"/>
                  <a:pt x="2261" y="3300"/>
                </a:cubicBezTo>
                <a:cubicBezTo>
                  <a:pt x="2272" y="3347"/>
                  <a:pt x="2296" y="3485"/>
                  <a:pt x="2307" y="3527"/>
                </a:cubicBezTo>
                <a:cubicBezTo>
                  <a:pt x="2316" y="3556"/>
                  <a:pt x="2306" y="3554"/>
                  <a:pt x="2325" y="3554"/>
                </a:cubicBezTo>
                <a:lnTo>
                  <a:pt x="3120" y="3523"/>
                </a:lnTo>
                <a:cubicBezTo>
                  <a:pt x="3112" y="3414"/>
                  <a:pt x="3164" y="2866"/>
                  <a:pt x="2970" y="2682"/>
                </a:cubicBezTo>
                <a:cubicBezTo>
                  <a:pt x="2948" y="2637"/>
                  <a:pt x="2916" y="2604"/>
                  <a:pt x="2889" y="2563"/>
                </a:cubicBezTo>
                <a:cubicBezTo>
                  <a:pt x="2834" y="2481"/>
                  <a:pt x="2780" y="2399"/>
                  <a:pt x="2698" y="2345"/>
                </a:cubicBezTo>
                <a:cubicBezTo>
                  <a:pt x="2670" y="2303"/>
                  <a:pt x="2658" y="2321"/>
                  <a:pt x="2625" y="2291"/>
                </a:cubicBezTo>
                <a:cubicBezTo>
                  <a:pt x="2564" y="2236"/>
                  <a:pt x="2482" y="2116"/>
                  <a:pt x="2407" y="2091"/>
                </a:cubicBezTo>
                <a:cubicBezTo>
                  <a:pt x="2355" y="2037"/>
                  <a:pt x="2285" y="2004"/>
                  <a:pt x="2225" y="1963"/>
                </a:cubicBezTo>
                <a:cubicBezTo>
                  <a:pt x="2206" y="1950"/>
                  <a:pt x="2185" y="1942"/>
                  <a:pt x="2170" y="1927"/>
                </a:cubicBezTo>
                <a:cubicBezTo>
                  <a:pt x="2115" y="1872"/>
                  <a:pt x="2047" y="1846"/>
                  <a:pt x="1989" y="1800"/>
                </a:cubicBezTo>
                <a:cubicBezTo>
                  <a:pt x="1965" y="1781"/>
                  <a:pt x="1950" y="1761"/>
                  <a:pt x="1925" y="1745"/>
                </a:cubicBezTo>
                <a:cubicBezTo>
                  <a:pt x="1883" y="1682"/>
                  <a:pt x="1786" y="1605"/>
                  <a:pt x="1716" y="1582"/>
                </a:cubicBezTo>
                <a:cubicBezTo>
                  <a:pt x="1671" y="1546"/>
                  <a:pt x="1626" y="1523"/>
                  <a:pt x="1580" y="1491"/>
                </a:cubicBezTo>
                <a:cubicBezTo>
                  <a:pt x="1567" y="1482"/>
                  <a:pt x="1553" y="1474"/>
                  <a:pt x="1543" y="1464"/>
                </a:cubicBezTo>
                <a:cubicBezTo>
                  <a:pt x="1534" y="1454"/>
                  <a:pt x="1526" y="1443"/>
                  <a:pt x="1516" y="1436"/>
                </a:cubicBezTo>
                <a:cubicBezTo>
                  <a:pt x="1462" y="1395"/>
                  <a:pt x="1461" y="1422"/>
                  <a:pt x="1416" y="1354"/>
                </a:cubicBezTo>
                <a:cubicBezTo>
                  <a:pt x="1389" y="1313"/>
                  <a:pt x="1379" y="1267"/>
                  <a:pt x="1352" y="1227"/>
                </a:cubicBezTo>
                <a:cubicBezTo>
                  <a:pt x="1349" y="1215"/>
                  <a:pt x="1347" y="1202"/>
                  <a:pt x="1343" y="1191"/>
                </a:cubicBezTo>
                <a:cubicBezTo>
                  <a:pt x="1338" y="1178"/>
                  <a:pt x="1329" y="1167"/>
                  <a:pt x="1325" y="1154"/>
                </a:cubicBezTo>
                <a:cubicBezTo>
                  <a:pt x="1311" y="1114"/>
                  <a:pt x="1311" y="1063"/>
                  <a:pt x="1289" y="1027"/>
                </a:cubicBezTo>
                <a:cubicBezTo>
                  <a:pt x="1254" y="970"/>
                  <a:pt x="1230" y="911"/>
                  <a:pt x="1198" y="854"/>
                </a:cubicBezTo>
                <a:cubicBezTo>
                  <a:pt x="1181" y="824"/>
                  <a:pt x="1151" y="753"/>
                  <a:pt x="1125" y="736"/>
                </a:cubicBezTo>
                <a:cubicBezTo>
                  <a:pt x="1074" y="702"/>
                  <a:pt x="1102" y="723"/>
                  <a:pt x="1034" y="655"/>
                </a:cubicBezTo>
                <a:cubicBezTo>
                  <a:pt x="1007" y="628"/>
                  <a:pt x="992" y="605"/>
                  <a:pt x="961" y="582"/>
                </a:cubicBezTo>
                <a:cubicBezTo>
                  <a:pt x="941" y="552"/>
                  <a:pt x="922" y="531"/>
                  <a:pt x="907" y="500"/>
                </a:cubicBezTo>
                <a:cubicBezTo>
                  <a:pt x="862" y="275"/>
                  <a:pt x="870" y="348"/>
                  <a:pt x="870" y="0"/>
                </a:cubicBezTo>
                <a:lnTo>
                  <a:pt x="0" y="19"/>
                </a:lnTo>
                <a:lnTo>
                  <a:pt x="7" y="473"/>
                </a:lnTo>
                <a:close/>
              </a:path>
            </a:pathLst>
          </a:custGeom>
          <a:solidFill>
            <a:srgbClr val="ff99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47960" y="609480"/>
            <a:ext cx="4910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UMEN: Fm. Margas de Calm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3044880"/>
            <a:ext cx="3589200" cy="3432240"/>
          </a:xfrm>
          <a:custGeom>
            <a:avLst/>
            <a:gdLst/>
            <a:ahLst/>
            <a:rect l="l" t="t" r="r" b="b"/>
            <a:pathLst>
              <a:path w="2261" h="2162">
                <a:moveTo>
                  <a:pt x="37" y="0"/>
                </a:moveTo>
                <a:cubicBezTo>
                  <a:pt x="189" y="5"/>
                  <a:pt x="332" y="11"/>
                  <a:pt x="482" y="36"/>
                </a:cubicBezTo>
                <a:cubicBezTo>
                  <a:pt x="514" y="47"/>
                  <a:pt x="549" y="51"/>
                  <a:pt x="582" y="64"/>
                </a:cubicBezTo>
                <a:cubicBezTo>
                  <a:pt x="694" y="108"/>
                  <a:pt x="552" y="80"/>
                  <a:pt x="691" y="100"/>
                </a:cubicBezTo>
                <a:cubicBezTo>
                  <a:pt x="712" y="109"/>
                  <a:pt x="733" y="119"/>
                  <a:pt x="755" y="127"/>
                </a:cubicBezTo>
                <a:cubicBezTo>
                  <a:pt x="769" y="131"/>
                  <a:pt x="785" y="130"/>
                  <a:pt x="800" y="136"/>
                </a:cubicBezTo>
                <a:cubicBezTo>
                  <a:pt x="808" y="139"/>
                  <a:pt x="861" y="180"/>
                  <a:pt x="864" y="182"/>
                </a:cubicBezTo>
                <a:cubicBezTo>
                  <a:pt x="943" y="229"/>
                  <a:pt x="895" y="187"/>
                  <a:pt x="937" y="227"/>
                </a:cubicBezTo>
                <a:cubicBezTo>
                  <a:pt x="963" y="307"/>
                  <a:pt x="989" y="368"/>
                  <a:pt x="1000" y="454"/>
                </a:cubicBezTo>
                <a:cubicBezTo>
                  <a:pt x="1005" y="551"/>
                  <a:pt x="997" y="683"/>
                  <a:pt x="1055" y="773"/>
                </a:cubicBezTo>
                <a:cubicBezTo>
                  <a:pt x="1068" y="826"/>
                  <a:pt x="1082" y="883"/>
                  <a:pt x="1100" y="936"/>
                </a:cubicBezTo>
                <a:cubicBezTo>
                  <a:pt x="1136" y="992"/>
                  <a:pt x="1237" y="1065"/>
                  <a:pt x="1273" y="1109"/>
                </a:cubicBezTo>
                <a:cubicBezTo>
                  <a:pt x="1294" y="1136"/>
                  <a:pt x="1300" y="1168"/>
                  <a:pt x="1318" y="1200"/>
                </a:cubicBezTo>
                <a:cubicBezTo>
                  <a:pt x="1336" y="1232"/>
                  <a:pt x="1342" y="1262"/>
                  <a:pt x="1382" y="1300"/>
                </a:cubicBezTo>
                <a:cubicBezTo>
                  <a:pt x="1427" y="1326"/>
                  <a:pt x="1517" y="1392"/>
                  <a:pt x="1555" y="1427"/>
                </a:cubicBezTo>
                <a:cubicBezTo>
                  <a:pt x="1581" y="1531"/>
                  <a:pt x="1537" y="1528"/>
                  <a:pt x="1591" y="1609"/>
                </a:cubicBezTo>
                <a:cubicBezTo>
                  <a:pt x="1610" y="1685"/>
                  <a:pt x="1757" y="1731"/>
                  <a:pt x="1773" y="1809"/>
                </a:cubicBezTo>
                <a:cubicBezTo>
                  <a:pt x="1774" y="1835"/>
                  <a:pt x="2261" y="2110"/>
                  <a:pt x="1991" y="2145"/>
                </a:cubicBezTo>
                <a:lnTo>
                  <a:pt x="0" y="2162"/>
                </a:lnTo>
                <a:lnTo>
                  <a:pt x="37" y="0"/>
                </a:lnTo>
                <a:close/>
              </a:path>
            </a:pathLst>
          </a:custGeom>
          <a:solidFill>
            <a:srgbClr val="3366ff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UMEN: Fm. Areniscas de Poc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9760" y="2712960"/>
            <a:ext cx="3965760" cy="3737160"/>
          </a:xfrm>
          <a:custGeom>
            <a:avLst/>
            <a:gdLst/>
            <a:ahLst/>
            <a:rect l="l" t="t" r="r" b="b"/>
            <a:pathLst>
              <a:path w="2498" h="2354">
                <a:moveTo>
                  <a:pt x="571" y="2354"/>
                </a:moveTo>
                <a:cubicBezTo>
                  <a:pt x="548" y="2316"/>
                  <a:pt x="535" y="2278"/>
                  <a:pt x="507" y="2245"/>
                </a:cubicBezTo>
                <a:cubicBezTo>
                  <a:pt x="469" y="2201"/>
                  <a:pt x="416" y="2169"/>
                  <a:pt x="371" y="2136"/>
                </a:cubicBezTo>
                <a:cubicBezTo>
                  <a:pt x="359" y="2127"/>
                  <a:pt x="347" y="2117"/>
                  <a:pt x="335" y="2109"/>
                </a:cubicBezTo>
                <a:cubicBezTo>
                  <a:pt x="316" y="2096"/>
                  <a:pt x="280" y="2072"/>
                  <a:pt x="280" y="2072"/>
                </a:cubicBezTo>
                <a:cubicBezTo>
                  <a:pt x="255" y="2034"/>
                  <a:pt x="240" y="1999"/>
                  <a:pt x="216" y="1963"/>
                </a:cubicBezTo>
                <a:cubicBezTo>
                  <a:pt x="194" y="1898"/>
                  <a:pt x="208" y="1924"/>
                  <a:pt x="180" y="1882"/>
                </a:cubicBezTo>
                <a:cubicBezTo>
                  <a:pt x="156" y="1808"/>
                  <a:pt x="89" y="1686"/>
                  <a:pt x="25" y="1645"/>
                </a:cubicBezTo>
                <a:cubicBezTo>
                  <a:pt x="0" y="1548"/>
                  <a:pt x="21" y="1467"/>
                  <a:pt x="89" y="1400"/>
                </a:cubicBezTo>
                <a:cubicBezTo>
                  <a:pt x="112" y="1328"/>
                  <a:pt x="174" y="1270"/>
                  <a:pt x="216" y="1209"/>
                </a:cubicBezTo>
                <a:cubicBezTo>
                  <a:pt x="219" y="1203"/>
                  <a:pt x="250" y="1160"/>
                  <a:pt x="253" y="1154"/>
                </a:cubicBezTo>
                <a:cubicBezTo>
                  <a:pt x="267" y="1111"/>
                  <a:pt x="302" y="1076"/>
                  <a:pt x="316" y="1036"/>
                </a:cubicBezTo>
                <a:cubicBezTo>
                  <a:pt x="338" y="968"/>
                  <a:pt x="392" y="910"/>
                  <a:pt x="435" y="854"/>
                </a:cubicBezTo>
                <a:cubicBezTo>
                  <a:pt x="463" y="815"/>
                  <a:pt x="483" y="771"/>
                  <a:pt x="516" y="736"/>
                </a:cubicBezTo>
                <a:cubicBezTo>
                  <a:pt x="561" y="685"/>
                  <a:pt x="612" y="644"/>
                  <a:pt x="662" y="600"/>
                </a:cubicBezTo>
                <a:cubicBezTo>
                  <a:pt x="760" y="510"/>
                  <a:pt x="689" y="558"/>
                  <a:pt x="753" y="518"/>
                </a:cubicBezTo>
                <a:cubicBezTo>
                  <a:pt x="769" y="467"/>
                  <a:pt x="771" y="447"/>
                  <a:pt x="816" y="418"/>
                </a:cubicBezTo>
                <a:cubicBezTo>
                  <a:pt x="831" y="371"/>
                  <a:pt x="844" y="393"/>
                  <a:pt x="880" y="364"/>
                </a:cubicBezTo>
                <a:cubicBezTo>
                  <a:pt x="948" y="307"/>
                  <a:pt x="976" y="298"/>
                  <a:pt x="1062" y="282"/>
                </a:cubicBezTo>
                <a:cubicBezTo>
                  <a:pt x="1085" y="266"/>
                  <a:pt x="1108" y="257"/>
                  <a:pt x="1134" y="245"/>
                </a:cubicBezTo>
                <a:cubicBezTo>
                  <a:pt x="1283" y="185"/>
                  <a:pt x="1432" y="123"/>
                  <a:pt x="1583" y="67"/>
                </a:cubicBezTo>
                <a:cubicBezTo>
                  <a:pt x="1674" y="32"/>
                  <a:pt x="1784" y="23"/>
                  <a:pt x="1880" y="0"/>
                </a:cubicBezTo>
                <a:cubicBezTo>
                  <a:pt x="1952" y="4"/>
                  <a:pt x="2048" y="25"/>
                  <a:pt x="2125" y="27"/>
                </a:cubicBezTo>
                <a:cubicBezTo>
                  <a:pt x="2249" y="29"/>
                  <a:pt x="2373" y="27"/>
                  <a:pt x="2498" y="27"/>
                </a:cubicBezTo>
                <a:lnTo>
                  <a:pt x="2495" y="2323"/>
                </a:lnTo>
                <a:lnTo>
                  <a:pt x="571" y="2354"/>
                </a:lnTo>
                <a:close/>
              </a:path>
            </a:pathLst>
          </a:custGeom>
          <a:solidFill>
            <a:srgbClr val="339966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MEN: Fm. Areniscas de Labr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59320" y="779400"/>
            <a:ext cx="4421160" cy="4400640"/>
          </a:xfrm>
          <a:custGeom>
            <a:avLst/>
            <a:gdLst/>
            <a:ahLst/>
            <a:rect l="l" t="t" r="r" b="b"/>
            <a:pathLst>
              <a:path w="2785" h="2772">
                <a:moveTo>
                  <a:pt x="31" y="9"/>
                </a:moveTo>
                <a:cubicBezTo>
                  <a:pt x="41" y="69"/>
                  <a:pt x="65" y="232"/>
                  <a:pt x="112" y="282"/>
                </a:cubicBezTo>
                <a:cubicBezTo>
                  <a:pt x="124" y="315"/>
                  <a:pt x="167" y="373"/>
                  <a:pt x="167" y="373"/>
                </a:cubicBezTo>
                <a:cubicBezTo>
                  <a:pt x="189" y="439"/>
                  <a:pt x="209" y="506"/>
                  <a:pt x="231" y="573"/>
                </a:cubicBezTo>
                <a:cubicBezTo>
                  <a:pt x="234" y="597"/>
                  <a:pt x="240" y="620"/>
                  <a:pt x="240" y="645"/>
                </a:cubicBezTo>
                <a:cubicBezTo>
                  <a:pt x="240" y="702"/>
                  <a:pt x="238" y="760"/>
                  <a:pt x="231" y="818"/>
                </a:cubicBezTo>
                <a:cubicBezTo>
                  <a:pt x="222" y="889"/>
                  <a:pt x="143" y="959"/>
                  <a:pt x="103" y="1018"/>
                </a:cubicBezTo>
                <a:cubicBezTo>
                  <a:pt x="92" y="1048"/>
                  <a:pt x="79" y="1067"/>
                  <a:pt x="58" y="1091"/>
                </a:cubicBezTo>
                <a:cubicBezTo>
                  <a:pt x="55" y="1100"/>
                  <a:pt x="52" y="1109"/>
                  <a:pt x="49" y="1118"/>
                </a:cubicBezTo>
                <a:cubicBezTo>
                  <a:pt x="43" y="1130"/>
                  <a:pt x="35" y="1141"/>
                  <a:pt x="31" y="1154"/>
                </a:cubicBezTo>
                <a:cubicBezTo>
                  <a:pt x="19" y="1185"/>
                  <a:pt x="13" y="1221"/>
                  <a:pt x="3" y="1254"/>
                </a:cubicBezTo>
                <a:cubicBezTo>
                  <a:pt x="3" y="1269"/>
                  <a:pt x="0" y="1490"/>
                  <a:pt x="22" y="1572"/>
                </a:cubicBezTo>
                <a:cubicBezTo>
                  <a:pt x="55" y="1703"/>
                  <a:pt x="97" y="1837"/>
                  <a:pt x="122" y="1972"/>
                </a:cubicBezTo>
                <a:cubicBezTo>
                  <a:pt x="116" y="2099"/>
                  <a:pt x="125" y="2272"/>
                  <a:pt x="49" y="2391"/>
                </a:cubicBezTo>
                <a:cubicBezTo>
                  <a:pt x="46" y="2403"/>
                  <a:pt x="43" y="2415"/>
                  <a:pt x="40" y="2427"/>
                </a:cubicBezTo>
                <a:cubicBezTo>
                  <a:pt x="34" y="2445"/>
                  <a:pt x="22" y="2481"/>
                  <a:pt x="22" y="2481"/>
                </a:cubicBezTo>
                <a:cubicBezTo>
                  <a:pt x="25" y="2535"/>
                  <a:pt x="23" y="2590"/>
                  <a:pt x="31" y="2645"/>
                </a:cubicBezTo>
                <a:cubicBezTo>
                  <a:pt x="32" y="2655"/>
                  <a:pt x="41" y="2663"/>
                  <a:pt x="49" y="2672"/>
                </a:cubicBezTo>
                <a:cubicBezTo>
                  <a:pt x="108" y="2740"/>
                  <a:pt x="152" y="2754"/>
                  <a:pt x="240" y="2772"/>
                </a:cubicBezTo>
                <a:cubicBezTo>
                  <a:pt x="294" y="2769"/>
                  <a:pt x="348" y="2769"/>
                  <a:pt x="403" y="2763"/>
                </a:cubicBezTo>
                <a:cubicBezTo>
                  <a:pt x="404" y="2762"/>
                  <a:pt x="470" y="2740"/>
                  <a:pt x="485" y="2736"/>
                </a:cubicBezTo>
                <a:cubicBezTo>
                  <a:pt x="494" y="2733"/>
                  <a:pt x="512" y="2727"/>
                  <a:pt x="512" y="2727"/>
                </a:cubicBezTo>
                <a:cubicBezTo>
                  <a:pt x="545" y="2695"/>
                  <a:pt x="596" y="2664"/>
                  <a:pt x="622" y="2627"/>
                </a:cubicBezTo>
                <a:cubicBezTo>
                  <a:pt x="655" y="2577"/>
                  <a:pt x="688" y="2523"/>
                  <a:pt x="731" y="2481"/>
                </a:cubicBezTo>
                <a:cubicBezTo>
                  <a:pt x="755" y="2407"/>
                  <a:pt x="775" y="2327"/>
                  <a:pt x="831" y="2272"/>
                </a:cubicBezTo>
                <a:cubicBezTo>
                  <a:pt x="854" y="2201"/>
                  <a:pt x="953" y="2076"/>
                  <a:pt x="1012" y="2018"/>
                </a:cubicBezTo>
                <a:cubicBezTo>
                  <a:pt x="1018" y="1999"/>
                  <a:pt x="1022" y="1980"/>
                  <a:pt x="1031" y="1963"/>
                </a:cubicBezTo>
                <a:cubicBezTo>
                  <a:pt x="1038" y="1947"/>
                  <a:pt x="1050" y="1933"/>
                  <a:pt x="1058" y="1918"/>
                </a:cubicBezTo>
                <a:cubicBezTo>
                  <a:pt x="1086" y="1853"/>
                  <a:pt x="1063" y="1846"/>
                  <a:pt x="1122" y="1818"/>
                </a:cubicBezTo>
                <a:cubicBezTo>
                  <a:pt x="1142" y="1787"/>
                  <a:pt x="1132" y="1799"/>
                  <a:pt x="1149" y="1781"/>
                </a:cubicBezTo>
                <a:cubicBezTo>
                  <a:pt x="1234" y="1711"/>
                  <a:pt x="1325" y="1648"/>
                  <a:pt x="1406" y="1573"/>
                </a:cubicBezTo>
                <a:cubicBezTo>
                  <a:pt x="1415" y="1564"/>
                  <a:pt x="1405" y="1546"/>
                  <a:pt x="1412" y="1536"/>
                </a:cubicBezTo>
                <a:cubicBezTo>
                  <a:pt x="1423" y="1517"/>
                  <a:pt x="1446" y="1509"/>
                  <a:pt x="1458" y="1491"/>
                </a:cubicBezTo>
                <a:cubicBezTo>
                  <a:pt x="1494" y="1434"/>
                  <a:pt x="1573" y="1357"/>
                  <a:pt x="1640" y="1336"/>
                </a:cubicBezTo>
                <a:cubicBezTo>
                  <a:pt x="1662" y="1313"/>
                  <a:pt x="1690" y="1281"/>
                  <a:pt x="1721" y="1272"/>
                </a:cubicBezTo>
                <a:cubicBezTo>
                  <a:pt x="1739" y="1266"/>
                  <a:pt x="1759" y="1263"/>
                  <a:pt x="1776" y="1254"/>
                </a:cubicBezTo>
                <a:cubicBezTo>
                  <a:pt x="1886" y="1187"/>
                  <a:pt x="2032" y="1171"/>
                  <a:pt x="2158" y="1163"/>
                </a:cubicBezTo>
                <a:cubicBezTo>
                  <a:pt x="2176" y="1157"/>
                  <a:pt x="2194" y="1153"/>
                  <a:pt x="2212" y="1145"/>
                </a:cubicBezTo>
                <a:cubicBezTo>
                  <a:pt x="2224" y="1139"/>
                  <a:pt x="2236" y="1132"/>
                  <a:pt x="2249" y="1127"/>
                </a:cubicBezTo>
                <a:cubicBezTo>
                  <a:pt x="2266" y="1120"/>
                  <a:pt x="2303" y="1109"/>
                  <a:pt x="2303" y="1109"/>
                </a:cubicBezTo>
                <a:cubicBezTo>
                  <a:pt x="2315" y="1100"/>
                  <a:pt x="2326" y="1088"/>
                  <a:pt x="2340" y="1082"/>
                </a:cubicBezTo>
                <a:cubicBezTo>
                  <a:pt x="2354" y="1075"/>
                  <a:pt x="2372" y="1080"/>
                  <a:pt x="2385" y="1072"/>
                </a:cubicBezTo>
                <a:cubicBezTo>
                  <a:pt x="2422" y="1047"/>
                  <a:pt x="2436" y="1023"/>
                  <a:pt x="2458" y="991"/>
                </a:cubicBezTo>
                <a:cubicBezTo>
                  <a:pt x="2475" y="937"/>
                  <a:pt x="2482" y="903"/>
                  <a:pt x="2521" y="863"/>
                </a:cubicBezTo>
                <a:cubicBezTo>
                  <a:pt x="2535" y="796"/>
                  <a:pt x="2545" y="730"/>
                  <a:pt x="2558" y="663"/>
                </a:cubicBezTo>
                <a:cubicBezTo>
                  <a:pt x="2569" y="600"/>
                  <a:pt x="2566" y="536"/>
                  <a:pt x="2603" y="482"/>
                </a:cubicBezTo>
                <a:cubicBezTo>
                  <a:pt x="2616" y="441"/>
                  <a:pt x="2635" y="402"/>
                  <a:pt x="2649" y="363"/>
                </a:cubicBezTo>
                <a:cubicBezTo>
                  <a:pt x="2662" y="321"/>
                  <a:pt x="2671" y="277"/>
                  <a:pt x="2685" y="236"/>
                </a:cubicBezTo>
                <a:cubicBezTo>
                  <a:pt x="2693" y="209"/>
                  <a:pt x="2707" y="181"/>
                  <a:pt x="2712" y="154"/>
                </a:cubicBezTo>
                <a:cubicBezTo>
                  <a:pt x="2720" y="103"/>
                  <a:pt x="2721" y="91"/>
                  <a:pt x="2749" y="54"/>
                </a:cubicBezTo>
                <a:cubicBezTo>
                  <a:pt x="2761" y="36"/>
                  <a:pt x="2785" y="0"/>
                  <a:pt x="2785" y="0"/>
                </a:cubicBezTo>
                <a:lnTo>
                  <a:pt x="31" y="9"/>
                </a:lnTo>
                <a:close/>
              </a:path>
            </a:pathLst>
          </a:custGeom>
          <a:solidFill>
            <a:srgbClr val="33cccc">
              <a:alpha val="49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572000" y="1599840"/>
            <a:ext cx="228600" cy="251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UMEN: Fm. Calizas y Margas de Ro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792000"/>
            <a:ext cx="3028680" cy="5685120"/>
          </a:xfrm>
          <a:custGeom>
            <a:avLst/>
            <a:gdLst/>
            <a:ahLst/>
            <a:rect l="l" t="t" r="r" b="b"/>
            <a:pathLst>
              <a:path w="1908" h="3581">
                <a:moveTo>
                  <a:pt x="0" y="3581"/>
                </a:moveTo>
                <a:cubicBezTo>
                  <a:pt x="608" y="3565"/>
                  <a:pt x="1216" y="3550"/>
                  <a:pt x="1824" y="3533"/>
                </a:cubicBezTo>
                <a:cubicBezTo>
                  <a:pt x="1846" y="3532"/>
                  <a:pt x="1871" y="3538"/>
                  <a:pt x="1891" y="3528"/>
                </a:cubicBezTo>
                <a:cubicBezTo>
                  <a:pt x="1908" y="3518"/>
                  <a:pt x="1873" y="3491"/>
                  <a:pt x="1864" y="3473"/>
                </a:cubicBezTo>
                <a:cubicBezTo>
                  <a:pt x="1836" y="3417"/>
                  <a:pt x="1798" y="3353"/>
                  <a:pt x="1755" y="3310"/>
                </a:cubicBezTo>
                <a:cubicBezTo>
                  <a:pt x="1745" y="3280"/>
                  <a:pt x="1726" y="3258"/>
                  <a:pt x="1718" y="3228"/>
                </a:cubicBezTo>
                <a:cubicBezTo>
                  <a:pt x="1698" y="3158"/>
                  <a:pt x="1681" y="3099"/>
                  <a:pt x="1646" y="3037"/>
                </a:cubicBezTo>
                <a:cubicBezTo>
                  <a:pt x="1625" y="3001"/>
                  <a:pt x="1623" y="2988"/>
                  <a:pt x="1609" y="2946"/>
                </a:cubicBezTo>
                <a:cubicBezTo>
                  <a:pt x="1605" y="2937"/>
                  <a:pt x="1600" y="2919"/>
                  <a:pt x="1600" y="2919"/>
                </a:cubicBezTo>
                <a:cubicBezTo>
                  <a:pt x="1586" y="2837"/>
                  <a:pt x="1595" y="2884"/>
                  <a:pt x="1573" y="2792"/>
                </a:cubicBezTo>
                <a:cubicBezTo>
                  <a:pt x="1569" y="2779"/>
                  <a:pt x="1564" y="2755"/>
                  <a:pt x="1564" y="2755"/>
                </a:cubicBezTo>
                <a:cubicBezTo>
                  <a:pt x="1570" y="2621"/>
                  <a:pt x="1571" y="2600"/>
                  <a:pt x="1591" y="2501"/>
                </a:cubicBezTo>
                <a:cubicBezTo>
                  <a:pt x="1596" y="2412"/>
                  <a:pt x="1600" y="2346"/>
                  <a:pt x="1618" y="2264"/>
                </a:cubicBezTo>
                <a:cubicBezTo>
                  <a:pt x="1634" y="2187"/>
                  <a:pt x="1675" y="2118"/>
                  <a:pt x="1700" y="2046"/>
                </a:cubicBezTo>
                <a:cubicBezTo>
                  <a:pt x="1686" y="1909"/>
                  <a:pt x="1659" y="1802"/>
                  <a:pt x="1600" y="1683"/>
                </a:cubicBezTo>
                <a:cubicBezTo>
                  <a:pt x="1586" y="1616"/>
                  <a:pt x="1563" y="1560"/>
                  <a:pt x="1537" y="1501"/>
                </a:cubicBezTo>
                <a:cubicBezTo>
                  <a:pt x="1529" y="1483"/>
                  <a:pt x="1528" y="1462"/>
                  <a:pt x="1518" y="1446"/>
                </a:cubicBezTo>
                <a:cubicBezTo>
                  <a:pt x="1473" y="1379"/>
                  <a:pt x="1427" y="1324"/>
                  <a:pt x="1409" y="1246"/>
                </a:cubicBezTo>
                <a:cubicBezTo>
                  <a:pt x="1412" y="1158"/>
                  <a:pt x="1412" y="1070"/>
                  <a:pt x="1418" y="983"/>
                </a:cubicBezTo>
                <a:cubicBezTo>
                  <a:pt x="1418" y="969"/>
                  <a:pt x="1444" y="896"/>
                  <a:pt x="1446" y="892"/>
                </a:cubicBezTo>
                <a:cubicBezTo>
                  <a:pt x="1462" y="831"/>
                  <a:pt x="1471" y="769"/>
                  <a:pt x="1491" y="710"/>
                </a:cubicBezTo>
                <a:cubicBezTo>
                  <a:pt x="1497" y="668"/>
                  <a:pt x="1504" y="631"/>
                  <a:pt x="1518" y="592"/>
                </a:cubicBezTo>
                <a:cubicBezTo>
                  <a:pt x="1527" y="519"/>
                  <a:pt x="1531" y="436"/>
                  <a:pt x="1573" y="374"/>
                </a:cubicBezTo>
                <a:cubicBezTo>
                  <a:pt x="1585" y="336"/>
                  <a:pt x="1605" y="297"/>
                  <a:pt x="1628" y="265"/>
                </a:cubicBezTo>
                <a:cubicBezTo>
                  <a:pt x="1641" y="223"/>
                  <a:pt x="1667" y="191"/>
                  <a:pt x="1691" y="155"/>
                </a:cubicBezTo>
                <a:cubicBezTo>
                  <a:pt x="1696" y="145"/>
                  <a:pt x="1702" y="136"/>
                  <a:pt x="1709" y="128"/>
                </a:cubicBezTo>
                <a:cubicBezTo>
                  <a:pt x="1715" y="118"/>
                  <a:pt x="1728" y="101"/>
                  <a:pt x="1728" y="101"/>
                </a:cubicBezTo>
                <a:cubicBezTo>
                  <a:pt x="1735" y="79"/>
                  <a:pt x="1738" y="63"/>
                  <a:pt x="1755" y="46"/>
                </a:cubicBezTo>
                <a:cubicBezTo>
                  <a:pt x="1799" y="0"/>
                  <a:pt x="1769" y="52"/>
                  <a:pt x="1791" y="10"/>
                </a:cubicBezTo>
                <a:lnTo>
                  <a:pt x="48" y="29"/>
                </a:lnTo>
                <a:lnTo>
                  <a:pt x="0" y="3581"/>
                </a:lnTo>
                <a:close/>
              </a:path>
            </a:pathLst>
          </a:cu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99120" y="762120"/>
            <a:ext cx="1616400" cy="1778040"/>
          </a:xfrm>
          <a:custGeom>
            <a:avLst/>
            <a:gdLst/>
            <a:ahLst/>
            <a:rect l="l" t="t" r="r" b="b"/>
            <a:pathLst>
              <a:path w="1018" h="1120">
                <a:moveTo>
                  <a:pt x="0" y="20"/>
                </a:moveTo>
                <a:cubicBezTo>
                  <a:pt x="5" y="89"/>
                  <a:pt x="7" y="171"/>
                  <a:pt x="36" y="238"/>
                </a:cubicBezTo>
                <a:cubicBezTo>
                  <a:pt x="50" y="271"/>
                  <a:pt x="77" y="284"/>
                  <a:pt x="91" y="320"/>
                </a:cubicBezTo>
                <a:cubicBezTo>
                  <a:pt x="130" y="424"/>
                  <a:pt x="182" y="513"/>
                  <a:pt x="236" y="611"/>
                </a:cubicBezTo>
                <a:cubicBezTo>
                  <a:pt x="271" y="675"/>
                  <a:pt x="285" y="695"/>
                  <a:pt x="345" y="729"/>
                </a:cubicBezTo>
                <a:cubicBezTo>
                  <a:pt x="371" y="743"/>
                  <a:pt x="427" y="765"/>
                  <a:pt x="427" y="765"/>
                </a:cubicBezTo>
                <a:cubicBezTo>
                  <a:pt x="493" y="811"/>
                  <a:pt x="575" y="829"/>
                  <a:pt x="645" y="874"/>
                </a:cubicBezTo>
                <a:cubicBezTo>
                  <a:pt x="663" y="885"/>
                  <a:pt x="681" y="898"/>
                  <a:pt x="700" y="911"/>
                </a:cubicBezTo>
                <a:cubicBezTo>
                  <a:pt x="708" y="917"/>
                  <a:pt x="727" y="929"/>
                  <a:pt x="727" y="929"/>
                </a:cubicBezTo>
                <a:cubicBezTo>
                  <a:pt x="733" y="938"/>
                  <a:pt x="737" y="948"/>
                  <a:pt x="745" y="956"/>
                </a:cubicBezTo>
                <a:cubicBezTo>
                  <a:pt x="752" y="963"/>
                  <a:pt x="765" y="965"/>
                  <a:pt x="773" y="974"/>
                </a:cubicBezTo>
                <a:cubicBezTo>
                  <a:pt x="781" y="984"/>
                  <a:pt x="783" y="999"/>
                  <a:pt x="791" y="1011"/>
                </a:cubicBezTo>
                <a:cubicBezTo>
                  <a:pt x="802" y="1027"/>
                  <a:pt x="889" y="1080"/>
                  <a:pt x="900" y="1083"/>
                </a:cubicBezTo>
                <a:cubicBezTo>
                  <a:pt x="952" y="1097"/>
                  <a:pt x="926" y="1089"/>
                  <a:pt x="991" y="1111"/>
                </a:cubicBezTo>
                <a:cubicBezTo>
                  <a:pt x="1000" y="1113"/>
                  <a:pt x="1018" y="1120"/>
                  <a:pt x="1018" y="1120"/>
                </a:cubicBezTo>
                <a:lnTo>
                  <a:pt x="1015" y="0"/>
                </a:lnTo>
                <a:lnTo>
                  <a:pt x="0" y="20"/>
                </a:lnTo>
                <a:close/>
              </a:path>
            </a:pathLst>
          </a:cu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06768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4648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0" y="152280"/>
            <a:ext cx="38894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495440"/>
            <a:ext cx="891540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1365"/>
          <a:stretch/>
        </p:blipFill>
        <p:spPr>
          <a:xfrm>
            <a:off x="3200400" y="380880"/>
            <a:ext cx="586728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0676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5640" y="3049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5640" y="3049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33720" y="914400"/>
            <a:ext cx="4881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1:09:37Z</dcterms:created>
  <dc:creator>Marcelo Farías</dc:creator>
  <dc:description/>
  <dc:language>en-US</dc:language>
  <cp:lastModifiedBy>cliente</cp:lastModifiedBy>
  <dcterms:modified xsi:type="dcterms:W3CDTF">2004-10-29T03:10:09Z</dcterms:modified>
  <cp:revision>10</cp:revision>
  <dc:subject/>
  <dc:title>CLASE AMBIENTES 2</dc:title>
</cp:coreProperties>
</file>