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D8AA9-5214-4796-92FB-D81817818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231E-15F2-4B16-A9B1-D15497D49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6F922-0AAC-452F-874A-86BDF7272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D60FA-E1B9-40D4-BCFF-F3A010328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A56E3-98A9-410F-B519-3CB3114CF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DD24E-B54D-450A-9949-E75752307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E8582-0818-4B40-8C66-7B115AD6F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B762C-1106-4238-BFE8-E5CA3F325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ABDE6-9D64-4B93-9B03-2380F4160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0C1D7-068B-4E93-9039-66D9405D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AEB5-556C-49CF-9462-69D0CA219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7307-BD0A-4077-98D9-8B206B87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6F3D5-01F9-49AB-8AF5-B9144D35D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5AF24-046A-4F4E-923E-684BAAA1D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9C4A3-EEF3-4FE3-B864-11079C188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C59F7-ADF9-4BF2-A933-BF274F81E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57408-2F6F-4C5E-8C0B-6EB752F8E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22E0-3E23-4A36-98C5-74BAAEDA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92386-1515-4579-A59F-7760B608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F12E-9823-463B-ADD6-1D79B385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2FB0-B855-4E03-A64A-30368B93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E041-0F99-4438-98B3-1AE4445BF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F221-2F74-4AE5-BD77-5272B5BD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37D8-8847-4B60-8BEB-34A8EFAF2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0C75-E606-4AAA-B016-6A0B6D836696}" type="slidenum">
              <a:rPr b="0" lang="es-E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8B81-8CDA-4340-986D-FB203159E57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latea.pntic.mec.es/~cmarti3/INSTAL/TOLSA/dibujo0.gif" TargetMode="External"/><Relationship Id="rId2" Type="http://schemas.openxmlformats.org/officeDocument/2006/relationships/hyperlink" Target="http://earthobservatory.nasa.gov/Newsroom/NewImages/Images/aster_artII_alluvial.jpg" TargetMode="External"/><Relationship Id="rId3" Type="http://schemas.openxmlformats.org/officeDocument/2006/relationships/hyperlink" Target="http://www.damien-hs.edu/babbitt/Chapter4/candianrockies.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1988640"/>
            <a:ext cx="7772400" cy="107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5a5c6c"/>
                </a:solidFill>
                <a:latin typeface="Comic Sans MS"/>
              </a:rPr>
              <a:t>Abanicos Aluviales</a:t>
            </a:r>
            <a:endParaRPr b="0" lang="en-US" sz="6600" spc="-1" strike="noStrike">
              <a:solidFill>
                <a:srgbClr val="ffffcc"/>
              </a:solidFill>
              <a:latin typeface="Tahoma"/>
            </a:endParaRPr>
          </a:p>
        </p:txBody>
      </p:sp>
      <p:sp>
        <p:nvSpPr>
          <p:cNvPr id="385" name="PlaceHolder 2"/>
          <p:cNvSpPr>
            <a:spLocks noGrp="1"/>
          </p:cNvSpPr>
          <p:nvPr>
            <p:ph type="subTitle"/>
          </p:nvPr>
        </p:nvSpPr>
        <p:spPr>
          <a:xfrm>
            <a:off x="4355640" y="5013000"/>
            <a:ext cx="4529160" cy="6951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Javier Ortúzar Lathro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Procesos y depósitos sedimentarios</a:t>
            </a:r>
            <a:endParaRPr b="0" lang="en-US" sz="4000" spc="-1" strike="noStrike">
              <a:solidFill>
                <a:srgbClr val="ffffcc"/>
              </a:solidFill>
              <a:latin typeface="Tahoma"/>
            </a:endParaRPr>
          </a:p>
        </p:txBody>
      </p:sp>
      <p:sp>
        <p:nvSpPr>
          <p:cNvPr id="398" name="PlaceHolder 2"/>
          <p:cNvSpPr>
            <a:spLocks noGrp="1"/>
          </p:cNvSpPr>
          <p:nvPr>
            <p:ph/>
          </p:nvPr>
        </p:nvSpPr>
        <p:spPr>
          <a:xfrm>
            <a:off x="301680" y="134100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rrientes Hídricas</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Flujos gravitativos</a:t>
            </a:r>
            <a:endParaRPr b="0" lang="en-US" sz="32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udes nivale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polvo</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en placa</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húmeda</a:t>
            </a:r>
            <a:endParaRPr b="0" lang="en-US" sz="24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valanchas rocosas</a:t>
            </a:r>
            <a:endParaRPr b="0" lang="en-US" sz="28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lujos gravitativos de sedimento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lujos granulares</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ladas de fango y/o derrubio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delo conceptual</a:t>
            </a:r>
            <a:endParaRPr b="0" lang="en-US" sz="4000" spc="-1" strike="noStrike">
              <a:solidFill>
                <a:srgbClr val="ffffcc"/>
              </a:solidFill>
              <a:latin typeface="Tahoma"/>
            </a:endParaRPr>
          </a:p>
        </p:txBody>
      </p:sp>
      <p:sp>
        <p:nvSpPr>
          <p:cNvPr id="400" name="PlaceHolder 2"/>
          <p:cNvSpPr>
            <a:spLocks noGrp="1"/>
          </p:cNvSpPr>
          <p:nvPr>
            <p:ph/>
          </p:nvPr>
        </p:nvSpPr>
        <p:spPr>
          <a:xfrm>
            <a:off x="34560" y="1125000"/>
            <a:ext cx="4032360" cy="504036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os sistemas depositacionales tienen varios subambientes sedimentarios específicos, representados por facies especifica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ut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ll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Zonación:</a:t>
            </a:r>
            <a:endParaRPr b="0" lang="en-US" sz="24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becera </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erpo</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ie</a:t>
            </a:r>
            <a:endParaRPr b="0" lang="en-US" sz="2000" spc="-1" strike="noStrike">
              <a:solidFill>
                <a:srgbClr val="ffffff"/>
              </a:solidFill>
              <a:latin typeface="Tahoma"/>
            </a:endParaRPr>
          </a:p>
        </p:txBody>
      </p:sp>
      <p:sp>
        <p:nvSpPr>
          <p:cNvPr id="401" name=""/>
          <p:cNvSpPr/>
          <p:nvPr/>
        </p:nvSpPr>
        <p:spPr>
          <a:xfrm>
            <a:off x="4140360" y="5734080"/>
            <a:ext cx="4787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Unidades morfológicas de los abanicos aluviales. Se muestra también las características del perfil transversal (arriba) y longitudinal (abajo) al sistema.</a:t>
            </a:r>
            <a:endParaRPr b="0" lang="en-US" sz="1200" spc="-1" strike="noStrike">
              <a:solidFill>
                <a:srgbClr val="ffffff"/>
              </a:solidFill>
              <a:latin typeface="Times New Roman"/>
            </a:endParaRPr>
          </a:p>
        </p:txBody>
      </p:sp>
      <p:pic>
        <p:nvPicPr>
          <p:cNvPr id="402" name="" descr=""/>
          <p:cNvPicPr/>
          <p:nvPr/>
        </p:nvPicPr>
        <p:blipFill>
          <a:blip r:embed="rId1"/>
          <a:stretch/>
        </p:blipFill>
        <p:spPr>
          <a:xfrm>
            <a:off x="4067280" y="1268280"/>
            <a:ext cx="5040360" cy="436752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01680" y="549000"/>
            <a:ext cx="8540640" cy="5616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proximal (Cabecera):</a:t>
            </a:r>
            <a:r>
              <a:rPr b="0" lang="es-ES" sz="2000" spc="-1" strike="noStrike">
                <a:solidFill>
                  <a:srgbClr val="ffffff"/>
                </a:solidFill>
                <a:latin typeface="Tahoma"/>
              </a:rPr>
              <a:t> Es la porción del sistema que se encuentra más cercana al alto morfológico, presenta los gradientes de inclinación más altos y los sedimentos que se depositan son principalmente los más grues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medio (Cuerpo):</a:t>
            </a:r>
            <a:r>
              <a:rPr b="0" lang="es-ES" sz="2000" spc="-1" strike="noStrike">
                <a:solidFill>
                  <a:srgbClr val="ffffff"/>
                </a:solidFill>
                <a:latin typeface="Tahoma"/>
              </a:rPr>
              <a:t> En esta parte se tienen gradientes de inclinación menores en el talud y los canales tienden a ser mucho más someros que en el abanico proximal, dando como consecuencia que los sedimentos sean de tamaño intermedi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Distante (Pie):</a:t>
            </a:r>
            <a:r>
              <a:rPr b="0" lang="es-ES" sz="2000" spc="-1" strike="noStrike">
                <a:solidFill>
                  <a:srgbClr val="ffffff"/>
                </a:solidFill>
                <a:latin typeface="Tahoma"/>
              </a:rPr>
              <a:t> También se le conoce como la base del abanico. Se distingue por presentar los gradientes de inclinación más bajos del sistema, una sedimentación muy fina y la ausencia de canales bien desarrollados. Es la zona mas extensa. Se puede dividir en 3 zonas:</a:t>
            </a:r>
            <a:endParaRPr b="0" lang="en-US" sz="20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a:t>
            </a:r>
            <a:r>
              <a:rPr b="0" lang="es-MX" sz="1600" spc="-1" strike="noStrike">
                <a:solidFill>
                  <a:srgbClr val="ffffff"/>
                </a:solidFill>
                <a:latin typeface="Tahoma"/>
              </a:rPr>
              <a:t>Zona intermedia”</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ateriales finos con intercalaciones de mas grue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interna (superior)</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Facies lutiticas, areno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externa </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Granulometría fina a muy fina</a:t>
            </a:r>
            <a:endParaRPr b="0" lang="en-US" sz="14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istemas evaporíticos</a:t>
            </a:r>
            <a:endParaRPr b="0" lang="en-US" sz="14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1114560" y="154080"/>
            <a:ext cx="7561080" cy="5506920"/>
          </a:xfrm>
          <a:prstGeom prst="rect">
            <a:avLst/>
          </a:prstGeom>
          <a:ln w="0">
            <a:noFill/>
          </a:ln>
        </p:spPr>
      </p:pic>
      <p:sp>
        <p:nvSpPr>
          <p:cNvPr id="405" name=""/>
          <p:cNvSpPr/>
          <p:nvPr/>
        </p:nvSpPr>
        <p:spPr>
          <a:xfrm>
            <a:off x="1620720" y="57992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Variación de los depósitos dentro de un abanico aluvial </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Facies</a:t>
            </a:r>
            <a:endParaRPr b="0" lang="en-US" sz="4000" spc="-1" strike="noStrike">
              <a:solidFill>
                <a:srgbClr val="ffffcc"/>
              </a:solidFill>
              <a:latin typeface="Tahoma"/>
            </a:endParaRPr>
          </a:p>
        </p:txBody>
      </p:sp>
      <p:sp>
        <p:nvSpPr>
          <p:cNvPr id="407"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proximal</a:t>
            </a:r>
            <a:r>
              <a:rPr b="0" lang="es-ES" sz="1800" spc="-1" strike="noStrike">
                <a:solidFill>
                  <a:srgbClr val="ffffff"/>
                </a:solidFill>
                <a:latin typeface="Tahoma"/>
              </a:rPr>
              <a:t>. Esta facies está representada por los sedimentos más gruesos y pobremente clasificados y angulosos del sistema. Los sedimentos consisten principalmente de conglomerados con una textura soportada por la matriz, originados por flujos de detritos, y depósitos de tamiz; sobre los canales pueden depositarse conglomerados con una textura soportada por los clastos. Dentro de esta facies están incluidos los depósitos de deslizamiento que se desarrollan asociados a los escarpes de los altos morfológicos.</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media</a:t>
            </a:r>
            <a:r>
              <a:rPr b="0" lang="es-ES" sz="1800" spc="-1" strike="noStrike">
                <a:solidFill>
                  <a:srgbClr val="ffffff"/>
                </a:solidFill>
                <a:latin typeface="Tahoma"/>
              </a:rPr>
              <a:t>. Está caracterizada por sedimentos originados en la parte media del sistema, tanto por flujos de corriente como por flujos de detritos. Los sedimentos que predominan en esta facies son depósitos lateralmente continuos de arena y grava, los cuales pueden llegar a presentar estratificación cruzada plana y cóncava. Los conglomerados dentro de esta facies presentan una imbricación de clastos bien desarrollada, con la inclinación hacia la parte proximal.</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distante</a:t>
            </a:r>
            <a:r>
              <a:rPr b="0" lang="es-ES" sz="1800" spc="-1" strike="noStrike">
                <a:solidFill>
                  <a:srgbClr val="ffffff"/>
                </a:solidFill>
                <a:latin typeface="Tahoma"/>
              </a:rPr>
              <a:t>. Los depósitos dentro de esta facies presentan una continuidad lateral mucho más marcada que en la facies anterior, y son mucho más finos. Predominan capas de arena y limo con estratificación horizontal y estratificación cruzada recta de bajo ángulo, así como algunos conglomerados mejor clasificados que en las dos facies anteriore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1692360" y="44280"/>
            <a:ext cx="6191280" cy="5699160"/>
          </a:xfrm>
          <a:prstGeom prst="rect">
            <a:avLst/>
          </a:prstGeom>
          <a:ln w="0">
            <a:noFill/>
          </a:ln>
        </p:spPr>
      </p:pic>
      <p:sp>
        <p:nvSpPr>
          <p:cNvPr id="409" name=""/>
          <p:cNvSpPr/>
          <p:nvPr/>
        </p:nvSpPr>
        <p:spPr>
          <a:xfrm>
            <a:off x="1836720" y="5734080"/>
            <a:ext cx="6048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Variación granulométrica general de los sedimentos a lo largo de una sección longitudinal dentro de un abanico aluvial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Tipologí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alta eficacia de transporte</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baja eficacia de transpor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Bibiografí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1"/>
              </a:rPr>
              <a:t>http://platea.pntic.mec.es/~cmarti3/INSTAL/TOLSA/dibujo0.gif</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2"/>
              </a:rPr>
              <a:t>http://earthobservatory.nasa.gov/Newsroom/NewImages/Images/aster_artII_alluvial.jpg</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3"/>
              </a:rPr>
              <a:t>http://www.damien-hs.edu/babbitt/Chapter4/candianrockies.ht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ran Colombo in Sedimentología, Nuevas Tendencias, p. 143 – 21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draza, Javier. 1996. Geomorfología: Principios, Métodos y Aplicaciones, p. 238 – 240.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Introducción</a:t>
            </a:r>
            <a:endParaRPr b="0" lang="en-US" sz="4000" spc="-1" strike="noStrike">
              <a:solidFill>
                <a:srgbClr val="ffffcc"/>
              </a:solidFill>
              <a:latin typeface="Tahoma"/>
            </a:endParaRPr>
          </a:p>
        </p:txBody>
      </p:sp>
      <p:sp>
        <p:nvSpPr>
          <p:cNvPr id="387" name="PlaceHolder 2"/>
          <p:cNvSpPr>
            <a:spLocks noGrp="1"/>
          </p:cNvSpPr>
          <p:nvPr>
            <p:ph/>
          </p:nvPr>
        </p:nvSpPr>
        <p:spPr>
          <a:xfrm>
            <a:off x="301680" y="1196640"/>
            <a:ext cx="8540640" cy="475308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os abanicos aluviales corresponden a unos cuerpos sedimentarios de acumulación de materiales con una dimensiones generales que varían desde métricas a hectométricas y kilométricas que se hallan caracterizados por tener una morfología conoidal muy característica.</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caracterizan por hallarse localizados en zonas donde existe una ruptura de pendiente importante durante su periodo sedimentario.</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Un abanico aluvial corresponde entonces a un reajuste producto de la variación de las condiciones de equilibrio, relacionándose entonces en muchos casos a controles tectónico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a intensidad, dirección, sentido y energía de los procesos que originan estos depósitos condicionan sus característica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u formación se relaciona generalmente a condiciones climáticas áridas o semiáridas, sin embargo una cobertura vegetal no es impedimento para la formación de estos depósitos, en el peor de los casos permanecería estable.</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Interés creciente por los depósitos de abanicos aluviales ligado a intereses económicos:</a:t>
            </a:r>
            <a:endParaRPr b="0" lang="en-US" sz="18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epósitos hidráulicos de minerales pesados</a:t>
            </a:r>
            <a:endParaRPr b="0" lang="en-US" sz="16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posibles almacenes de hidrocarburos (condiciones de permeabilidad-impermeabilidad)</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rfología</a:t>
            </a:r>
            <a:endParaRPr b="0" lang="en-US" sz="4000" spc="-1" strike="noStrike">
              <a:solidFill>
                <a:srgbClr val="ffffcc"/>
              </a:solidFill>
              <a:latin typeface="Tahoma"/>
            </a:endParaRPr>
          </a:p>
        </p:txBody>
      </p:sp>
      <p:sp>
        <p:nvSpPr>
          <p:cNvPr id="389" name="PlaceHolder 2"/>
          <p:cNvSpPr>
            <a:spLocks noGrp="1"/>
          </p:cNvSpPr>
          <p:nvPr>
            <p:ph/>
          </p:nvPr>
        </p:nvSpPr>
        <p:spPr>
          <a:xfrm>
            <a:off x="250560" y="1195200"/>
            <a:ext cx="4249800" cy="5113080"/>
          </a:xfrm>
          <a:prstGeom prst="rect">
            <a:avLst/>
          </a:prstGeom>
          <a:noFill/>
          <a:ln w="0">
            <a:noFill/>
          </a:ln>
        </p:spPr>
        <p:txBody>
          <a:bodyPr lIns="90000" rIns="90000" tIns="46800" bIns="46800" anchor="t">
            <a:normAutofit fontScale="98000"/>
          </a:bodyPr>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La forma general de un abanico aluvial individual es muy parecida a la de un cono con el vértice en el ápice.</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iversos factores controlan la geometría y dimensiones de los abanicos (reflejando sus condiciones de equilibrio): litología, tipo de superficie, pendientes principales cobertura vegetal, gradiente del canal principal suministrador de detritus, el tipo y calidad de las descargas acuosas, el régimen climático, movimientos tectónicos y la forma de la cuenca.</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Restablecer las condiciones de equilibrio.</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Si se produce una elevación rápida por efectos tectónicos del frente montañoso en contacto con la cabecera del abanico, esto puede ocasionar  la segmentación del abanico.</a:t>
            </a:r>
            <a:endParaRPr b="0" lang="en-US" sz="1600" spc="-1" strike="noStrike">
              <a:solidFill>
                <a:srgbClr val="ffffff"/>
              </a:solidFill>
              <a:latin typeface="Tahoma"/>
            </a:endParaRPr>
          </a:p>
        </p:txBody>
      </p:sp>
      <p:pic>
        <p:nvPicPr>
          <p:cNvPr id="390" name="" descr=""/>
          <p:cNvPicPr/>
          <p:nvPr/>
        </p:nvPicPr>
        <p:blipFill>
          <a:blip r:embed="rId1"/>
          <a:stretch/>
        </p:blipFill>
        <p:spPr>
          <a:xfrm>
            <a:off x="4648320" y="2141640"/>
            <a:ext cx="4194000" cy="341604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764640"/>
            <a:ext cx="854064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principio a mayor superficie del área fuente se corresponde también una gran superficie del abanico aluvial relacionad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uentes lutiticas producen abanicos casi el doble que aquellos en que predominan las arenisca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área ocupada por un abanico es directamente proporcional a la de cuenca de drenaje, dependiendo del clima y de la litologí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pendiente general varia entre 5° y 10° en la zona de la cabecera hasta 1°-2°, aunque puede variar.</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ateriales gruesos producen abanicos mas inclinados y de menor tamañ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mbios importantes producen un decrecimiento de la pendiente (ejemplo: incremento de la descarga procedente del área fuente).</a:t>
            </a:r>
            <a:endParaRPr b="0" lang="en-US" sz="20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retroceso por erosión del frente montañoso que ha condicionado la existencia de los abanicos aluviales, puede realizarse de manera tal que de lugar a la formación de un </a:t>
            </a:r>
            <a:r>
              <a:rPr b="0" i="1" lang="es-MX" sz="2800" spc="-1" strike="noStrike">
                <a:solidFill>
                  <a:srgbClr val="ffffff"/>
                </a:solidFill>
                <a:latin typeface="Tahoma"/>
              </a:rPr>
              <a:t>pediment</a:t>
            </a:r>
            <a:r>
              <a:rPr b="0" lang="es-MX" sz="2800" spc="-1" strike="noStrike">
                <a:solidFill>
                  <a:srgbClr val="ffffff"/>
                </a:solidFill>
                <a:latin typeface="Tahoma"/>
              </a:rPr>
              <a:t> (penillanura inclinada) que a su vez puede quedar recubierta por materiales aluviales en forma de abanicos aislados o abanicos anastomosados formando una “bajad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304920" y="260280"/>
            <a:ext cx="8534160" cy="5967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755640" y="115920"/>
            <a:ext cx="7632720" cy="5724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11280" y="4680"/>
            <a:ext cx="7921440" cy="623268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1666800" y="520560"/>
            <a:ext cx="5810400" cy="581040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Ortúzar Lathrop</cp:lastModifiedBy>
  <dcterms:modified xsi:type="dcterms:W3CDTF">2004-10-08T12:48:36Z</dcterms:modified>
  <cp:revision>35</cp:revision>
  <dc:subject/>
  <dc:title>PowerPoint Presentation</dc:title>
</cp:coreProperties>
</file>