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29A-7957-444F-9BA7-3285349C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4AF-E3FB-4EF8-BF5F-170750AE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98F-A21B-4B24-9000-3B49B701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A20-713F-421D-A75B-56F4A720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F78-FE90-43AD-8C7D-B925C6F5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A61-832F-4FAD-B072-ECB41A60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423-A99D-41C3-AD8D-1919945A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597-545C-4335-B37A-EF073733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C31-4BB7-46D9-AE4C-5A2661A0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B31-12D5-4C60-8AA2-0D09920D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BFC-2634-4488-8F74-079C1DDE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9F3-0FA3-4AAD-9944-80E3C020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2AE2-E035-4CBF-8149-E142A1367E8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8000"/>
          </a:blip>
          <a:srcRect l="0" t="0" r="2356" b="0"/>
          <a:stretch/>
        </p:blipFill>
        <p:spPr>
          <a:xfrm>
            <a:off x="1447920" y="1095480"/>
            <a:ext cx="632448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 MAS ARENO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407" r="953" b="0"/>
          <a:stretch/>
        </p:blipFill>
        <p:spPr>
          <a:xfrm>
            <a:off x="533520" y="1219320"/>
            <a:ext cx="792468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901800"/>
            <a:ext cx="63244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483" b="0"/>
          <a:stretch/>
        </p:blipFill>
        <p:spPr>
          <a:xfrm>
            <a:off x="685800" y="1523880"/>
            <a:ext cx="777240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1352" r="0" b="4057"/>
          <a:stretch/>
        </p:blipFill>
        <p:spPr>
          <a:xfrm>
            <a:off x="1752480" y="609480"/>
            <a:ext cx="5083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3345" r="0" b="0"/>
          <a:stretch/>
        </p:blipFill>
        <p:spPr>
          <a:xfrm>
            <a:off x="457200" y="1620720"/>
            <a:ext cx="8381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81400" y="914400"/>
            <a:ext cx="4168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2702" b="1556"/>
          <a:stretch/>
        </p:blipFill>
        <p:spPr>
          <a:xfrm>
            <a:off x="1752480" y="990720"/>
            <a:ext cx="57913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 Cong. De Ranquil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62000" y="1111320"/>
            <a:ext cx="1140120" cy="958680"/>
          </a:xfrm>
          <a:custGeom>
            <a:avLst/>
            <a:gdLst/>
            <a:ahLst/>
            <a:rect l="l" t="t" r="r" b="b"/>
            <a:pathLst>
              <a:path w="718" h="604">
                <a:moveTo>
                  <a:pt x="4" y="44"/>
                </a:moveTo>
                <a:cubicBezTo>
                  <a:pt x="6" y="104"/>
                  <a:pt x="0" y="321"/>
                  <a:pt x="36" y="404"/>
                </a:cubicBezTo>
                <a:cubicBezTo>
                  <a:pt x="50" y="438"/>
                  <a:pt x="83" y="451"/>
                  <a:pt x="108" y="476"/>
                </a:cubicBezTo>
                <a:cubicBezTo>
                  <a:pt x="136" y="504"/>
                  <a:pt x="137" y="513"/>
                  <a:pt x="180" y="524"/>
                </a:cubicBezTo>
                <a:cubicBezTo>
                  <a:pt x="244" y="566"/>
                  <a:pt x="386" y="580"/>
                  <a:pt x="468" y="604"/>
                </a:cubicBezTo>
                <a:cubicBezTo>
                  <a:pt x="502" y="601"/>
                  <a:pt x="538" y="604"/>
                  <a:pt x="572" y="596"/>
                </a:cubicBezTo>
                <a:cubicBezTo>
                  <a:pt x="590" y="591"/>
                  <a:pt x="604" y="574"/>
                  <a:pt x="620" y="564"/>
                </a:cubicBezTo>
                <a:cubicBezTo>
                  <a:pt x="628" y="558"/>
                  <a:pt x="644" y="548"/>
                  <a:pt x="644" y="548"/>
                </a:cubicBezTo>
                <a:cubicBezTo>
                  <a:pt x="664" y="487"/>
                  <a:pt x="636" y="562"/>
                  <a:pt x="668" y="500"/>
                </a:cubicBezTo>
                <a:cubicBezTo>
                  <a:pt x="677" y="480"/>
                  <a:pt x="678" y="456"/>
                  <a:pt x="684" y="436"/>
                </a:cubicBezTo>
                <a:cubicBezTo>
                  <a:pt x="693" y="401"/>
                  <a:pt x="704" y="365"/>
                  <a:pt x="716" y="332"/>
                </a:cubicBezTo>
                <a:cubicBezTo>
                  <a:pt x="714" y="311"/>
                  <a:pt x="718" y="195"/>
                  <a:pt x="692" y="156"/>
                </a:cubicBezTo>
                <a:cubicBezTo>
                  <a:pt x="677" y="134"/>
                  <a:pt x="673" y="124"/>
                  <a:pt x="652" y="108"/>
                </a:cubicBezTo>
                <a:cubicBezTo>
                  <a:pt x="636" y="96"/>
                  <a:pt x="604" y="76"/>
                  <a:pt x="604" y="76"/>
                </a:cubicBezTo>
                <a:cubicBezTo>
                  <a:pt x="553" y="0"/>
                  <a:pt x="383" y="27"/>
                  <a:pt x="300" y="20"/>
                </a:cubicBezTo>
                <a:cubicBezTo>
                  <a:pt x="194" y="25"/>
                  <a:pt x="106" y="34"/>
                  <a:pt x="4" y="44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640" y="2895480"/>
            <a:ext cx="2854440" cy="1206720"/>
          </a:xfrm>
          <a:custGeom>
            <a:avLst/>
            <a:gdLst/>
            <a:ahLst/>
            <a:rect l="l" t="t" r="r" b="b"/>
            <a:pathLst>
              <a:path w="1798" h="760">
                <a:moveTo>
                  <a:pt x="88" y="424"/>
                </a:moveTo>
                <a:cubicBezTo>
                  <a:pt x="29" y="523"/>
                  <a:pt x="0" y="632"/>
                  <a:pt x="24" y="688"/>
                </a:cubicBezTo>
                <a:cubicBezTo>
                  <a:pt x="60" y="739"/>
                  <a:pt x="169" y="722"/>
                  <a:pt x="232" y="760"/>
                </a:cubicBezTo>
                <a:cubicBezTo>
                  <a:pt x="431" y="749"/>
                  <a:pt x="956" y="683"/>
                  <a:pt x="1216" y="640"/>
                </a:cubicBezTo>
                <a:cubicBezTo>
                  <a:pt x="1460" y="596"/>
                  <a:pt x="1610" y="563"/>
                  <a:pt x="1696" y="496"/>
                </a:cubicBezTo>
                <a:cubicBezTo>
                  <a:pt x="1691" y="465"/>
                  <a:pt x="1798" y="294"/>
                  <a:pt x="1732" y="236"/>
                </a:cubicBezTo>
                <a:cubicBezTo>
                  <a:pt x="1694" y="202"/>
                  <a:pt x="1684" y="187"/>
                  <a:pt x="1631" y="163"/>
                </a:cubicBezTo>
                <a:cubicBezTo>
                  <a:pt x="1590" y="145"/>
                  <a:pt x="1509" y="115"/>
                  <a:pt x="1509" y="115"/>
                </a:cubicBezTo>
                <a:cubicBezTo>
                  <a:pt x="1379" y="0"/>
                  <a:pt x="948" y="41"/>
                  <a:pt x="737" y="30"/>
                </a:cubicBezTo>
                <a:cubicBezTo>
                  <a:pt x="535" y="32"/>
                  <a:pt x="484" y="30"/>
                  <a:pt x="376" y="96"/>
                </a:cubicBezTo>
                <a:cubicBezTo>
                  <a:pt x="268" y="162"/>
                  <a:pt x="147" y="325"/>
                  <a:pt x="88" y="424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94080" y="4745160"/>
            <a:ext cx="3908520" cy="1133280"/>
          </a:xfrm>
          <a:custGeom>
            <a:avLst/>
            <a:gdLst/>
            <a:ahLst/>
            <a:rect l="l" t="t" r="r" b="b"/>
            <a:pathLst>
              <a:path w="2462" h="714">
                <a:moveTo>
                  <a:pt x="119" y="363"/>
                </a:moveTo>
                <a:cubicBezTo>
                  <a:pt x="0" y="473"/>
                  <a:pt x="31" y="571"/>
                  <a:pt x="55" y="627"/>
                </a:cubicBezTo>
                <a:cubicBezTo>
                  <a:pt x="91" y="678"/>
                  <a:pt x="200" y="661"/>
                  <a:pt x="263" y="699"/>
                </a:cubicBezTo>
                <a:cubicBezTo>
                  <a:pt x="462" y="688"/>
                  <a:pt x="919" y="632"/>
                  <a:pt x="1255" y="627"/>
                </a:cubicBezTo>
                <a:cubicBezTo>
                  <a:pt x="1591" y="622"/>
                  <a:pt x="2096" y="714"/>
                  <a:pt x="2279" y="667"/>
                </a:cubicBezTo>
                <a:cubicBezTo>
                  <a:pt x="2462" y="620"/>
                  <a:pt x="2352" y="414"/>
                  <a:pt x="2351" y="347"/>
                </a:cubicBezTo>
                <a:cubicBezTo>
                  <a:pt x="2350" y="280"/>
                  <a:pt x="2366" y="299"/>
                  <a:pt x="2271" y="267"/>
                </a:cubicBezTo>
                <a:cubicBezTo>
                  <a:pt x="2176" y="235"/>
                  <a:pt x="1911" y="180"/>
                  <a:pt x="1783" y="155"/>
                </a:cubicBezTo>
                <a:cubicBezTo>
                  <a:pt x="1638" y="160"/>
                  <a:pt x="1672" y="146"/>
                  <a:pt x="1503" y="115"/>
                </a:cubicBezTo>
                <a:cubicBezTo>
                  <a:pt x="1373" y="0"/>
                  <a:pt x="954" y="102"/>
                  <a:pt x="743" y="91"/>
                </a:cubicBezTo>
                <a:cubicBezTo>
                  <a:pt x="512" y="132"/>
                  <a:pt x="249" y="306"/>
                  <a:pt x="119" y="363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 Arcillas de Chill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3880" y="2527200"/>
            <a:ext cx="3792600" cy="1168560"/>
          </a:xfrm>
          <a:custGeom>
            <a:avLst/>
            <a:gdLst/>
            <a:ahLst/>
            <a:rect l="l" t="t" r="r" b="b"/>
            <a:pathLst>
              <a:path w="2389" h="736">
                <a:moveTo>
                  <a:pt x="53" y="400"/>
                </a:moveTo>
                <a:cubicBezTo>
                  <a:pt x="0" y="478"/>
                  <a:pt x="24" y="569"/>
                  <a:pt x="77" y="640"/>
                </a:cubicBezTo>
                <a:cubicBezTo>
                  <a:pt x="91" y="684"/>
                  <a:pt x="128" y="721"/>
                  <a:pt x="173" y="736"/>
                </a:cubicBezTo>
                <a:cubicBezTo>
                  <a:pt x="250" y="733"/>
                  <a:pt x="327" y="732"/>
                  <a:pt x="405" y="728"/>
                </a:cubicBezTo>
                <a:cubicBezTo>
                  <a:pt x="441" y="725"/>
                  <a:pt x="473" y="699"/>
                  <a:pt x="509" y="696"/>
                </a:cubicBezTo>
                <a:cubicBezTo>
                  <a:pt x="655" y="682"/>
                  <a:pt x="567" y="689"/>
                  <a:pt x="773" y="680"/>
                </a:cubicBezTo>
                <a:cubicBezTo>
                  <a:pt x="855" y="659"/>
                  <a:pt x="815" y="667"/>
                  <a:pt x="893" y="656"/>
                </a:cubicBezTo>
                <a:cubicBezTo>
                  <a:pt x="940" y="636"/>
                  <a:pt x="987" y="635"/>
                  <a:pt x="1037" y="624"/>
                </a:cubicBezTo>
                <a:cubicBezTo>
                  <a:pt x="1200" y="587"/>
                  <a:pt x="1133" y="592"/>
                  <a:pt x="1389" y="584"/>
                </a:cubicBezTo>
                <a:cubicBezTo>
                  <a:pt x="1410" y="578"/>
                  <a:pt x="1431" y="572"/>
                  <a:pt x="1453" y="568"/>
                </a:cubicBezTo>
                <a:cubicBezTo>
                  <a:pt x="1471" y="564"/>
                  <a:pt x="1490" y="564"/>
                  <a:pt x="1509" y="560"/>
                </a:cubicBezTo>
                <a:cubicBezTo>
                  <a:pt x="1606" y="537"/>
                  <a:pt x="1694" y="488"/>
                  <a:pt x="1797" y="488"/>
                </a:cubicBezTo>
                <a:cubicBezTo>
                  <a:pt x="2002" y="476"/>
                  <a:pt x="2102" y="488"/>
                  <a:pt x="2293" y="480"/>
                </a:cubicBezTo>
                <a:cubicBezTo>
                  <a:pt x="2348" y="461"/>
                  <a:pt x="2371" y="413"/>
                  <a:pt x="2389" y="360"/>
                </a:cubicBezTo>
                <a:cubicBezTo>
                  <a:pt x="2383" y="310"/>
                  <a:pt x="2377" y="277"/>
                  <a:pt x="2365" y="232"/>
                </a:cubicBezTo>
                <a:cubicBezTo>
                  <a:pt x="2362" y="223"/>
                  <a:pt x="2363" y="212"/>
                  <a:pt x="2357" y="208"/>
                </a:cubicBezTo>
                <a:cubicBezTo>
                  <a:pt x="2335" y="192"/>
                  <a:pt x="2306" y="190"/>
                  <a:pt x="2285" y="176"/>
                </a:cubicBezTo>
                <a:cubicBezTo>
                  <a:pt x="2221" y="80"/>
                  <a:pt x="2152" y="74"/>
                  <a:pt x="2045" y="48"/>
                </a:cubicBezTo>
                <a:cubicBezTo>
                  <a:pt x="1950" y="24"/>
                  <a:pt x="1863" y="8"/>
                  <a:pt x="1765" y="0"/>
                </a:cubicBezTo>
                <a:cubicBezTo>
                  <a:pt x="1587" y="11"/>
                  <a:pt x="1412" y="32"/>
                  <a:pt x="1245" y="88"/>
                </a:cubicBezTo>
                <a:cubicBezTo>
                  <a:pt x="1220" y="106"/>
                  <a:pt x="1132" y="171"/>
                  <a:pt x="1109" y="176"/>
                </a:cubicBezTo>
                <a:cubicBezTo>
                  <a:pt x="869" y="223"/>
                  <a:pt x="645" y="211"/>
                  <a:pt x="397" y="216"/>
                </a:cubicBezTo>
                <a:cubicBezTo>
                  <a:pt x="329" y="232"/>
                  <a:pt x="263" y="249"/>
                  <a:pt x="197" y="272"/>
                </a:cubicBezTo>
                <a:cubicBezTo>
                  <a:pt x="154" y="286"/>
                  <a:pt x="180" y="275"/>
                  <a:pt x="125" y="312"/>
                </a:cubicBezTo>
                <a:cubicBezTo>
                  <a:pt x="117" y="317"/>
                  <a:pt x="101" y="328"/>
                  <a:pt x="101" y="328"/>
                </a:cubicBezTo>
                <a:cubicBezTo>
                  <a:pt x="85" y="352"/>
                  <a:pt x="62" y="372"/>
                  <a:pt x="53" y="400"/>
                </a:cubicBezTo>
                <a:cubicBezTo>
                  <a:pt x="50" y="408"/>
                  <a:pt x="45" y="424"/>
                  <a:pt x="45" y="424"/>
                </a:cubicBezTo>
                <a:cubicBezTo>
                  <a:pt x="45" y="424"/>
                  <a:pt x="50" y="408"/>
                  <a:pt x="53" y="40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. Cong. De Par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440" y="1117440"/>
            <a:ext cx="7584840" cy="5272200"/>
          </a:xfrm>
          <a:custGeom>
            <a:avLst/>
            <a:gdLst/>
            <a:ahLst/>
            <a:rect l="l" t="t" r="r" b="b"/>
            <a:pathLst>
              <a:path w="4778" h="3321">
                <a:moveTo>
                  <a:pt x="66" y="1352"/>
                </a:moveTo>
                <a:cubicBezTo>
                  <a:pt x="158" y="1345"/>
                  <a:pt x="221" y="1335"/>
                  <a:pt x="306" y="1312"/>
                </a:cubicBezTo>
                <a:cubicBezTo>
                  <a:pt x="327" y="1306"/>
                  <a:pt x="350" y="1305"/>
                  <a:pt x="370" y="1296"/>
                </a:cubicBezTo>
                <a:cubicBezTo>
                  <a:pt x="400" y="1280"/>
                  <a:pt x="418" y="1258"/>
                  <a:pt x="450" y="1248"/>
                </a:cubicBezTo>
                <a:cubicBezTo>
                  <a:pt x="455" y="1240"/>
                  <a:pt x="459" y="1230"/>
                  <a:pt x="466" y="1224"/>
                </a:cubicBezTo>
                <a:cubicBezTo>
                  <a:pt x="472" y="1217"/>
                  <a:pt x="483" y="1215"/>
                  <a:pt x="490" y="1208"/>
                </a:cubicBezTo>
                <a:cubicBezTo>
                  <a:pt x="502" y="1193"/>
                  <a:pt x="506" y="1170"/>
                  <a:pt x="522" y="1160"/>
                </a:cubicBezTo>
                <a:cubicBezTo>
                  <a:pt x="590" y="1114"/>
                  <a:pt x="674" y="1095"/>
                  <a:pt x="754" y="1080"/>
                </a:cubicBezTo>
                <a:cubicBezTo>
                  <a:pt x="795" y="1049"/>
                  <a:pt x="844" y="1041"/>
                  <a:pt x="890" y="1016"/>
                </a:cubicBezTo>
                <a:cubicBezTo>
                  <a:pt x="906" y="1006"/>
                  <a:pt x="919" y="990"/>
                  <a:pt x="938" y="984"/>
                </a:cubicBezTo>
                <a:cubicBezTo>
                  <a:pt x="1015" y="958"/>
                  <a:pt x="895" y="999"/>
                  <a:pt x="994" y="960"/>
                </a:cubicBezTo>
                <a:cubicBezTo>
                  <a:pt x="1009" y="953"/>
                  <a:pt x="1042" y="944"/>
                  <a:pt x="1042" y="944"/>
                </a:cubicBezTo>
                <a:cubicBezTo>
                  <a:pt x="1077" y="908"/>
                  <a:pt x="1108" y="899"/>
                  <a:pt x="1146" y="872"/>
                </a:cubicBezTo>
                <a:cubicBezTo>
                  <a:pt x="1213" y="822"/>
                  <a:pt x="1282" y="778"/>
                  <a:pt x="1362" y="752"/>
                </a:cubicBezTo>
                <a:cubicBezTo>
                  <a:pt x="1402" y="721"/>
                  <a:pt x="1454" y="699"/>
                  <a:pt x="1490" y="664"/>
                </a:cubicBezTo>
                <a:cubicBezTo>
                  <a:pt x="1498" y="656"/>
                  <a:pt x="1505" y="646"/>
                  <a:pt x="1514" y="640"/>
                </a:cubicBezTo>
                <a:cubicBezTo>
                  <a:pt x="1529" y="628"/>
                  <a:pt x="1562" y="608"/>
                  <a:pt x="1562" y="608"/>
                </a:cubicBezTo>
                <a:cubicBezTo>
                  <a:pt x="1582" y="577"/>
                  <a:pt x="1609" y="564"/>
                  <a:pt x="1634" y="536"/>
                </a:cubicBezTo>
                <a:cubicBezTo>
                  <a:pt x="1640" y="528"/>
                  <a:pt x="1643" y="518"/>
                  <a:pt x="1650" y="512"/>
                </a:cubicBezTo>
                <a:cubicBezTo>
                  <a:pt x="1656" y="505"/>
                  <a:pt x="1666" y="501"/>
                  <a:pt x="1674" y="496"/>
                </a:cubicBezTo>
                <a:cubicBezTo>
                  <a:pt x="1684" y="488"/>
                  <a:pt x="1696" y="481"/>
                  <a:pt x="1706" y="472"/>
                </a:cubicBezTo>
                <a:cubicBezTo>
                  <a:pt x="1712" y="465"/>
                  <a:pt x="1714" y="454"/>
                  <a:pt x="1722" y="448"/>
                </a:cubicBezTo>
                <a:cubicBezTo>
                  <a:pt x="1735" y="436"/>
                  <a:pt x="1755" y="433"/>
                  <a:pt x="1770" y="424"/>
                </a:cubicBezTo>
                <a:cubicBezTo>
                  <a:pt x="1828" y="335"/>
                  <a:pt x="1919" y="266"/>
                  <a:pt x="1994" y="192"/>
                </a:cubicBezTo>
                <a:cubicBezTo>
                  <a:pt x="2038" y="147"/>
                  <a:pt x="2008" y="174"/>
                  <a:pt x="2090" y="120"/>
                </a:cubicBezTo>
                <a:cubicBezTo>
                  <a:pt x="2098" y="114"/>
                  <a:pt x="2114" y="104"/>
                  <a:pt x="2114" y="104"/>
                </a:cubicBezTo>
                <a:cubicBezTo>
                  <a:pt x="2124" y="88"/>
                  <a:pt x="2135" y="72"/>
                  <a:pt x="2146" y="56"/>
                </a:cubicBezTo>
                <a:cubicBezTo>
                  <a:pt x="2151" y="48"/>
                  <a:pt x="2152" y="35"/>
                  <a:pt x="2162" y="32"/>
                </a:cubicBezTo>
                <a:cubicBezTo>
                  <a:pt x="2217" y="13"/>
                  <a:pt x="2271" y="6"/>
                  <a:pt x="2330" y="0"/>
                </a:cubicBezTo>
                <a:cubicBezTo>
                  <a:pt x="2387" y="7"/>
                  <a:pt x="2432" y="19"/>
                  <a:pt x="2490" y="32"/>
                </a:cubicBezTo>
                <a:cubicBezTo>
                  <a:pt x="2516" y="23"/>
                  <a:pt x="2505" y="24"/>
                  <a:pt x="2522" y="24"/>
                </a:cubicBezTo>
                <a:lnTo>
                  <a:pt x="4778" y="16"/>
                </a:lnTo>
                <a:lnTo>
                  <a:pt x="4778" y="688"/>
                </a:lnTo>
                <a:cubicBezTo>
                  <a:pt x="4618" y="741"/>
                  <a:pt x="4746" y="704"/>
                  <a:pt x="4378" y="696"/>
                </a:cubicBezTo>
                <a:cubicBezTo>
                  <a:pt x="4338" y="686"/>
                  <a:pt x="4297" y="668"/>
                  <a:pt x="4258" y="664"/>
                </a:cubicBezTo>
                <a:cubicBezTo>
                  <a:pt x="4199" y="656"/>
                  <a:pt x="4082" y="648"/>
                  <a:pt x="4082" y="648"/>
                </a:cubicBezTo>
                <a:cubicBezTo>
                  <a:pt x="4038" y="639"/>
                  <a:pt x="3996" y="626"/>
                  <a:pt x="3954" y="616"/>
                </a:cubicBezTo>
                <a:cubicBezTo>
                  <a:pt x="3786" y="620"/>
                  <a:pt x="3647" y="620"/>
                  <a:pt x="3490" y="656"/>
                </a:cubicBezTo>
                <a:cubicBezTo>
                  <a:pt x="3427" y="669"/>
                  <a:pt x="3370" y="695"/>
                  <a:pt x="3314" y="720"/>
                </a:cubicBezTo>
                <a:cubicBezTo>
                  <a:pt x="3244" y="749"/>
                  <a:pt x="3165" y="758"/>
                  <a:pt x="3098" y="792"/>
                </a:cubicBezTo>
                <a:cubicBezTo>
                  <a:pt x="3032" y="824"/>
                  <a:pt x="2967" y="848"/>
                  <a:pt x="2898" y="872"/>
                </a:cubicBezTo>
                <a:cubicBezTo>
                  <a:pt x="2862" y="898"/>
                  <a:pt x="2812" y="921"/>
                  <a:pt x="2770" y="936"/>
                </a:cubicBezTo>
                <a:cubicBezTo>
                  <a:pt x="2731" y="974"/>
                  <a:pt x="2688" y="1009"/>
                  <a:pt x="2650" y="1048"/>
                </a:cubicBezTo>
                <a:cubicBezTo>
                  <a:pt x="2633" y="1064"/>
                  <a:pt x="2619" y="1086"/>
                  <a:pt x="2602" y="1104"/>
                </a:cubicBezTo>
                <a:lnTo>
                  <a:pt x="3098" y="1216"/>
                </a:lnTo>
                <a:lnTo>
                  <a:pt x="3530" y="1216"/>
                </a:lnTo>
                <a:cubicBezTo>
                  <a:pt x="3690" y="1376"/>
                  <a:pt x="3848" y="1537"/>
                  <a:pt x="4010" y="1696"/>
                </a:cubicBezTo>
                <a:cubicBezTo>
                  <a:pt x="4074" y="1759"/>
                  <a:pt x="3979" y="1630"/>
                  <a:pt x="4066" y="1760"/>
                </a:cubicBezTo>
                <a:cubicBezTo>
                  <a:pt x="4071" y="1768"/>
                  <a:pt x="4072" y="1780"/>
                  <a:pt x="4082" y="1784"/>
                </a:cubicBezTo>
                <a:cubicBezTo>
                  <a:pt x="4133" y="1801"/>
                  <a:pt x="4182" y="1830"/>
                  <a:pt x="4234" y="1848"/>
                </a:cubicBezTo>
                <a:cubicBezTo>
                  <a:pt x="4295" y="1868"/>
                  <a:pt x="4363" y="1869"/>
                  <a:pt x="4426" y="1888"/>
                </a:cubicBezTo>
                <a:cubicBezTo>
                  <a:pt x="4529" y="1919"/>
                  <a:pt x="4626" y="1944"/>
                  <a:pt x="4738" y="1944"/>
                </a:cubicBezTo>
                <a:lnTo>
                  <a:pt x="4730" y="2464"/>
                </a:lnTo>
                <a:cubicBezTo>
                  <a:pt x="4732" y="2472"/>
                  <a:pt x="4746" y="2485"/>
                  <a:pt x="4738" y="2488"/>
                </a:cubicBezTo>
                <a:cubicBezTo>
                  <a:pt x="4714" y="2493"/>
                  <a:pt x="4689" y="2482"/>
                  <a:pt x="4666" y="2480"/>
                </a:cubicBezTo>
                <a:cubicBezTo>
                  <a:pt x="4523" y="2463"/>
                  <a:pt x="4661" y="2474"/>
                  <a:pt x="4402" y="2464"/>
                </a:cubicBezTo>
                <a:cubicBezTo>
                  <a:pt x="4222" y="2444"/>
                  <a:pt x="4038" y="2432"/>
                  <a:pt x="3858" y="2424"/>
                </a:cubicBezTo>
                <a:cubicBezTo>
                  <a:pt x="3803" y="2414"/>
                  <a:pt x="3754" y="2400"/>
                  <a:pt x="3698" y="2400"/>
                </a:cubicBezTo>
                <a:cubicBezTo>
                  <a:pt x="3690" y="2405"/>
                  <a:pt x="3675" y="2406"/>
                  <a:pt x="3674" y="2416"/>
                </a:cubicBezTo>
                <a:cubicBezTo>
                  <a:pt x="3672" y="2425"/>
                  <a:pt x="3687" y="2430"/>
                  <a:pt x="3690" y="2440"/>
                </a:cubicBezTo>
                <a:cubicBezTo>
                  <a:pt x="3696" y="2466"/>
                  <a:pt x="3693" y="2493"/>
                  <a:pt x="3698" y="2520"/>
                </a:cubicBezTo>
                <a:cubicBezTo>
                  <a:pt x="3714" y="2606"/>
                  <a:pt x="3750" y="2657"/>
                  <a:pt x="3762" y="2776"/>
                </a:cubicBezTo>
                <a:lnTo>
                  <a:pt x="3770" y="3232"/>
                </a:lnTo>
                <a:cubicBezTo>
                  <a:pt x="3760" y="3234"/>
                  <a:pt x="3792" y="3238"/>
                  <a:pt x="3794" y="3248"/>
                </a:cubicBezTo>
                <a:cubicBezTo>
                  <a:pt x="3797" y="3263"/>
                  <a:pt x="3761" y="3282"/>
                  <a:pt x="3754" y="3288"/>
                </a:cubicBezTo>
                <a:cubicBezTo>
                  <a:pt x="3658" y="3301"/>
                  <a:pt x="3303" y="3321"/>
                  <a:pt x="3202" y="3312"/>
                </a:cubicBezTo>
                <a:cubicBezTo>
                  <a:pt x="3181" y="3280"/>
                  <a:pt x="3146" y="3273"/>
                  <a:pt x="3146" y="3232"/>
                </a:cubicBezTo>
                <a:cubicBezTo>
                  <a:pt x="3133" y="3193"/>
                  <a:pt x="3120" y="3160"/>
                  <a:pt x="3114" y="3120"/>
                </a:cubicBezTo>
                <a:cubicBezTo>
                  <a:pt x="3108" y="3088"/>
                  <a:pt x="3112" y="3053"/>
                  <a:pt x="3098" y="3024"/>
                </a:cubicBezTo>
                <a:cubicBezTo>
                  <a:pt x="3077" y="2982"/>
                  <a:pt x="3084" y="3003"/>
                  <a:pt x="3074" y="2960"/>
                </a:cubicBezTo>
                <a:cubicBezTo>
                  <a:pt x="3068" y="2834"/>
                  <a:pt x="3064" y="2698"/>
                  <a:pt x="3034" y="2576"/>
                </a:cubicBezTo>
                <a:cubicBezTo>
                  <a:pt x="3014" y="2499"/>
                  <a:pt x="3004" y="2418"/>
                  <a:pt x="2946" y="2360"/>
                </a:cubicBezTo>
                <a:cubicBezTo>
                  <a:pt x="2926" y="2340"/>
                  <a:pt x="2896" y="2334"/>
                  <a:pt x="2874" y="2320"/>
                </a:cubicBezTo>
                <a:cubicBezTo>
                  <a:pt x="2846" y="2279"/>
                  <a:pt x="2802" y="2266"/>
                  <a:pt x="2762" y="2240"/>
                </a:cubicBezTo>
                <a:cubicBezTo>
                  <a:pt x="2730" y="2219"/>
                  <a:pt x="2710" y="2199"/>
                  <a:pt x="2682" y="2176"/>
                </a:cubicBezTo>
                <a:cubicBezTo>
                  <a:pt x="2586" y="2099"/>
                  <a:pt x="2670" y="2180"/>
                  <a:pt x="2610" y="2120"/>
                </a:cubicBezTo>
                <a:cubicBezTo>
                  <a:pt x="2590" y="2062"/>
                  <a:pt x="2617" y="2131"/>
                  <a:pt x="2578" y="2072"/>
                </a:cubicBezTo>
                <a:cubicBezTo>
                  <a:pt x="2551" y="2032"/>
                  <a:pt x="2541" y="1977"/>
                  <a:pt x="2490" y="1960"/>
                </a:cubicBezTo>
                <a:cubicBezTo>
                  <a:pt x="2482" y="1949"/>
                  <a:pt x="2472" y="1939"/>
                  <a:pt x="2466" y="1928"/>
                </a:cubicBezTo>
                <a:cubicBezTo>
                  <a:pt x="2461" y="1920"/>
                  <a:pt x="2462" y="1911"/>
                  <a:pt x="2458" y="1904"/>
                </a:cubicBezTo>
                <a:cubicBezTo>
                  <a:pt x="2436" y="1867"/>
                  <a:pt x="2375" y="1800"/>
                  <a:pt x="2338" y="1776"/>
                </a:cubicBezTo>
                <a:cubicBezTo>
                  <a:pt x="2254" y="1720"/>
                  <a:pt x="2383" y="1804"/>
                  <a:pt x="2282" y="1744"/>
                </a:cubicBezTo>
                <a:cubicBezTo>
                  <a:pt x="2265" y="1734"/>
                  <a:pt x="2234" y="1712"/>
                  <a:pt x="2234" y="1712"/>
                </a:cubicBezTo>
                <a:cubicBezTo>
                  <a:pt x="2210" y="1677"/>
                  <a:pt x="2174" y="1668"/>
                  <a:pt x="2146" y="1640"/>
                </a:cubicBezTo>
                <a:cubicBezTo>
                  <a:pt x="2121" y="1615"/>
                  <a:pt x="2066" y="1546"/>
                  <a:pt x="2026" y="1536"/>
                </a:cubicBezTo>
                <a:cubicBezTo>
                  <a:pt x="1889" y="1501"/>
                  <a:pt x="1759" y="1463"/>
                  <a:pt x="1618" y="1448"/>
                </a:cubicBezTo>
                <a:cubicBezTo>
                  <a:pt x="1538" y="1421"/>
                  <a:pt x="1451" y="1434"/>
                  <a:pt x="1370" y="1440"/>
                </a:cubicBezTo>
                <a:cubicBezTo>
                  <a:pt x="1328" y="1453"/>
                  <a:pt x="1292" y="1480"/>
                  <a:pt x="1250" y="1496"/>
                </a:cubicBezTo>
                <a:cubicBezTo>
                  <a:pt x="1205" y="1512"/>
                  <a:pt x="1159" y="1522"/>
                  <a:pt x="1114" y="1536"/>
                </a:cubicBezTo>
                <a:cubicBezTo>
                  <a:pt x="1031" y="1560"/>
                  <a:pt x="950" y="1594"/>
                  <a:pt x="866" y="1616"/>
                </a:cubicBezTo>
                <a:cubicBezTo>
                  <a:pt x="836" y="1623"/>
                  <a:pt x="807" y="1633"/>
                  <a:pt x="778" y="1640"/>
                </a:cubicBezTo>
                <a:cubicBezTo>
                  <a:pt x="742" y="1647"/>
                  <a:pt x="690" y="1647"/>
                  <a:pt x="658" y="1664"/>
                </a:cubicBezTo>
                <a:cubicBezTo>
                  <a:pt x="601" y="1692"/>
                  <a:pt x="543" y="1709"/>
                  <a:pt x="482" y="1720"/>
                </a:cubicBezTo>
                <a:cubicBezTo>
                  <a:pt x="340" y="1717"/>
                  <a:pt x="185" y="1773"/>
                  <a:pt x="58" y="1712"/>
                </a:cubicBezTo>
                <a:cubicBezTo>
                  <a:pt x="0" y="1684"/>
                  <a:pt x="61" y="1583"/>
                  <a:pt x="66" y="1520"/>
                </a:cubicBezTo>
                <a:cubicBezTo>
                  <a:pt x="71" y="1445"/>
                  <a:pt x="81" y="1443"/>
                  <a:pt x="66" y="1352"/>
                </a:cubicBezTo>
                <a:close/>
              </a:path>
            </a:pathLst>
          </a:custGeom>
          <a:solidFill>
            <a:srgbClr val="00ff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. Areniscas de Frutil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600" y="1143000"/>
            <a:ext cx="8097840" cy="5264280"/>
          </a:xfrm>
          <a:custGeom>
            <a:avLst/>
            <a:gdLst/>
            <a:ahLst/>
            <a:rect l="l" t="t" r="r" b="b"/>
            <a:pathLst>
              <a:path w="5101" h="3316">
                <a:moveTo>
                  <a:pt x="187" y="1240"/>
                </a:moveTo>
                <a:cubicBezTo>
                  <a:pt x="480" y="1217"/>
                  <a:pt x="0" y="1252"/>
                  <a:pt x="547" y="1224"/>
                </a:cubicBezTo>
                <a:cubicBezTo>
                  <a:pt x="616" y="1220"/>
                  <a:pt x="687" y="1187"/>
                  <a:pt x="755" y="1184"/>
                </a:cubicBezTo>
                <a:cubicBezTo>
                  <a:pt x="858" y="1179"/>
                  <a:pt x="963" y="1178"/>
                  <a:pt x="1067" y="1176"/>
                </a:cubicBezTo>
                <a:cubicBezTo>
                  <a:pt x="1077" y="1175"/>
                  <a:pt x="1207" y="1166"/>
                  <a:pt x="1235" y="1160"/>
                </a:cubicBezTo>
                <a:cubicBezTo>
                  <a:pt x="1310" y="1141"/>
                  <a:pt x="1380" y="1101"/>
                  <a:pt x="1459" y="1088"/>
                </a:cubicBezTo>
                <a:cubicBezTo>
                  <a:pt x="1472" y="1080"/>
                  <a:pt x="1484" y="1070"/>
                  <a:pt x="1499" y="1064"/>
                </a:cubicBezTo>
                <a:cubicBezTo>
                  <a:pt x="1514" y="1057"/>
                  <a:pt x="1547" y="1048"/>
                  <a:pt x="1547" y="1048"/>
                </a:cubicBezTo>
                <a:cubicBezTo>
                  <a:pt x="1571" y="1023"/>
                  <a:pt x="1597" y="995"/>
                  <a:pt x="1619" y="968"/>
                </a:cubicBezTo>
                <a:cubicBezTo>
                  <a:pt x="1668" y="927"/>
                  <a:pt x="1723" y="960"/>
                  <a:pt x="1843" y="800"/>
                </a:cubicBezTo>
                <a:cubicBezTo>
                  <a:pt x="1931" y="667"/>
                  <a:pt x="1828" y="141"/>
                  <a:pt x="2339" y="8"/>
                </a:cubicBezTo>
                <a:lnTo>
                  <a:pt x="4907" y="0"/>
                </a:lnTo>
                <a:cubicBezTo>
                  <a:pt x="4858" y="772"/>
                  <a:pt x="5101" y="794"/>
                  <a:pt x="4635" y="776"/>
                </a:cubicBezTo>
                <a:cubicBezTo>
                  <a:pt x="4554" y="759"/>
                  <a:pt x="4476" y="731"/>
                  <a:pt x="4395" y="720"/>
                </a:cubicBezTo>
                <a:cubicBezTo>
                  <a:pt x="4332" y="699"/>
                  <a:pt x="4265" y="692"/>
                  <a:pt x="4203" y="672"/>
                </a:cubicBezTo>
                <a:cubicBezTo>
                  <a:pt x="4172" y="661"/>
                  <a:pt x="4128" y="654"/>
                  <a:pt x="4099" y="640"/>
                </a:cubicBezTo>
                <a:cubicBezTo>
                  <a:pt x="4062" y="621"/>
                  <a:pt x="4020" y="603"/>
                  <a:pt x="3979" y="600"/>
                </a:cubicBezTo>
                <a:cubicBezTo>
                  <a:pt x="3931" y="595"/>
                  <a:pt x="3883" y="594"/>
                  <a:pt x="3835" y="592"/>
                </a:cubicBezTo>
                <a:cubicBezTo>
                  <a:pt x="3795" y="594"/>
                  <a:pt x="3754" y="595"/>
                  <a:pt x="3715" y="600"/>
                </a:cubicBezTo>
                <a:cubicBezTo>
                  <a:pt x="3682" y="603"/>
                  <a:pt x="3657" y="623"/>
                  <a:pt x="3627" y="632"/>
                </a:cubicBezTo>
                <a:cubicBezTo>
                  <a:pt x="3544" y="655"/>
                  <a:pt x="3461" y="675"/>
                  <a:pt x="3379" y="696"/>
                </a:cubicBezTo>
                <a:cubicBezTo>
                  <a:pt x="3350" y="715"/>
                  <a:pt x="3320" y="713"/>
                  <a:pt x="3291" y="728"/>
                </a:cubicBezTo>
                <a:cubicBezTo>
                  <a:pt x="3252" y="747"/>
                  <a:pt x="3233" y="787"/>
                  <a:pt x="3195" y="800"/>
                </a:cubicBezTo>
                <a:cubicBezTo>
                  <a:pt x="3189" y="808"/>
                  <a:pt x="3185" y="817"/>
                  <a:pt x="3179" y="824"/>
                </a:cubicBezTo>
                <a:cubicBezTo>
                  <a:pt x="3172" y="830"/>
                  <a:pt x="3161" y="832"/>
                  <a:pt x="3155" y="840"/>
                </a:cubicBezTo>
                <a:cubicBezTo>
                  <a:pt x="3149" y="846"/>
                  <a:pt x="3151" y="856"/>
                  <a:pt x="3147" y="864"/>
                </a:cubicBezTo>
                <a:cubicBezTo>
                  <a:pt x="3137" y="880"/>
                  <a:pt x="3121" y="893"/>
                  <a:pt x="3115" y="912"/>
                </a:cubicBezTo>
                <a:cubicBezTo>
                  <a:pt x="3109" y="928"/>
                  <a:pt x="3099" y="960"/>
                  <a:pt x="3099" y="960"/>
                </a:cubicBezTo>
                <a:cubicBezTo>
                  <a:pt x="3106" y="1026"/>
                  <a:pt x="3100" y="1116"/>
                  <a:pt x="3171" y="1152"/>
                </a:cubicBezTo>
                <a:cubicBezTo>
                  <a:pt x="3187" y="1160"/>
                  <a:pt x="3219" y="1164"/>
                  <a:pt x="3235" y="1168"/>
                </a:cubicBezTo>
                <a:cubicBezTo>
                  <a:pt x="3309" y="1159"/>
                  <a:pt x="3325" y="1155"/>
                  <a:pt x="3387" y="1128"/>
                </a:cubicBezTo>
                <a:cubicBezTo>
                  <a:pt x="3402" y="1121"/>
                  <a:pt x="3419" y="1117"/>
                  <a:pt x="3435" y="1112"/>
                </a:cubicBezTo>
                <a:cubicBezTo>
                  <a:pt x="3443" y="1109"/>
                  <a:pt x="3459" y="1104"/>
                  <a:pt x="3459" y="1104"/>
                </a:cubicBezTo>
                <a:cubicBezTo>
                  <a:pt x="3630" y="1110"/>
                  <a:pt x="3621" y="1102"/>
                  <a:pt x="3739" y="1136"/>
                </a:cubicBezTo>
                <a:cubicBezTo>
                  <a:pt x="3747" y="1141"/>
                  <a:pt x="3754" y="1147"/>
                  <a:pt x="3763" y="1152"/>
                </a:cubicBezTo>
                <a:cubicBezTo>
                  <a:pt x="3770" y="1155"/>
                  <a:pt x="3779" y="1155"/>
                  <a:pt x="3787" y="1160"/>
                </a:cubicBezTo>
                <a:cubicBezTo>
                  <a:pt x="3803" y="1169"/>
                  <a:pt x="3835" y="1192"/>
                  <a:pt x="3835" y="1192"/>
                </a:cubicBezTo>
                <a:cubicBezTo>
                  <a:pt x="3846" y="1227"/>
                  <a:pt x="3872" y="1261"/>
                  <a:pt x="3899" y="1288"/>
                </a:cubicBezTo>
                <a:cubicBezTo>
                  <a:pt x="3932" y="1321"/>
                  <a:pt x="3928" y="1298"/>
                  <a:pt x="3947" y="1336"/>
                </a:cubicBezTo>
                <a:cubicBezTo>
                  <a:pt x="3965" y="1372"/>
                  <a:pt x="3963" y="1418"/>
                  <a:pt x="3979" y="1456"/>
                </a:cubicBezTo>
                <a:cubicBezTo>
                  <a:pt x="4004" y="1518"/>
                  <a:pt x="4041" y="1588"/>
                  <a:pt x="4083" y="1640"/>
                </a:cubicBezTo>
                <a:cubicBezTo>
                  <a:pt x="4104" y="1705"/>
                  <a:pt x="4067" y="1604"/>
                  <a:pt x="4139" y="1712"/>
                </a:cubicBezTo>
                <a:cubicBezTo>
                  <a:pt x="4144" y="1720"/>
                  <a:pt x="4147" y="1730"/>
                  <a:pt x="4155" y="1736"/>
                </a:cubicBezTo>
                <a:cubicBezTo>
                  <a:pt x="4174" y="1748"/>
                  <a:pt x="4229" y="1755"/>
                  <a:pt x="4251" y="1760"/>
                </a:cubicBezTo>
                <a:cubicBezTo>
                  <a:pt x="4283" y="1773"/>
                  <a:pt x="4331" y="1782"/>
                  <a:pt x="4363" y="1800"/>
                </a:cubicBezTo>
                <a:cubicBezTo>
                  <a:pt x="4423" y="1833"/>
                  <a:pt x="4454" y="1889"/>
                  <a:pt x="4523" y="1912"/>
                </a:cubicBezTo>
                <a:cubicBezTo>
                  <a:pt x="4598" y="1937"/>
                  <a:pt x="4683" y="1942"/>
                  <a:pt x="4763" y="1952"/>
                </a:cubicBezTo>
                <a:cubicBezTo>
                  <a:pt x="4775" y="1971"/>
                  <a:pt x="4787" y="2024"/>
                  <a:pt x="4795" y="2032"/>
                </a:cubicBezTo>
                <a:cubicBezTo>
                  <a:pt x="4801" y="2038"/>
                  <a:pt x="4851" y="2048"/>
                  <a:pt x="4867" y="2064"/>
                </a:cubicBezTo>
                <a:cubicBezTo>
                  <a:pt x="4875" y="2472"/>
                  <a:pt x="4967" y="2443"/>
                  <a:pt x="4715" y="2480"/>
                </a:cubicBezTo>
                <a:cubicBezTo>
                  <a:pt x="4630" y="2508"/>
                  <a:pt x="4536" y="2492"/>
                  <a:pt x="4451" y="2488"/>
                </a:cubicBezTo>
                <a:cubicBezTo>
                  <a:pt x="4392" y="2490"/>
                  <a:pt x="4333" y="2489"/>
                  <a:pt x="4275" y="2496"/>
                </a:cubicBezTo>
                <a:cubicBezTo>
                  <a:pt x="4230" y="2501"/>
                  <a:pt x="4253" y="2514"/>
                  <a:pt x="4227" y="2536"/>
                </a:cubicBezTo>
                <a:cubicBezTo>
                  <a:pt x="4210" y="2549"/>
                  <a:pt x="4188" y="2555"/>
                  <a:pt x="4171" y="2568"/>
                </a:cubicBezTo>
                <a:cubicBezTo>
                  <a:pt x="4136" y="2592"/>
                  <a:pt x="4090" y="2620"/>
                  <a:pt x="4067" y="2656"/>
                </a:cubicBezTo>
                <a:cubicBezTo>
                  <a:pt x="4056" y="2672"/>
                  <a:pt x="4035" y="2704"/>
                  <a:pt x="4035" y="2704"/>
                </a:cubicBezTo>
                <a:cubicBezTo>
                  <a:pt x="4025" y="2817"/>
                  <a:pt x="4017" y="2897"/>
                  <a:pt x="4027" y="3016"/>
                </a:cubicBezTo>
                <a:cubicBezTo>
                  <a:pt x="4028" y="3032"/>
                  <a:pt x="4031" y="3048"/>
                  <a:pt x="4035" y="3064"/>
                </a:cubicBezTo>
                <a:cubicBezTo>
                  <a:pt x="4039" y="3080"/>
                  <a:pt x="4051" y="3112"/>
                  <a:pt x="4051" y="3112"/>
                </a:cubicBezTo>
                <a:cubicBezTo>
                  <a:pt x="4049" y="3147"/>
                  <a:pt x="4062" y="3270"/>
                  <a:pt x="3987" y="3296"/>
                </a:cubicBezTo>
                <a:cubicBezTo>
                  <a:pt x="3792" y="3289"/>
                  <a:pt x="3620" y="3316"/>
                  <a:pt x="3427" y="3304"/>
                </a:cubicBezTo>
                <a:cubicBezTo>
                  <a:pt x="3383" y="3289"/>
                  <a:pt x="3376" y="3251"/>
                  <a:pt x="3355" y="3216"/>
                </a:cubicBezTo>
                <a:cubicBezTo>
                  <a:pt x="3339" y="3189"/>
                  <a:pt x="3315" y="3168"/>
                  <a:pt x="3315" y="3136"/>
                </a:cubicBezTo>
                <a:cubicBezTo>
                  <a:pt x="3317" y="3104"/>
                  <a:pt x="3318" y="3071"/>
                  <a:pt x="3323" y="3040"/>
                </a:cubicBezTo>
                <a:cubicBezTo>
                  <a:pt x="3326" y="3018"/>
                  <a:pt x="3339" y="2976"/>
                  <a:pt x="3339" y="2976"/>
                </a:cubicBezTo>
                <a:cubicBezTo>
                  <a:pt x="3336" y="2906"/>
                  <a:pt x="3337" y="2837"/>
                  <a:pt x="3331" y="2768"/>
                </a:cubicBezTo>
                <a:cubicBezTo>
                  <a:pt x="3328" y="2745"/>
                  <a:pt x="3313" y="2725"/>
                  <a:pt x="3307" y="2704"/>
                </a:cubicBezTo>
                <a:cubicBezTo>
                  <a:pt x="3284" y="2630"/>
                  <a:pt x="3264" y="2554"/>
                  <a:pt x="3227" y="2488"/>
                </a:cubicBezTo>
                <a:cubicBezTo>
                  <a:pt x="3220" y="2477"/>
                  <a:pt x="3167" y="2400"/>
                  <a:pt x="3155" y="2392"/>
                </a:cubicBezTo>
                <a:cubicBezTo>
                  <a:pt x="3140" y="2383"/>
                  <a:pt x="3121" y="2385"/>
                  <a:pt x="3107" y="2376"/>
                </a:cubicBezTo>
                <a:cubicBezTo>
                  <a:pt x="3091" y="2365"/>
                  <a:pt x="3059" y="2344"/>
                  <a:pt x="3059" y="2344"/>
                </a:cubicBezTo>
                <a:cubicBezTo>
                  <a:pt x="3035" y="2309"/>
                  <a:pt x="2999" y="2300"/>
                  <a:pt x="2971" y="2272"/>
                </a:cubicBezTo>
                <a:cubicBezTo>
                  <a:pt x="2955" y="2256"/>
                  <a:pt x="2939" y="2240"/>
                  <a:pt x="2923" y="2224"/>
                </a:cubicBezTo>
                <a:cubicBezTo>
                  <a:pt x="2891" y="2192"/>
                  <a:pt x="2859" y="2168"/>
                  <a:pt x="2827" y="2136"/>
                </a:cubicBezTo>
                <a:cubicBezTo>
                  <a:pt x="2819" y="2128"/>
                  <a:pt x="2813" y="2115"/>
                  <a:pt x="2803" y="2112"/>
                </a:cubicBezTo>
                <a:cubicBezTo>
                  <a:pt x="2766" y="2099"/>
                  <a:pt x="2741" y="2067"/>
                  <a:pt x="2707" y="2056"/>
                </a:cubicBezTo>
                <a:cubicBezTo>
                  <a:pt x="2669" y="2043"/>
                  <a:pt x="2638" y="2017"/>
                  <a:pt x="2603" y="2000"/>
                </a:cubicBezTo>
                <a:cubicBezTo>
                  <a:pt x="2580" y="1988"/>
                  <a:pt x="2553" y="1980"/>
                  <a:pt x="2531" y="1968"/>
                </a:cubicBezTo>
                <a:cubicBezTo>
                  <a:pt x="2425" y="1906"/>
                  <a:pt x="2494" y="1931"/>
                  <a:pt x="2435" y="1912"/>
                </a:cubicBezTo>
                <a:cubicBezTo>
                  <a:pt x="2392" y="1869"/>
                  <a:pt x="2344" y="1832"/>
                  <a:pt x="2283" y="1832"/>
                </a:cubicBezTo>
                <a:cubicBezTo>
                  <a:pt x="2158" y="1761"/>
                  <a:pt x="2031" y="1695"/>
                  <a:pt x="1907" y="1624"/>
                </a:cubicBezTo>
                <a:cubicBezTo>
                  <a:pt x="1831" y="1580"/>
                  <a:pt x="1752" y="1517"/>
                  <a:pt x="1667" y="1496"/>
                </a:cubicBezTo>
                <a:cubicBezTo>
                  <a:pt x="1587" y="1504"/>
                  <a:pt x="1512" y="1524"/>
                  <a:pt x="1435" y="1544"/>
                </a:cubicBezTo>
                <a:cubicBezTo>
                  <a:pt x="1350" y="1600"/>
                  <a:pt x="1288" y="1595"/>
                  <a:pt x="1195" y="1624"/>
                </a:cubicBezTo>
                <a:cubicBezTo>
                  <a:pt x="1140" y="1640"/>
                  <a:pt x="1089" y="1677"/>
                  <a:pt x="1035" y="1688"/>
                </a:cubicBezTo>
                <a:cubicBezTo>
                  <a:pt x="961" y="1702"/>
                  <a:pt x="885" y="1717"/>
                  <a:pt x="811" y="1728"/>
                </a:cubicBezTo>
                <a:cubicBezTo>
                  <a:pt x="663" y="1777"/>
                  <a:pt x="472" y="1749"/>
                  <a:pt x="339" y="1752"/>
                </a:cubicBezTo>
                <a:cubicBezTo>
                  <a:pt x="173" y="1743"/>
                  <a:pt x="232" y="1744"/>
                  <a:pt x="163" y="1744"/>
                </a:cubicBezTo>
                <a:lnTo>
                  <a:pt x="187" y="1240"/>
                </a:lnTo>
                <a:close/>
              </a:path>
            </a:pathLst>
          </a:custGeom>
          <a:solidFill>
            <a:srgbClr val="99cc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enas y arcillas de Chercanes y de Bor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143000"/>
            <a:ext cx="7532640" cy="5275440"/>
          </a:xfrm>
          <a:custGeom>
            <a:avLst/>
            <a:gdLst/>
            <a:ahLst/>
            <a:rect l="l" t="t" r="r" b="b"/>
            <a:pathLst>
              <a:path w="4745" h="3323">
                <a:moveTo>
                  <a:pt x="4745" y="1342"/>
                </a:moveTo>
                <a:cubicBezTo>
                  <a:pt x="4721" y="1339"/>
                  <a:pt x="4697" y="1338"/>
                  <a:pt x="4674" y="1333"/>
                </a:cubicBezTo>
                <a:cubicBezTo>
                  <a:pt x="4634" y="1323"/>
                  <a:pt x="4531" y="1250"/>
                  <a:pt x="4496" y="1218"/>
                </a:cubicBezTo>
                <a:cubicBezTo>
                  <a:pt x="4477" y="1201"/>
                  <a:pt x="4464" y="1177"/>
                  <a:pt x="4443" y="1164"/>
                </a:cubicBezTo>
                <a:cubicBezTo>
                  <a:pt x="4380" y="1123"/>
                  <a:pt x="4315" y="1075"/>
                  <a:pt x="4274" y="1013"/>
                </a:cubicBezTo>
                <a:cubicBezTo>
                  <a:pt x="4253" y="932"/>
                  <a:pt x="4209" y="855"/>
                  <a:pt x="4140" y="809"/>
                </a:cubicBezTo>
                <a:cubicBezTo>
                  <a:pt x="4095" y="739"/>
                  <a:pt x="4064" y="728"/>
                  <a:pt x="3998" y="684"/>
                </a:cubicBezTo>
                <a:cubicBezTo>
                  <a:pt x="3976" y="670"/>
                  <a:pt x="3958" y="651"/>
                  <a:pt x="3936" y="640"/>
                </a:cubicBezTo>
                <a:cubicBezTo>
                  <a:pt x="3805" y="574"/>
                  <a:pt x="3625" y="583"/>
                  <a:pt x="3492" y="578"/>
                </a:cubicBezTo>
                <a:cubicBezTo>
                  <a:pt x="3420" y="560"/>
                  <a:pt x="3349" y="541"/>
                  <a:pt x="3278" y="524"/>
                </a:cubicBezTo>
                <a:cubicBezTo>
                  <a:pt x="3251" y="506"/>
                  <a:pt x="3218" y="489"/>
                  <a:pt x="3189" y="480"/>
                </a:cubicBezTo>
                <a:cubicBezTo>
                  <a:pt x="3165" y="472"/>
                  <a:pt x="3118" y="462"/>
                  <a:pt x="3118" y="462"/>
                </a:cubicBezTo>
                <a:cubicBezTo>
                  <a:pt x="3081" y="436"/>
                  <a:pt x="3105" y="449"/>
                  <a:pt x="3065" y="436"/>
                </a:cubicBezTo>
                <a:cubicBezTo>
                  <a:pt x="3047" y="430"/>
                  <a:pt x="3012" y="418"/>
                  <a:pt x="3012" y="418"/>
                </a:cubicBezTo>
                <a:cubicBezTo>
                  <a:pt x="2926" y="421"/>
                  <a:pt x="2839" y="421"/>
                  <a:pt x="2754" y="427"/>
                </a:cubicBezTo>
                <a:cubicBezTo>
                  <a:pt x="2648" y="433"/>
                  <a:pt x="2548" y="489"/>
                  <a:pt x="2443" y="498"/>
                </a:cubicBezTo>
                <a:cubicBezTo>
                  <a:pt x="2389" y="502"/>
                  <a:pt x="2336" y="503"/>
                  <a:pt x="2283" y="507"/>
                </a:cubicBezTo>
                <a:cubicBezTo>
                  <a:pt x="2250" y="509"/>
                  <a:pt x="2217" y="513"/>
                  <a:pt x="2185" y="516"/>
                </a:cubicBezTo>
                <a:cubicBezTo>
                  <a:pt x="2095" y="535"/>
                  <a:pt x="2007" y="555"/>
                  <a:pt x="1918" y="578"/>
                </a:cubicBezTo>
                <a:cubicBezTo>
                  <a:pt x="1857" y="618"/>
                  <a:pt x="1885" y="606"/>
                  <a:pt x="1838" y="622"/>
                </a:cubicBezTo>
                <a:cubicBezTo>
                  <a:pt x="1747" y="684"/>
                  <a:pt x="1624" y="700"/>
                  <a:pt x="1518" y="711"/>
                </a:cubicBezTo>
                <a:cubicBezTo>
                  <a:pt x="1450" y="708"/>
                  <a:pt x="1381" y="709"/>
                  <a:pt x="1314" y="702"/>
                </a:cubicBezTo>
                <a:cubicBezTo>
                  <a:pt x="1297" y="700"/>
                  <a:pt x="1227" y="650"/>
                  <a:pt x="1225" y="649"/>
                </a:cubicBezTo>
                <a:cubicBezTo>
                  <a:pt x="1215" y="643"/>
                  <a:pt x="1198" y="631"/>
                  <a:pt x="1198" y="631"/>
                </a:cubicBezTo>
                <a:cubicBezTo>
                  <a:pt x="1170" y="590"/>
                  <a:pt x="1126" y="555"/>
                  <a:pt x="1083" y="533"/>
                </a:cubicBezTo>
                <a:cubicBezTo>
                  <a:pt x="1041" y="479"/>
                  <a:pt x="968" y="394"/>
                  <a:pt x="905" y="373"/>
                </a:cubicBezTo>
                <a:cubicBezTo>
                  <a:pt x="885" y="354"/>
                  <a:pt x="862" y="339"/>
                  <a:pt x="843" y="320"/>
                </a:cubicBezTo>
                <a:cubicBezTo>
                  <a:pt x="809" y="285"/>
                  <a:pt x="794" y="241"/>
                  <a:pt x="754" y="213"/>
                </a:cubicBezTo>
                <a:cubicBezTo>
                  <a:pt x="740" y="173"/>
                  <a:pt x="704" y="145"/>
                  <a:pt x="692" y="107"/>
                </a:cubicBezTo>
                <a:cubicBezTo>
                  <a:pt x="682" y="79"/>
                  <a:pt x="667" y="38"/>
                  <a:pt x="647" y="18"/>
                </a:cubicBezTo>
                <a:lnTo>
                  <a:pt x="48" y="0"/>
                </a:lnTo>
                <a:lnTo>
                  <a:pt x="48" y="1200"/>
                </a:lnTo>
                <a:lnTo>
                  <a:pt x="0" y="3312"/>
                </a:lnTo>
                <a:cubicBezTo>
                  <a:pt x="586" y="3295"/>
                  <a:pt x="1163" y="3323"/>
                  <a:pt x="1749" y="3298"/>
                </a:cubicBezTo>
                <a:cubicBezTo>
                  <a:pt x="1759" y="3297"/>
                  <a:pt x="1768" y="3243"/>
                  <a:pt x="1776" y="3236"/>
                </a:cubicBezTo>
                <a:cubicBezTo>
                  <a:pt x="1795" y="3216"/>
                  <a:pt x="1840" y="3200"/>
                  <a:pt x="1865" y="3191"/>
                </a:cubicBezTo>
                <a:cubicBezTo>
                  <a:pt x="1921" y="3169"/>
                  <a:pt x="1992" y="3163"/>
                  <a:pt x="2052" y="3156"/>
                </a:cubicBezTo>
                <a:cubicBezTo>
                  <a:pt x="2116" y="3139"/>
                  <a:pt x="2169" y="3126"/>
                  <a:pt x="2238" y="3120"/>
                </a:cubicBezTo>
                <a:cubicBezTo>
                  <a:pt x="2324" y="3098"/>
                  <a:pt x="2407" y="3083"/>
                  <a:pt x="2496" y="3076"/>
                </a:cubicBezTo>
                <a:cubicBezTo>
                  <a:pt x="2594" y="3042"/>
                  <a:pt x="2694" y="3030"/>
                  <a:pt x="2798" y="3022"/>
                </a:cubicBezTo>
                <a:cubicBezTo>
                  <a:pt x="2881" y="2994"/>
                  <a:pt x="2984" y="2998"/>
                  <a:pt x="3029" y="2907"/>
                </a:cubicBezTo>
                <a:cubicBezTo>
                  <a:pt x="3042" y="2879"/>
                  <a:pt x="3046" y="2846"/>
                  <a:pt x="3056" y="2818"/>
                </a:cubicBezTo>
                <a:cubicBezTo>
                  <a:pt x="3047" y="2750"/>
                  <a:pt x="3038" y="2648"/>
                  <a:pt x="2985" y="2596"/>
                </a:cubicBezTo>
                <a:cubicBezTo>
                  <a:pt x="2933" y="2545"/>
                  <a:pt x="2981" y="2614"/>
                  <a:pt x="2932" y="2551"/>
                </a:cubicBezTo>
                <a:cubicBezTo>
                  <a:pt x="2874" y="2502"/>
                  <a:pt x="2728" y="2376"/>
                  <a:pt x="2638" y="2302"/>
                </a:cubicBezTo>
                <a:cubicBezTo>
                  <a:pt x="2548" y="2238"/>
                  <a:pt x="2466" y="2185"/>
                  <a:pt x="2389" y="2107"/>
                </a:cubicBezTo>
                <a:cubicBezTo>
                  <a:pt x="2355" y="2073"/>
                  <a:pt x="2346" y="2064"/>
                  <a:pt x="2309" y="2044"/>
                </a:cubicBezTo>
                <a:cubicBezTo>
                  <a:pt x="2290" y="2033"/>
                  <a:pt x="2256" y="2009"/>
                  <a:pt x="2256" y="2009"/>
                </a:cubicBezTo>
                <a:cubicBezTo>
                  <a:pt x="2225" y="1963"/>
                  <a:pt x="2196" y="1961"/>
                  <a:pt x="2149" y="1929"/>
                </a:cubicBezTo>
                <a:cubicBezTo>
                  <a:pt x="2037" y="1852"/>
                  <a:pt x="2157" y="1909"/>
                  <a:pt x="2034" y="1858"/>
                </a:cubicBezTo>
                <a:cubicBezTo>
                  <a:pt x="1987" y="1817"/>
                  <a:pt x="1941" y="1786"/>
                  <a:pt x="1892" y="1751"/>
                </a:cubicBezTo>
                <a:cubicBezTo>
                  <a:pt x="1871" y="1735"/>
                  <a:pt x="1850" y="1721"/>
                  <a:pt x="1829" y="1707"/>
                </a:cubicBezTo>
                <a:cubicBezTo>
                  <a:pt x="1820" y="1700"/>
                  <a:pt x="1803" y="1689"/>
                  <a:pt x="1803" y="1689"/>
                </a:cubicBezTo>
                <a:cubicBezTo>
                  <a:pt x="1771" y="1642"/>
                  <a:pt x="1705" y="1609"/>
                  <a:pt x="1652" y="1591"/>
                </a:cubicBezTo>
                <a:cubicBezTo>
                  <a:pt x="1638" y="1552"/>
                  <a:pt x="1619" y="1521"/>
                  <a:pt x="1607" y="1484"/>
                </a:cubicBezTo>
                <a:cubicBezTo>
                  <a:pt x="1610" y="1442"/>
                  <a:pt x="1601" y="1394"/>
                  <a:pt x="1625" y="1360"/>
                </a:cubicBezTo>
                <a:cubicBezTo>
                  <a:pt x="1662" y="1306"/>
                  <a:pt x="1653" y="1339"/>
                  <a:pt x="1696" y="1298"/>
                </a:cubicBezTo>
                <a:cubicBezTo>
                  <a:pt x="1706" y="1287"/>
                  <a:pt x="1711" y="1271"/>
                  <a:pt x="1723" y="1262"/>
                </a:cubicBezTo>
                <a:cubicBezTo>
                  <a:pt x="1764" y="1224"/>
                  <a:pt x="1849" y="1180"/>
                  <a:pt x="1900" y="1156"/>
                </a:cubicBezTo>
                <a:cubicBezTo>
                  <a:pt x="1912" y="1144"/>
                  <a:pt x="1922" y="1129"/>
                  <a:pt x="1936" y="1120"/>
                </a:cubicBezTo>
                <a:cubicBezTo>
                  <a:pt x="1943" y="1114"/>
                  <a:pt x="1955" y="1116"/>
                  <a:pt x="1963" y="1111"/>
                </a:cubicBezTo>
                <a:cubicBezTo>
                  <a:pt x="2002" y="1083"/>
                  <a:pt x="2029" y="1047"/>
                  <a:pt x="2078" y="1031"/>
                </a:cubicBezTo>
                <a:cubicBezTo>
                  <a:pt x="2110" y="998"/>
                  <a:pt x="2149" y="965"/>
                  <a:pt x="2194" y="951"/>
                </a:cubicBezTo>
                <a:cubicBezTo>
                  <a:pt x="2267" y="902"/>
                  <a:pt x="2346" y="885"/>
                  <a:pt x="2434" y="871"/>
                </a:cubicBezTo>
                <a:cubicBezTo>
                  <a:pt x="2572" y="886"/>
                  <a:pt x="2690" y="901"/>
                  <a:pt x="2834" y="907"/>
                </a:cubicBezTo>
                <a:cubicBezTo>
                  <a:pt x="2864" y="926"/>
                  <a:pt x="2879" y="952"/>
                  <a:pt x="2905" y="978"/>
                </a:cubicBezTo>
                <a:cubicBezTo>
                  <a:pt x="2926" y="1041"/>
                  <a:pt x="2895" y="962"/>
                  <a:pt x="2940" y="1031"/>
                </a:cubicBezTo>
                <a:cubicBezTo>
                  <a:pt x="2963" y="1066"/>
                  <a:pt x="2952" y="1074"/>
                  <a:pt x="2994" y="1102"/>
                </a:cubicBezTo>
                <a:cubicBezTo>
                  <a:pt x="3009" y="1133"/>
                  <a:pt x="3018" y="1162"/>
                  <a:pt x="3038" y="1191"/>
                </a:cubicBezTo>
                <a:cubicBezTo>
                  <a:pt x="3050" y="1241"/>
                  <a:pt x="3063" y="1269"/>
                  <a:pt x="3100" y="1307"/>
                </a:cubicBezTo>
                <a:cubicBezTo>
                  <a:pt x="3122" y="1370"/>
                  <a:pt x="3165" y="1384"/>
                  <a:pt x="3216" y="1413"/>
                </a:cubicBezTo>
                <a:cubicBezTo>
                  <a:pt x="3234" y="1423"/>
                  <a:pt x="3248" y="1442"/>
                  <a:pt x="3269" y="1449"/>
                </a:cubicBezTo>
                <a:cubicBezTo>
                  <a:pt x="3372" y="1483"/>
                  <a:pt x="3482" y="1507"/>
                  <a:pt x="3589" y="1529"/>
                </a:cubicBezTo>
                <a:cubicBezTo>
                  <a:pt x="3859" y="1664"/>
                  <a:pt x="4171" y="1654"/>
                  <a:pt x="4469" y="1662"/>
                </a:cubicBezTo>
                <a:cubicBezTo>
                  <a:pt x="4487" y="1665"/>
                  <a:pt x="4520" y="1670"/>
                  <a:pt x="4540" y="1680"/>
                </a:cubicBezTo>
                <a:cubicBezTo>
                  <a:pt x="4582" y="1701"/>
                  <a:pt x="4600" y="1743"/>
                  <a:pt x="4638" y="1769"/>
                </a:cubicBezTo>
                <a:cubicBezTo>
                  <a:pt x="4663" y="1807"/>
                  <a:pt x="4698" y="1810"/>
                  <a:pt x="4718" y="1849"/>
                </a:cubicBezTo>
                <a:lnTo>
                  <a:pt x="4745" y="1342"/>
                </a:lnTo>
                <a:close/>
              </a:path>
            </a:pathLst>
          </a:custGeom>
          <a:solidFill>
            <a:srgbClr val="ffff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00600" y="4971960"/>
            <a:ext cx="355680" cy="573120"/>
          </a:xfrm>
          <a:custGeom>
            <a:avLst/>
            <a:gdLst/>
            <a:ahLst/>
            <a:rect l="l" t="t" r="r" b="b"/>
            <a:pathLst>
              <a:path w="224" h="361">
                <a:moveTo>
                  <a:pt x="0" y="41"/>
                </a:moveTo>
                <a:cubicBezTo>
                  <a:pt x="63" y="0"/>
                  <a:pt x="73" y="16"/>
                  <a:pt x="169" y="24"/>
                </a:cubicBezTo>
                <a:cubicBezTo>
                  <a:pt x="205" y="47"/>
                  <a:pt x="199" y="59"/>
                  <a:pt x="222" y="95"/>
                </a:cubicBezTo>
                <a:cubicBezTo>
                  <a:pt x="217" y="121"/>
                  <a:pt x="224" y="155"/>
                  <a:pt x="205" y="175"/>
                </a:cubicBezTo>
                <a:cubicBezTo>
                  <a:pt x="188" y="191"/>
                  <a:pt x="161" y="196"/>
                  <a:pt x="142" y="210"/>
                </a:cubicBezTo>
                <a:cubicBezTo>
                  <a:pt x="136" y="219"/>
                  <a:pt x="129" y="227"/>
                  <a:pt x="125" y="237"/>
                </a:cubicBezTo>
                <a:cubicBezTo>
                  <a:pt x="117" y="254"/>
                  <a:pt x="107" y="290"/>
                  <a:pt x="107" y="290"/>
                </a:cubicBezTo>
                <a:cubicBezTo>
                  <a:pt x="110" y="313"/>
                  <a:pt x="116" y="361"/>
                  <a:pt x="116" y="36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45320" y="5602320"/>
            <a:ext cx="141120" cy="127080"/>
          </a:xfrm>
          <a:custGeom>
            <a:avLst/>
            <a:gdLst/>
            <a:ahLst/>
            <a:rect l="l" t="t" r="r" b="b"/>
            <a:pathLst>
              <a:path w="89" h="80">
                <a:moveTo>
                  <a:pt x="42" y="0"/>
                </a:moveTo>
                <a:cubicBezTo>
                  <a:pt x="1" y="60"/>
                  <a:pt x="0" y="32"/>
                  <a:pt x="16" y="80"/>
                </a:cubicBezTo>
                <a:cubicBezTo>
                  <a:pt x="30" y="77"/>
                  <a:pt x="47" y="79"/>
                  <a:pt x="60" y="71"/>
                </a:cubicBezTo>
                <a:cubicBezTo>
                  <a:pt x="89" y="51"/>
                  <a:pt x="55" y="13"/>
                  <a:pt x="42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cillas y Limolitas del Ma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6240" y="1143000"/>
            <a:ext cx="6107040" cy="1241280"/>
          </a:xfrm>
          <a:custGeom>
            <a:avLst/>
            <a:gdLst/>
            <a:ahLst/>
            <a:rect l="l" t="t" r="r" b="b"/>
            <a:pathLst>
              <a:path w="3847" h="782">
                <a:moveTo>
                  <a:pt x="0" y="0"/>
                </a:moveTo>
                <a:cubicBezTo>
                  <a:pt x="3" y="86"/>
                  <a:pt x="1" y="172"/>
                  <a:pt x="9" y="258"/>
                </a:cubicBezTo>
                <a:cubicBezTo>
                  <a:pt x="16" y="348"/>
                  <a:pt x="107" y="485"/>
                  <a:pt x="187" y="524"/>
                </a:cubicBezTo>
                <a:cubicBezTo>
                  <a:pt x="229" y="544"/>
                  <a:pt x="284" y="545"/>
                  <a:pt x="329" y="551"/>
                </a:cubicBezTo>
                <a:cubicBezTo>
                  <a:pt x="364" y="548"/>
                  <a:pt x="400" y="547"/>
                  <a:pt x="435" y="542"/>
                </a:cubicBezTo>
                <a:cubicBezTo>
                  <a:pt x="500" y="530"/>
                  <a:pt x="565" y="496"/>
                  <a:pt x="631" y="480"/>
                </a:cubicBezTo>
                <a:cubicBezTo>
                  <a:pt x="698" y="462"/>
                  <a:pt x="734" y="467"/>
                  <a:pt x="818" y="462"/>
                </a:cubicBezTo>
                <a:cubicBezTo>
                  <a:pt x="892" y="472"/>
                  <a:pt x="968" y="485"/>
                  <a:pt x="1040" y="507"/>
                </a:cubicBezTo>
                <a:cubicBezTo>
                  <a:pt x="1101" y="524"/>
                  <a:pt x="1156" y="553"/>
                  <a:pt x="1218" y="569"/>
                </a:cubicBezTo>
                <a:cubicBezTo>
                  <a:pt x="1274" y="566"/>
                  <a:pt x="1479" y="559"/>
                  <a:pt x="1555" y="551"/>
                </a:cubicBezTo>
                <a:cubicBezTo>
                  <a:pt x="1641" y="541"/>
                  <a:pt x="1727" y="484"/>
                  <a:pt x="1813" y="480"/>
                </a:cubicBezTo>
                <a:cubicBezTo>
                  <a:pt x="1928" y="474"/>
                  <a:pt x="2044" y="474"/>
                  <a:pt x="2160" y="471"/>
                </a:cubicBezTo>
                <a:cubicBezTo>
                  <a:pt x="2239" y="459"/>
                  <a:pt x="2289" y="454"/>
                  <a:pt x="2373" y="462"/>
                </a:cubicBezTo>
                <a:cubicBezTo>
                  <a:pt x="2430" y="476"/>
                  <a:pt x="2491" y="513"/>
                  <a:pt x="2551" y="516"/>
                </a:cubicBezTo>
                <a:cubicBezTo>
                  <a:pt x="2672" y="521"/>
                  <a:pt x="2793" y="521"/>
                  <a:pt x="2915" y="524"/>
                </a:cubicBezTo>
                <a:cubicBezTo>
                  <a:pt x="2968" y="541"/>
                  <a:pt x="3021" y="559"/>
                  <a:pt x="3075" y="578"/>
                </a:cubicBezTo>
                <a:cubicBezTo>
                  <a:pt x="3084" y="586"/>
                  <a:pt x="3091" y="597"/>
                  <a:pt x="3102" y="604"/>
                </a:cubicBezTo>
                <a:cubicBezTo>
                  <a:pt x="3109" y="609"/>
                  <a:pt x="3121" y="607"/>
                  <a:pt x="3129" y="613"/>
                </a:cubicBezTo>
                <a:cubicBezTo>
                  <a:pt x="3142" y="622"/>
                  <a:pt x="3151" y="638"/>
                  <a:pt x="3164" y="649"/>
                </a:cubicBezTo>
                <a:cubicBezTo>
                  <a:pt x="3172" y="656"/>
                  <a:pt x="3182" y="661"/>
                  <a:pt x="3191" y="667"/>
                </a:cubicBezTo>
                <a:cubicBezTo>
                  <a:pt x="3241" y="739"/>
                  <a:pt x="3365" y="765"/>
                  <a:pt x="3449" y="782"/>
                </a:cubicBezTo>
                <a:cubicBezTo>
                  <a:pt x="3682" y="768"/>
                  <a:pt x="3555" y="773"/>
                  <a:pt x="3831" y="773"/>
                </a:cubicBezTo>
                <a:lnTo>
                  <a:pt x="384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36760" y="2695680"/>
            <a:ext cx="4862520" cy="3705120"/>
          </a:xfrm>
          <a:custGeom>
            <a:avLst/>
            <a:gdLst/>
            <a:ahLst/>
            <a:rect l="l" t="t" r="r" b="b"/>
            <a:pathLst>
              <a:path w="3063" h="2334">
                <a:moveTo>
                  <a:pt x="165" y="2320"/>
                </a:moveTo>
                <a:cubicBezTo>
                  <a:pt x="158" y="2218"/>
                  <a:pt x="147" y="2166"/>
                  <a:pt x="112" y="2080"/>
                </a:cubicBezTo>
                <a:cubicBezTo>
                  <a:pt x="102" y="2034"/>
                  <a:pt x="82" y="1998"/>
                  <a:pt x="68" y="1955"/>
                </a:cubicBezTo>
                <a:cubicBezTo>
                  <a:pt x="73" y="1901"/>
                  <a:pt x="72" y="1883"/>
                  <a:pt x="85" y="1840"/>
                </a:cubicBezTo>
                <a:cubicBezTo>
                  <a:pt x="96" y="1796"/>
                  <a:pt x="122" y="1756"/>
                  <a:pt x="139" y="1715"/>
                </a:cubicBezTo>
                <a:cubicBezTo>
                  <a:pt x="155" y="1674"/>
                  <a:pt x="165" y="1633"/>
                  <a:pt x="174" y="1591"/>
                </a:cubicBezTo>
                <a:cubicBezTo>
                  <a:pt x="167" y="1534"/>
                  <a:pt x="170" y="1494"/>
                  <a:pt x="139" y="1449"/>
                </a:cubicBezTo>
                <a:cubicBezTo>
                  <a:pt x="143" y="1374"/>
                  <a:pt x="167" y="1276"/>
                  <a:pt x="121" y="1209"/>
                </a:cubicBezTo>
                <a:cubicBezTo>
                  <a:pt x="101" y="1149"/>
                  <a:pt x="128" y="1218"/>
                  <a:pt x="77" y="1146"/>
                </a:cubicBezTo>
                <a:cubicBezTo>
                  <a:pt x="65" y="1129"/>
                  <a:pt x="60" y="1109"/>
                  <a:pt x="50" y="1093"/>
                </a:cubicBezTo>
                <a:cubicBezTo>
                  <a:pt x="40" y="1047"/>
                  <a:pt x="25" y="1004"/>
                  <a:pt x="14" y="960"/>
                </a:cubicBezTo>
                <a:cubicBezTo>
                  <a:pt x="1" y="846"/>
                  <a:pt x="0" y="721"/>
                  <a:pt x="41" y="613"/>
                </a:cubicBezTo>
                <a:cubicBezTo>
                  <a:pt x="61" y="557"/>
                  <a:pt x="93" y="504"/>
                  <a:pt x="103" y="444"/>
                </a:cubicBezTo>
                <a:cubicBezTo>
                  <a:pt x="113" y="371"/>
                  <a:pt x="106" y="300"/>
                  <a:pt x="148" y="240"/>
                </a:cubicBezTo>
                <a:cubicBezTo>
                  <a:pt x="169" y="176"/>
                  <a:pt x="139" y="247"/>
                  <a:pt x="183" y="195"/>
                </a:cubicBezTo>
                <a:cubicBezTo>
                  <a:pt x="247" y="117"/>
                  <a:pt x="133" y="209"/>
                  <a:pt x="237" y="106"/>
                </a:cubicBezTo>
                <a:cubicBezTo>
                  <a:pt x="283" y="59"/>
                  <a:pt x="334" y="20"/>
                  <a:pt x="397" y="0"/>
                </a:cubicBezTo>
                <a:cubicBezTo>
                  <a:pt x="438" y="3"/>
                  <a:pt x="479" y="2"/>
                  <a:pt x="521" y="9"/>
                </a:cubicBezTo>
                <a:cubicBezTo>
                  <a:pt x="590" y="19"/>
                  <a:pt x="552" y="25"/>
                  <a:pt x="601" y="35"/>
                </a:cubicBezTo>
                <a:cubicBezTo>
                  <a:pt x="615" y="38"/>
                  <a:pt x="630" y="40"/>
                  <a:pt x="645" y="44"/>
                </a:cubicBezTo>
                <a:cubicBezTo>
                  <a:pt x="663" y="49"/>
                  <a:pt x="699" y="62"/>
                  <a:pt x="699" y="62"/>
                </a:cubicBezTo>
                <a:cubicBezTo>
                  <a:pt x="730" y="83"/>
                  <a:pt x="768" y="102"/>
                  <a:pt x="805" y="115"/>
                </a:cubicBezTo>
                <a:cubicBezTo>
                  <a:pt x="849" y="148"/>
                  <a:pt x="899" y="173"/>
                  <a:pt x="939" y="213"/>
                </a:cubicBezTo>
                <a:cubicBezTo>
                  <a:pt x="971" y="245"/>
                  <a:pt x="989" y="285"/>
                  <a:pt x="1028" y="311"/>
                </a:cubicBezTo>
                <a:cubicBezTo>
                  <a:pt x="1048" y="344"/>
                  <a:pt x="1075" y="369"/>
                  <a:pt x="1099" y="400"/>
                </a:cubicBezTo>
                <a:cubicBezTo>
                  <a:pt x="1130" y="441"/>
                  <a:pt x="1159" y="489"/>
                  <a:pt x="1188" y="533"/>
                </a:cubicBezTo>
                <a:cubicBezTo>
                  <a:pt x="1190" y="536"/>
                  <a:pt x="1219" y="583"/>
                  <a:pt x="1223" y="586"/>
                </a:cubicBezTo>
                <a:cubicBezTo>
                  <a:pt x="1232" y="592"/>
                  <a:pt x="1242" y="596"/>
                  <a:pt x="1250" y="604"/>
                </a:cubicBezTo>
                <a:cubicBezTo>
                  <a:pt x="1328" y="683"/>
                  <a:pt x="1261" y="637"/>
                  <a:pt x="1321" y="675"/>
                </a:cubicBezTo>
                <a:cubicBezTo>
                  <a:pt x="1408" y="799"/>
                  <a:pt x="1528" y="868"/>
                  <a:pt x="1677" y="898"/>
                </a:cubicBezTo>
                <a:cubicBezTo>
                  <a:pt x="1718" y="895"/>
                  <a:pt x="1759" y="893"/>
                  <a:pt x="1801" y="889"/>
                </a:cubicBezTo>
                <a:cubicBezTo>
                  <a:pt x="1856" y="882"/>
                  <a:pt x="1914" y="855"/>
                  <a:pt x="1970" y="844"/>
                </a:cubicBezTo>
                <a:cubicBezTo>
                  <a:pt x="2271" y="855"/>
                  <a:pt x="2128" y="835"/>
                  <a:pt x="2290" y="889"/>
                </a:cubicBezTo>
                <a:cubicBezTo>
                  <a:pt x="2296" y="897"/>
                  <a:pt x="2300" y="907"/>
                  <a:pt x="2308" y="915"/>
                </a:cubicBezTo>
                <a:cubicBezTo>
                  <a:pt x="2318" y="925"/>
                  <a:pt x="2333" y="930"/>
                  <a:pt x="2343" y="942"/>
                </a:cubicBezTo>
                <a:cubicBezTo>
                  <a:pt x="2348" y="949"/>
                  <a:pt x="2347" y="960"/>
                  <a:pt x="2352" y="969"/>
                </a:cubicBezTo>
                <a:cubicBezTo>
                  <a:pt x="2362" y="987"/>
                  <a:pt x="2381" y="1001"/>
                  <a:pt x="2388" y="1022"/>
                </a:cubicBezTo>
                <a:cubicBezTo>
                  <a:pt x="2405" y="1073"/>
                  <a:pt x="2415" y="1124"/>
                  <a:pt x="2441" y="1173"/>
                </a:cubicBezTo>
                <a:cubicBezTo>
                  <a:pt x="2461" y="1272"/>
                  <a:pt x="2442" y="1236"/>
                  <a:pt x="2477" y="1289"/>
                </a:cubicBezTo>
                <a:cubicBezTo>
                  <a:pt x="2482" y="1317"/>
                  <a:pt x="2496" y="1411"/>
                  <a:pt x="2512" y="1431"/>
                </a:cubicBezTo>
                <a:cubicBezTo>
                  <a:pt x="2538" y="1463"/>
                  <a:pt x="2662" y="1478"/>
                  <a:pt x="2699" y="1484"/>
                </a:cubicBezTo>
                <a:cubicBezTo>
                  <a:pt x="2778" y="1513"/>
                  <a:pt x="2855" y="1547"/>
                  <a:pt x="2939" y="1564"/>
                </a:cubicBezTo>
                <a:cubicBezTo>
                  <a:pt x="2979" y="1558"/>
                  <a:pt x="3022" y="1546"/>
                  <a:pt x="3063" y="1546"/>
                </a:cubicBezTo>
                <a:lnTo>
                  <a:pt x="3049" y="2334"/>
                </a:lnTo>
                <a:lnTo>
                  <a:pt x="165" y="232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enas de Parres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6240" y="1143000"/>
            <a:ext cx="6107040" cy="1241280"/>
          </a:xfrm>
          <a:custGeom>
            <a:avLst/>
            <a:gdLst/>
            <a:ahLst/>
            <a:rect l="l" t="t" r="r" b="b"/>
            <a:pathLst>
              <a:path w="3847" h="782">
                <a:moveTo>
                  <a:pt x="0" y="0"/>
                </a:moveTo>
                <a:cubicBezTo>
                  <a:pt x="3" y="86"/>
                  <a:pt x="1" y="172"/>
                  <a:pt x="9" y="258"/>
                </a:cubicBezTo>
                <a:cubicBezTo>
                  <a:pt x="16" y="348"/>
                  <a:pt x="107" y="485"/>
                  <a:pt x="187" y="524"/>
                </a:cubicBezTo>
                <a:cubicBezTo>
                  <a:pt x="229" y="544"/>
                  <a:pt x="284" y="545"/>
                  <a:pt x="329" y="551"/>
                </a:cubicBezTo>
                <a:cubicBezTo>
                  <a:pt x="364" y="548"/>
                  <a:pt x="400" y="547"/>
                  <a:pt x="435" y="542"/>
                </a:cubicBezTo>
                <a:cubicBezTo>
                  <a:pt x="500" y="530"/>
                  <a:pt x="565" y="496"/>
                  <a:pt x="631" y="480"/>
                </a:cubicBezTo>
                <a:cubicBezTo>
                  <a:pt x="698" y="462"/>
                  <a:pt x="734" y="467"/>
                  <a:pt x="818" y="462"/>
                </a:cubicBezTo>
                <a:cubicBezTo>
                  <a:pt x="892" y="472"/>
                  <a:pt x="968" y="485"/>
                  <a:pt x="1040" y="507"/>
                </a:cubicBezTo>
                <a:cubicBezTo>
                  <a:pt x="1101" y="524"/>
                  <a:pt x="1156" y="553"/>
                  <a:pt x="1218" y="569"/>
                </a:cubicBezTo>
                <a:cubicBezTo>
                  <a:pt x="1274" y="566"/>
                  <a:pt x="1479" y="559"/>
                  <a:pt x="1555" y="551"/>
                </a:cubicBezTo>
                <a:cubicBezTo>
                  <a:pt x="1641" y="541"/>
                  <a:pt x="1727" y="484"/>
                  <a:pt x="1813" y="480"/>
                </a:cubicBezTo>
                <a:cubicBezTo>
                  <a:pt x="1928" y="474"/>
                  <a:pt x="2044" y="474"/>
                  <a:pt x="2160" y="471"/>
                </a:cubicBezTo>
                <a:cubicBezTo>
                  <a:pt x="2239" y="459"/>
                  <a:pt x="2289" y="454"/>
                  <a:pt x="2373" y="462"/>
                </a:cubicBezTo>
                <a:cubicBezTo>
                  <a:pt x="2430" y="476"/>
                  <a:pt x="2491" y="513"/>
                  <a:pt x="2551" y="516"/>
                </a:cubicBezTo>
                <a:cubicBezTo>
                  <a:pt x="2672" y="521"/>
                  <a:pt x="2793" y="521"/>
                  <a:pt x="2915" y="524"/>
                </a:cubicBezTo>
                <a:cubicBezTo>
                  <a:pt x="2968" y="541"/>
                  <a:pt x="3021" y="559"/>
                  <a:pt x="3075" y="578"/>
                </a:cubicBezTo>
                <a:cubicBezTo>
                  <a:pt x="3084" y="586"/>
                  <a:pt x="3091" y="597"/>
                  <a:pt x="3102" y="604"/>
                </a:cubicBezTo>
                <a:cubicBezTo>
                  <a:pt x="3109" y="609"/>
                  <a:pt x="3121" y="607"/>
                  <a:pt x="3129" y="613"/>
                </a:cubicBezTo>
                <a:cubicBezTo>
                  <a:pt x="3142" y="622"/>
                  <a:pt x="3151" y="638"/>
                  <a:pt x="3164" y="649"/>
                </a:cubicBezTo>
                <a:cubicBezTo>
                  <a:pt x="3172" y="656"/>
                  <a:pt x="3182" y="661"/>
                  <a:pt x="3191" y="667"/>
                </a:cubicBezTo>
                <a:cubicBezTo>
                  <a:pt x="3241" y="739"/>
                  <a:pt x="3365" y="765"/>
                  <a:pt x="3449" y="782"/>
                </a:cubicBezTo>
                <a:cubicBezTo>
                  <a:pt x="3682" y="768"/>
                  <a:pt x="3555" y="773"/>
                  <a:pt x="3831" y="773"/>
                </a:cubicBezTo>
                <a:lnTo>
                  <a:pt x="384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36760" y="2695680"/>
            <a:ext cx="4862520" cy="3705120"/>
          </a:xfrm>
          <a:custGeom>
            <a:avLst/>
            <a:gdLst/>
            <a:ahLst/>
            <a:rect l="l" t="t" r="r" b="b"/>
            <a:pathLst>
              <a:path w="3063" h="2334">
                <a:moveTo>
                  <a:pt x="165" y="2320"/>
                </a:moveTo>
                <a:cubicBezTo>
                  <a:pt x="158" y="2218"/>
                  <a:pt x="147" y="2166"/>
                  <a:pt x="112" y="2080"/>
                </a:cubicBezTo>
                <a:cubicBezTo>
                  <a:pt x="102" y="2034"/>
                  <a:pt x="82" y="1998"/>
                  <a:pt x="68" y="1955"/>
                </a:cubicBezTo>
                <a:cubicBezTo>
                  <a:pt x="73" y="1901"/>
                  <a:pt x="72" y="1883"/>
                  <a:pt x="85" y="1840"/>
                </a:cubicBezTo>
                <a:cubicBezTo>
                  <a:pt x="96" y="1796"/>
                  <a:pt x="122" y="1756"/>
                  <a:pt x="139" y="1715"/>
                </a:cubicBezTo>
                <a:cubicBezTo>
                  <a:pt x="155" y="1674"/>
                  <a:pt x="165" y="1633"/>
                  <a:pt x="174" y="1591"/>
                </a:cubicBezTo>
                <a:cubicBezTo>
                  <a:pt x="167" y="1534"/>
                  <a:pt x="170" y="1494"/>
                  <a:pt x="139" y="1449"/>
                </a:cubicBezTo>
                <a:cubicBezTo>
                  <a:pt x="143" y="1374"/>
                  <a:pt x="167" y="1276"/>
                  <a:pt x="121" y="1209"/>
                </a:cubicBezTo>
                <a:cubicBezTo>
                  <a:pt x="101" y="1149"/>
                  <a:pt x="128" y="1218"/>
                  <a:pt x="77" y="1146"/>
                </a:cubicBezTo>
                <a:cubicBezTo>
                  <a:pt x="65" y="1129"/>
                  <a:pt x="60" y="1109"/>
                  <a:pt x="50" y="1093"/>
                </a:cubicBezTo>
                <a:cubicBezTo>
                  <a:pt x="40" y="1047"/>
                  <a:pt x="25" y="1004"/>
                  <a:pt x="14" y="960"/>
                </a:cubicBezTo>
                <a:cubicBezTo>
                  <a:pt x="1" y="846"/>
                  <a:pt x="0" y="721"/>
                  <a:pt x="41" y="613"/>
                </a:cubicBezTo>
                <a:cubicBezTo>
                  <a:pt x="61" y="557"/>
                  <a:pt x="93" y="504"/>
                  <a:pt x="103" y="444"/>
                </a:cubicBezTo>
                <a:cubicBezTo>
                  <a:pt x="113" y="371"/>
                  <a:pt x="106" y="300"/>
                  <a:pt x="148" y="240"/>
                </a:cubicBezTo>
                <a:cubicBezTo>
                  <a:pt x="169" y="176"/>
                  <a:pt x="139" y="247"/>
                  <a:pt x="183" y="195"/>
                </a:cubicBezTo>
                <a:cubicBezTo>
                  <a:pt x="247" y="117"/>
                  <a:pt x="133" y="209"/>
                  <a:pt x="237" y="106"/>
                </a:cubicBezTo>
                <a:cubicBezTo>
                  <a:pt x="283" y="59"/>
                  <a:pt x="334" y="20"/>
                  <a:pt x="397" y="0"/>
                </a:cubicBezTo>
                <a:cubicBezTo>
                  <a:pt x="438" y="3"/>
                  <a:pt x="479" y="2"/>
                  <a:pt x="521" y="9"/>
                </a:cubicBezTo>
                <a:cubicBezTo>
                  <a:pt x="590" y="19"/>
                  <a:pt x="552" y="25"/>
                  <a:pt x="601" y="35"/>
                </a:cubicBezTo>
                <a:cubicBezTo>
                  <a:pt x="615" y="38"/>
                  <a:pt x="630" y="40"/>
                  <a:pt x="645" y="44"/>
                </a:cubicBezTo>
                <a:cubicBezTo>
                  <a:pt x="663" y="49"/>
                  <a:pt x="699" y="62"/>
                  <a:pt x="699" y="62"/>
                </a:cubicBezTo>
                <a:cubicBezTo>
                  <a:pt x="730" y="83"/>
                  <a:pt x="768" y="102"/>
                  <a:pt x="805" y="115"/>
                </a:cubicBezTo>
                <a:cubicBezTo>
                  <a:pt x="849" y="148"/>
                  <a:pt x="899" y="173"/>
                  <a:pt x="939" y="213"/>
                </a:cubicBezTo>
                <a:cubicBezTo>
                  <a:pt x="971" y="245"/>
                  <a:pt x="989" y="285"/>
                  <a:pt x="1028" y="311"/>
                </a:cubicBezTo>
                <a:cubicBezTo>
                  <a:pt x="1048" y="344"/>
                  <a:pt x="1075" y="369"/>
                  <a:pt x="1099" y="400"/>
                </a:cubicBezTo>
                <a:cubicBezTo>
                  <a:pt x="1130" y="441"/>
                  <a:pt x="1159" y="489"/>
                  <a:pt x="1188" y="533"/>
                </a:cubicBezTo>
                <a:cubicBezTo>
                  <a:pt x="1190" y="536"/>
                  <a:pt x="1219" y="583"/>
                  <a:pt x="1223" y="586"/>
                </a:cubicBezTo>
                <a:cubicBezTo>
                  <a:pt x="1232" y="592"/>
                  <a:pt x="1242" y="596"/>
                  <a:pt x="1250" y="604"/>
                </a:cubicBezTo>
                <a:cubicBezTo>
                  <a:pt x="1328" y="683"/>
                  <a:pt x="1261" y="637"/>
                  <a:pt x="1321" y="675"/>
                </a:cubicBezTo>
                <a:cubicBezTo>
                  <a:pt x="1408" y="799"/>
                  <a:pt x="1528" y="868"/>
                  <a:pt x="1677" y="898"/>
                </a:cubicBezTo>
                <a:cubicBezTo>
                  <a:pt x="1718" y="895"/>
                  <a:pt x="1759" y="893"/>
                  <a:pt x="1801" y="889"/>
                </a:cubicBezTo>
                <a:cubicBezTo>
                  <a:pt x="1856" y="882"/>
                  <a:pt x="1914" y="855"/>
                  <a:pt x="1970" y="844"/>
                </a:cubicBezTo>
                <a:cubicBezTo>
                  <a:pt x="2271" y="855"/>
                  <a:pt x="2128" y="835"/>
                  <a:pt x="2290" y="889"/>
                </a:cubicBezTo>
                <a:cubicBezTo>
                  <a:pt x="2296" y="897"/>
                  <a:pt x="2300" y="907"/>
                  <a:pt x="2308" y="915"/>
                </a:cubicBezTo>
                <a:cubicBezTo>
                  <a:pt x="2318" y="925"/>
                  <a:pt x="2333" y="930"/>
                  <a:pt x="2343" y="942"/>
                </a:cubicBezTo>
                <a:cubicBezTo>
                  <a:pt x="2348" y="949"/>
                  <a:pt x="2347" y="960"/>
                  <a:pt x="2352" y="969"/>
                </a:cubicBezTo>
                <a:cubicBezTo>
                  <a:pt x="2362" y="987"/>
                  <a:pt x="2381" y="1001"/>
                  <a:pt x="2388" y="1022"/>
                </a:cubicBezTo>
                <a:cubicBezTo>
                  <a:pt x="2405" y="1073"/>
                  <a:pt x="2415" y="1124"/>
                  <a:pt x="2441" y="1173"/>
                </a:cubicBezTo>
                <a:cubicBezTo>
                  <a:pt x="2461" y="1272"/>
                  <a:pt x="2442" y="1236"/>
                  <a:pt x="2477" y="1289"/>
                </a:cubicBezTo>
                <a:cubicBezTo>
                  <a:pt x="2482" y="1317"/>
                  <a:pt x="2496" y="1411"/>
                  <a:pt x="2512" y="1431"/>
                </a:cubicBezTo>
                <a:cubicBezTo>
                  <a:pt x="2538" y="1463"/>
                  <a:pt x="2662" y="1478"/>
                  <a:pt x="2699" y="1484"/>
                </a:cubicBezTo>
                <a:cubicBezTo>
                  <a:pt x="2778" y="1513"/>
                  <a:pt x="2855" y="1547"/>
                  <a:pt x="2939" y="1564"/>
                </a:cubicBezTo>
                <a:cubicBezTo>
                  <a:pt x="2979" y="1558"/>
                  <a:pt x="3022" y="1546"/>
                  <a:pt x="3063" y="1546"/>
                </a:cubicBezTo>
                <a:lnTo>
                  <a:pt x="3049" y="2334"/>
                </a:lnTo>
                <a:lnTo>
                  <a:pt x="165" y="2320"/>
                </a:lnTo>
                <a:close/>
              </a:path>
            </a:pathLst>
          </a:custGeom>
          <a:solidFill>
            <a:srgbClr val="333399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9440" y="1143000"/>
            <a:ext cx="7503840" cy="4713120"/>
          </a:xfrm>
          <a:custGeom>
            <a:avLst/>
            <a:gdLst/>
            <a:ahLst/>
            <a:rect l="l" t="t" r="r" b="b"/>
            <a:pathLst>
              <a:path w="4727" h="2969">
                <a:moveTo>
                  <a:pt x="0" y="2213"/>
                </a:moveTo>
                <a:cubicBezTo>
                  <a:pt x="207" y="2223"/>
                  <a:pt x="414" y="2239"/>
                  <a:pt x="622" y="2222"/>
                </a:cubicBezTo>
                <a:cubicBezTo>
                  <a:pt x="673" y="2204"/>
                  <a:pt x="728" y="2204"/>
                  <a:pt x="782" y="2196"/>
                </a:cubicBezTo>
                <a:cubicBezTo>
                  <a:pt x="794" y="2190"/>
                  <a:pt x="806" y="2184"/>
                  <a:pt x="818" y="2178"/>
                </a:cubicBezTo>
                <a:cubicBezTo>
                  <a:pt x="827" y="2172"/>
                  <a:pt x="834" y="2164"/>
                  <a:pt x="844" y="2160"/>
                </a:cubicBezTo>
                <a:cubicBezTo>
                  <a:pt x="886" y="2138"/>
                  <a:pt x="940" y="2130"/>
                  <a:pt x="987" y="2116"/>
                </a:cubicBezTo>
                <a:cubicBezTo>
                  <a:pt x="1091" y="2082"/>
                  <a:pt x="1200" y="2053"/>
                  <a:pt x="1307" y="2027"/>
                </a:cubicBezTo>
                <a:cubicBezTo>
                  <a:pt x="1357" y="1992"/>
                  <a:pt x="1325" y="2016"/>
                  <a:pt x="1395" y="1947"/>
                </a:cubicBezTo>
                <a:cubicBezTo>
                  <a:pt x="1404" y="1938"/>
                  <a:pt x="1422" y="1920"/>
                  <a:pt x="1422" y="1920"/>
                </a:cubicBezTo>
                <a:cubicBezTo>
                  <a:pt x="1441" y="1862"/>
                  <a:pt x="1487" y="1844"/>
                  <a:pt x="1520" y="1796"/>
                </a:cubicBezTo>
                <a:cubicBezTo>
                  <a:pt x="1594" y="1683"/>
                  <a:pt x="1714" y="1599"/>
                  <a:pt x="1760" y="1467"/>
                </a:cubicBezTo>
                <a:cubicBezTo>
                  <a:pt x="1768" y="1355"/>
                  <a:pt x="1789" y="1229"/>
                  <a:pt x="1840" y="1129"/>
                </a:cubicBezTo>
                <a:cubicBezTo>
                  <a:pt x="1855" y="1098"/>
                  <a:pt x="1840" y="1102"/>
                  <a:pt x="1867" y="1076"/>
                </a:cubicBezTo>
                <a:cubicBezTo>
                  <a:pt x="1905" y="1037"/>
                  <a:pt x="1957" y="1004"/>
                  <a:pt x="2009" y="987"/>
                </a:cubicBezTo>
                <a:cubicBezTo>
                  <a:pt x="2118" y="996"/>
                  <a:pt x="2221" y="1009"/>
                  <a:pt x="2329" y="1022"/>
                </a:cubicBezTo>
                <a:cubicBezTo>
                  <a:pt x="2415" y="1051"/>
                  <a:pt x="2496" y="1073"/>
                  <a:pt x="2587" y="1084"/>
                </a:cubicBezTo>
                <a:cubicBezTo>
                  <a:pt x="2709" y="1115"/>
                  <a:pt x="2823" y="1066"/>
                  <a:pt x="2942" y="1049"/>
                </a:cubicBezTo>
                <a:cubicBezTo>
                  <a:pt x="3078" y="1052"/>
                  <a:pt x="3214" y="1052"/>
                  <a:pt x="3351" y="1058"/>
                </a:cubicBezTo>
                <a:cubicBezTo>
                  <a:pt x="3401" y="1060"/>
                  <a:pt x="3469" y="1083"/>
                  <a:pt x="3520" y="1093"/>
                </a:cubicBezTo>
                <a:cubicBezTo>
                  <a:pt x="3555" y="1099"/>
                  <a:pt x="3604" y="1109"/>
                  <a:pt x="3635" y="1129"/>
                </a:cubicBezTo>
                <a:cubicBezTo>
                  <a:pt x="3653" y="1140"/>
                  <a:pt x="3668" y="1157"/>
                  <a:pt x="3689" y="1164"/>
                </a:cubicBezTo>
                <a:cubicBezTo>
                  <a:pt x="3706" y="1170"/>
                  <a:pt x="3724" y="1176"/>
                  <a:pt x="3742" y="1182"/>
                </a:cubicBezTo>
                <a:cubicBezTo>
                  <a:pt x="3750" y="1185"/>
                  <a:pt x="3769" y="1191"/>
                  <a:pt x="3769" y="1191"/>
                </a:cubicBezTo>
                <a:cubicBezTo>
                  <a:pt x="3808" y="1221"/>
                  <a:pt x="3845" y="1254"/>
                  <a:pt x="3893" y="1271"/>
                </a:cubicBezTo>
                <a:cubicBezTo>
                  <a:pt x="3964" y="1322"/>
                  <a:pt x="4033" y="1380"/>
                  <a:pt x="4062" y="1467"/>
                </a:cubicBezTo>
                <a:cubicBezTo>
                  <a:pt x="4076" y="1605"/>
                  <a:pt x="4057" y="1739"/>
                  <a:pt x="4035" y="1876"/>
                </a:cubicBezTo>
                <a:cubicBezTo>
                  <a:pt x="4046" y="1934"/>
                  <a:pt x="4051" y="1984"/>
                  <a:pt x="4062" y="2044"/>
                </a:cubicBezTo>
                <a:cubicBezTo>
                  <a:pt x="4065" y="2062"/>
                  <a:pt x="4073" y="2080"/>
                  <a:pt x="4080" y="2098"/>
                </a:cubicBezTo>
                <a:cubicBezTo>
                  <a:pt x="4082" y="2106"/>
                  <a:pt x="4087" y="2115"/>
                  <a:pt x="4089" y="2124"/>
                </a:cubicBezTo>
                <a:cubicBezTo>
                  <a:pt x="4107" y="2214"/>
                  <a:pt x="4137" y="2301"/>
                  <a:pt x="4160" y="2391"/>
                </a:cubicBezTo>
                <a:cubicBezTo>
                  <a:pt x="4151" y="2400"/>
                  <a:pt x="4139" y="2406"/>
                  <a:pt x="4133" y="2418"/>
                </a:cubicBezTo>
                <a:cubicBezTo>
                  <a:pt x="4123" y="2434"/>
                  <a:pt x="4115" y="2471"/>
                  <a:pt x="4115" y="2471"/>
                </a:cubicBezTo>
                <a:cubicBezTo>
                  <a:pt x="4118" y="2512"/>
                  <a:pt x="4114" y="2555"/>
                  <a:pt x="4124" y="2596"/>
                </a:cubicBezTo>
                <a:cubicBezTo>
                  <a:pt x="4126" y="2608"/>
                  <a:pt x="4143" y="2611"/>
                  <a:pt x="4151" y="2622"/>
                </a:cubicBezTo>
                <a:cubicBezTo>
                  <a:pt x="4156" y="2629"/>
                  <a:pt x="4155" y="2640"/>
                  <a:pt x="4160" y="2649"/>
                </a:cubicBezTo>
                <a:cubicBezTo>
                  <a:pt x="4169" y="2664"/>
                  <a:pt x="4183" y="2678"/>
                  <a:pt x="4195" y="2693"/>
                </a:cubicBezTo>
                <a:cubicBezTo>
                  <a:pt x="4231" y="2801"/>
                  <a:pt x="4296" y="2904"/>
                  <a:pt x="4409" y="2942"/>
                </a:cubicBezTo>
                <a:cubicBezTo>
                  <a:pt x="4430" y="2949"/>
                  <a:pt x="4466" y="2969"/>
                  <a:pt x="4489" y="2969"/>
                </a:cubicBezTo>
                <a:cubicBezTo>
                  <a:pt x="4560" y="2969"/>
                  <a:pt x="4631" y="2969"/>
                  <a:pt x="4702" y="2969"/>
                </a:cubicBezTo>
                <a:lnTo>
                  <a:pt x="4727" y="768"/>
                </a:lnTo>
                <a:cubicBezTo>
                  <a:pt x="4398" y="777"/>
                  <a:pt x="4344" y="817"/>
                  <a:pt x="4133" y="747"/>
                </a:cubicBezTo>
                <a:cubicBezTo>
                  <a:pt x="4069" y="703"/>
                  <a:pt x="4026" y="618"/>
                  <a:pt x="3955" y="587"/>
                </a:cubicBezTo>
                <a:cubicBezTo>
                  <a:pt x="3799" y="518"/>
                  <a:pt x="3613" y="522"/>
                  <a:pt x="3449" y="516"/>
                </a:cubicBezTo>
                <a:cubicBezTo>
                  <a:pt x="3392" y="507"/>
                  <a:pt x="3311" y="512"/>
                  <a:pt x="3262" y="480"/>
                </a:cubicBezTo>
                <a:cubicBezTo>
                  <a:pt x="3237" y="463"/>
                  <a:pt x="3182" y="444"/>
                  <a:pt x="3182" y="444"/>
                </a:cubicBezTo>
                <a:cubicBezTo>
                  <a:pt x="2909" y="450"/>
                  <a:pt x="2643" y="473"/>
                  <a:pt x="2373" y="489"/>
                </a:cubicBezTo>
                <a:cubicBezTo>
                  <a:pt x="2322" y="502"/>
                  <a:pt x="2280" y="525"/>
                  <a:pt x="2231" y="542"/>
                </a:cubicBezTo>
                <a:cubicBezTo>
                  <a:pt x="2213" y="547"/>
                  <a:pt x="2178" y="560"/>
                  <a:pt x="2178" y="560"/>
                </a:cubicBezTo>
                <a:cubicBezTo>
                  <a:pt x="2139" y="557"/>
                  <a:pt x="2100" y="555"/>
                  <a:pt x="2062" y="551"/>
                </a:cubicBezTo>
                <a:cubicBezTo>
                  <a:pt x="2041" y="548"/>
                  <a:pt x="1986" y="528"/>
                  <a:pt x="1973" y="524"/>
                </a:cubicBezTo>
                <a:cubicBezTo>
                  <a:pt x="1876" y="495"/>
                  <a:pt x="1777" y="469"/>
                  <a:pt x="1680" y="444"/>
                </a:cubicBezTo>
                <a:cubicBezTo>
                  <a:pt x="1635" y="447"/>
                  <a:pt x="1590" y="446"/>
                  <a:pt x="1547" y="453"/>
                </a:cubicBezTo>
                <a:cubicBezTo>
                  <a:pt x="1492" y="460"/>
                  <a:pt x="1429" y="489"/>
                  <a:pt x="1378" y="507"/>
                </a:cubicBezTo>
                <a:cubicBezTo>
                  <a:pt x="1348" y="516"/>
                  <a:pt x="1318" y="523"/>
                  <a:pt x="1289" y="533"/>
                </a:cubicBezTo>
                <a:cubicBezTo>
                  <a:pt x="1270" y="538"/>
                  <a:pt x="1235" y="551"/>
                  <a:pt x="1235" y="551"/>
                </a:cubicBezTo>
                <a:cubicBezTo>
                  <a:pt x="1181" y="548"/>
                  <a:pt x="1127" y="551"/>
                  <a:pt x="1075" y="542"/>
                </a:cubicBezTo>
                <a:cubicBezTo>
                  <a:pt x="1060" y="539"/>
                  <a:pt x="1000" y="435"/>
                  <a:pt x="995" y="427"/>
                </a:cubicBezTo>
                <a:cubicBezTo>
                  <a:pt x="952" y="362"/>
                  <a:pt x="883" y="286"/>
                  <a:pt x="880" y="204"/>
                </a:cubicBezTo>
                <a:cubicBezTo>
                  <a:pt x="877" y="139"/>
                  <a:pt x="880" y="74"/>
                  <a:pt x="880" y="9"/>
                </a:cubicBezTo>
                <a:lnTo>
                  <a:pt x="23" y="0"/>
                </a:lnTo>
                <a:lnTo>
                  <a:pt x="0" y="2213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1961" b="0"/>
          <a:stretch/>
        </p:blipFill>
        <p:spPr>
          <a:xfrm>
            <a:off x="380880" y="1752480"/>
            <a:ext cx="84582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977760"/>
            <a:ext cx="61722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343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GOS ESPORAD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44449"/>
          <a:stretch/>
        </p:blipFill>
        <p:spPr>
          <a:xfrm>
            <a:off x="838080" y="1538280"/>
            <a:ext cx="73152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709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828800" y="1208160"/>
            <a:ext cx="563868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5036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86400" y="5029200"/>
            <a:ext cx="365760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B: barras de grava (gralmente cuerpos tabulares y engranados con 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F: sedimentos finos de inundaciones (cuerpos delgados, se pueden engranar con SB. Pueden llenar canales abandon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B: formas arenosas (lentes, capas, cuñas, barras menore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3:16:53Z</dcterms:created>
  <dc:creator>Marcelo Farías</dc:creator>
  <dc:description/>
  <dc:language>en-US</dc:language>
  <cp:lastModifiedBy>Marcelo Farías</cp:lastModifiedBy>
  <dcterms:modified xsi:type="dcterms:W3CDTF">2004-09-30T14:49:47Z</dcterms:modified>
  <cp:revision>5</cp:revision>
  <dc:subject/>
  <dc:title>RIOS TRENZADOS</dc:title>
</cp:coreProperties>
</file>