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13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971232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6AFC-2F5B-4F3B-877F-6450A174A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E352-7B32-426E-8041-C47D1BAE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26A7-24D4-4AB9-A963-1C9C2BF31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B3CC-1711-4D71-B4BA-DB11C2C43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0AD6-FF61-48F9-BD4F-0E81F3A6B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7CC9F-0019-42B8-A7B1-BD31E42F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3D81-522A-458B-85F2-04446B4F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B7CC-76BC-4E31-AA78-985EA151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11DA-A8FF-4BB4-813E-4D2D17F9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D3FA-34A6-4EBC-BFCF-A96A2C0C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6CDC-7D27-4423-825D-FACE1121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C615-AB46-40CD-9796-15880268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02D3-48E6-4AF7-8EAA-C8442B91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BB76-1F0A-48AB-877A-5803DE9B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F091-BDAE-4714-A863-10C4BBFF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5A7FD-4546-4D78-ABA7-8D2064FE9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4AF6-6DFC-46CD-8916-9DEB35E07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3CBD-7486-42A7-BC01-66EBA3C7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DCBE-107E-42C6-823E-B1F40872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4E13-983F-4472-9481-0A137D37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8023-DF1C-4AC3-886E-A05D7565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EE92-F034-47DC-83E1-77E599FC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CA6A-2C11-4B8D-9174-1489CA79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D85F-20D3-4217-84D0-EDF0C3F2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4899-09F5-4ED8-8AC9-993BE6B856C5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508A-E340-4085-B8B4-832B6F17BC9A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90720" y="1981080"/>
            <a:ext cx="7391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101016"/>
                </a:solidFill>
                <a:latin typeface="Arial Black"/>
              </a:rPr>
              <a:t>DIAGENESIS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101016"/>
                </a:solidFill>
                <a:latin typeface="Arial Black"/>
              </a:rPr>
              <a:t>EN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101016"/>
                </a:solidFill>
                <a:latin typeface="Arial Black"/>
              </a:rPr>
              <a:t>ROCAS CARBONATADAS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91440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cemen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77" name="59" descr=""/>
          <p:cNvPicPr/>
          <p:nvPr/>
        </p:nvPicPr>
        <p:blipFill>
          <a:blip r:embed="rId2"/>
          <a:stretch/>
        </p:blipFill>
        <p:spPr>
          <a:xfrm>
            <a:off x="152280" y="1219320"/>
            <a:ext cx="5943600" cy="44384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172200" y="1752480"/>
            <a:ext cx="29718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1°Cemento gravitacional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Zona vadosa desde agua de poros marinas en zonas intermarteales o supramareales, o bien de aguas meteoricas (LMC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2°Cemento en mosaico(LMC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image017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5294160" cy="40384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400800" y="2743200"/>
            <a:ext cx="2438280" cy="21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Times New Roman"/>
              </a:rPr>
              <a:t>Cemento poiquilotópico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Times New Roman"/>
              </a:rPr>
              <a:t>Aloquemos dolomitizado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304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cemen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60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5467320" cy="46483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019920" y="2286000"/>
            <a:ext cx="2895480" cy="28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Cemento en mosaico: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01016"/>
                </a:solidFill>
                <a:latin typeface="Times New Roman"/>
              </a:rPr>
              <a:t>Zonación composicional de cx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01016"/>
                </a:solidFill>
                <a:latin typeface="Times New Roman"/>
              </a:rPr>
              <a:t>Cemento de calcita ferrosa precipita en condiciones reductora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01016"/>
                </a:solidFill>
                <a:latin typeface="Times New Roman"/>
              </a:rPr>
              <a:t>Zona freático continental (LMC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228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cemen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62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4038480" cy="34844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048120" y="914400"/>
            <a:ext cx="411480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Cemento sintaxial (</a:t>
            </a:r>
            <a:r>
              <a:rPr b="0" lang="es-MX" sz="2200" spc="-1" strike="noStrike">
                <a:solidFill>
                  <a:srgbClr val="101016"/>
                </a:solidFill>
                <a:latin typeface="Times New Roman"/>
              </a:rPr>
              <a:t>LMC)            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Times New Roman"/>
              </a:rPr>
              <a:t>Zona freático continental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87" name="68" descr=""/>
          <p:cNvPicPr/>
          <p:nvPr/>
        </p:nvPicPr>
        <p:blipFill>
          <a:blip r:embed="rId3"/>
          <a:stretch/>
        </p:blipFill>
        <p:spPr>
          <a:xfrm>
            <a:off x="4876920" y="2133720"/>
            <a:ext cx="4014720" cy="3504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838080" y="228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cemen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75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5715000" cy="41338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477120" y="21337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Pseudoesparita en la matriz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2120" y="3049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recristaliz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77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5697360" cy="4572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838080" y="38088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304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recristaliz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2057400"/>
            <a:ext cx="243864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545472"/>
                </a:solidFill>
                <a:latin typeface="Times New Roman"/>
              </a:rPr>
              <a:t>Dolomita en una matriz de pseudoesparita con parches de micrita.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545472"/>
                </a:solidFill>
                <a:latin typeface="Times New Roman"/>
              </a:rPr>
              <a:t>Notar diferencias de tamaño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3049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recristaliz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1676520"/>
            <a:ext cx="388620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545472"/>
                </a:solidFill>
                <a:uFillTx/>
                <a:latin typeface="Times New Roman"/>
                <a:ea typeface="Times New Roman"/>
              </a:rPr>
              <a:t>Cemento (ortoesparita)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cristales sobre bordes de grano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polaridad de tamaños, aumentan los cx desde las paredes hasta el centro del poro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uniones triples enfaciales (180°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contactos recto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Ausencia de estructuras relicta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Límite entre partículas y cemento bien definido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Los ejes mayores de los cristaless se orientan perpendiculares a los plannos de crecimiento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05520" y="1676520"/>
            <a:ext cx="358128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545472"/>
                </a:solidFill>
                <a:uFillTx/>
                <a:latin typeface="Times New Roman"/>
                <a:ea typeface="Times New Roman"/>
              </a:rPr>
              <a:t>Pseudoesparit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bordes de granos difuso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no polariadad de tamaño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no uniones triples enfaciale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contactos suturado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Mosaicos cristalinos con cristales de varios tamaños diferente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Partículas esparíticas intersectadas por cristales de esparita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Granos flotando, que no pueden sostenerse por si mismo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Presencia de fantasma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990720" y="304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porosidad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00" name="porosidad%20copiar" descr=""/>
          <p:cNvPicPr/>
          <p:nvPr/>
        </p:nvPicPr>
        <p:blipFill>
          <a:blip r:embed="rId2"/>
          <a:stretch/>
        </p:blipFill>
        <p:spPr>
          <a:xfrm>
            <a:off x="762120" y="1371600"/>
            <a:ext cx="7684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990720" y="304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porosidad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02" name="88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5819760" cy="42940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553080" y="2819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intergranula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90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5715000" cy="4572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553080" y="25146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móldic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43000" y="3049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porosidad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62120" y="228600"/>
            <a:ext cx="7619760" cy="61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PROCESOS DIAGENÉTICO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10101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Arial Black"/>
              </a:rPr>
              <a:t>Micritización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10101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Arial Black"/>
              </a:rPr>
              <a:t>Compactación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01016"/>
                </a:solidFill>
                <a:latin typeface="Arial Black"/>
              </a:rPr>
              <a:t>Reducción porosidad primaria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10101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Arial Black"/>
              </a:rPr>
              <a:t>Cementación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01016"/>
                </a:solidFill>
                <a:latin typeface="Arial Black"/>
              </a:rPr>
              <a:t>Rellena espacios que compactación no eliminó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10101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Arial Black"/>
              </a:rPr>
              <a:t>Disolución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01016"/>
                </a:solidFill>
                <a:latin typeface="Arial Black"/>
              </a:rPr>
              <a:t>Creación porosidad secundaria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10101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Arial Black"/>
              </a:rPr>
              <a:t>Reemplazo (silicificación, dolomitización)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01016"/>
                </a:solidFill>
                <a:latin typeface="Arial Black"/>
              </a:rPr>
              <a:t>Cambio químico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10101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Arial Black"/>
              </a:rPr>
              <a:t>Recristalización (pseudoesparita)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01016"/>
                </a:solidFill>
                <a:latin typeface="Arial Black"/>
              </a:rPr>
              <a:t>Cambio físico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97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6095880" cy="45939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914400" y="228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porosidad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34320" y="2819520"/>
            <a:ext cx="2057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Intragranula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Geopétal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352680" y="9907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Dolomitiz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11" name="99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4038480" cy="3809880"/>
          </a:xfrm>
          <a:prstGeom prst="rect">
            <a:avLst/>
          </a:prstGeom>
          <a:ln w="0">
            <a:noFill/>
          </a:ln>
        </p:spPr>
      </p:pic>
      <p:pic>
        <p:nvPicPr>
          <p:cNvPr id="212" name="100" descr=""/>
          <p:cNvPicPr/>
          <p:nvPr/>
        </p:nvPicPr>
        <p:blipFill>
          <a:blip r:embed="rId3"/>
          <a:stretch/>
        </p:blipFill>
        <p:spPr>
          <a:xfrm>
            <a:off x="4724280" y="1828800"/>
            <a:ext cx="4114800" cy="38098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914400" y="304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45472"/>
                </a:solidFill>
                <a:latin typeface="Arial Black"/>
              </a:rPr>
              <a:t>reemplaz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914400" y="3808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reemplazo                              dolomitiz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15" name="102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495680" cy="3886200"/>
          </a:xfrm>
          <a:prstGeom prst="rect">
            <a:avLst/>
          </a:prstGeom>
          <a:ln w="0">
            <a:noFill/>
          </a:ln>
        </p:spPr>
      </p:pic>
      <p:pic>
        <p:nvPicPr>
          <p:cNvPr id="216" name="103" descr=""/>
          <p:cNvPicPr/>
          <p:nvPr/>
        </p:nvPicPr>
        <p:blipFill>
          <a:blip r:embed="rId3"/>
          <a:stretch/>
        </p:blipFill>
        <p:spPr>
          <a:xfrm>
            <a:off x="4800600" y="1523880"/>
            <a:ext cx="4148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533520" y="30492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dedolomitiz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18" name="107" descr=""/>
          <p:cNvPicPr/>
          <p:nvPr/>
        </p:nvPicPr>
        <p:blipFill>
          <a:blip r:embed="rId2"/>
          <a:stretch/>
        </p:blipFill>
        <p:spPr>
          <a:xfrm>
            <a:off x="152280" y="1828800"/>
            <a:ext cx="4267440" cy="3809880"/>
          </a:xfrm>
          <a:prstGeom prst="rect">
            <a:avLst/>
          </a:prstGeom>
          <a:ln w="0">
            <a:noFill/>
          </a:ln>
        </p:spPr>
      </p:pic>
      <p:pic>
        <p:nvPicPr>
          <p:cNvPr id="219" name="108" descr=""/>
          <p:cNvPicPr/>
          <p:nvPr/>
        </p:nvPicPr>
        <p:blipFill>
          <a:blip r:embed="rId3"/>
          <a:stretch/>
        </p:blipFill>
        <p:spPr>
          <a:xfrm>
            <a:off x="4648320" y="1905120"/>
            <a:ext cx="42670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990720" y="3049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45472"/>
                </a:solidFill>
                <a:latin typeface="Arial Black"/>
              </a:rPr>
              <a:t>reemplazo                             silicific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21" name="Image86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5334120" cy="40021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019920" y="205740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01016"/>
                </a:solidFill>
                <a:latin typeface="Times New Roman"/>
              </a:rPr>
              <a:t>Oolitos silicificado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1440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micritiz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38" name="52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5334120" cy="44578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943600" y="1600200"/>
            <a:ext cx="2666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545472"/>
                </a:solidFill>
                <a:latin typeface="Times New Roman"/>
              </a:rPr>
              <a:t>Algas endolíticas (verde azules) excavan en materiales esqueléticos. Posteriormente, cuando mueren, los espacios son rellenados por micrit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838080" y="304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micritiz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1" name="54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5486400" cy="44352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095880" y="27432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Oolitos micritizado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62120" y="228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compac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4" name="71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5334120" cy="43495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828800" y="5562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ostrácodo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6" name="Image52" descr=""/>
          <p:cNvPicPr/>
          <p:nvPr/>
        </p:nvPicPr>
        <p:blipFill>
          <a:blip r:embed="rId3"/>
          <a:stretch/>
        </p:blipFill>
        <p:spPr>
          <a:xfrm>
            <a:off x="5715000" y="3581280"/>
            <a:ext cx="3233880" cy="1657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791320" y="1295280"/>
            <a:ext cx="3352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Compactación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10101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Mecánica (temprana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10101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Química (Presión-disolución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69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5380200" cy="4267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83808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compac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1981080"/>
            <a:ext cx="22860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Times New Roman"/>
              </a:rPr>
              <a:t>En peloides, deformación.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Times New Roman"/>
              </a:rPr>
              <a:t>Posterior precipitación de cemento esparític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4495680" cy="2895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3808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45472"/>
                </a:solidFill>
                <a:latin typeface="Arial Black"/>
              </a:rPr>
              <a:t>cemen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228600" y="3809880"/>
            <a:ext cx="5715000" cy="23623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28600" y="762120"/>
            <a:ext cx="4495680" cy="2895480"/>
          </a:xfrm>
          <a:prstGeom prst="rect">
            <a:avLst/>
          </a:prstGeom>
          <a:noFill/>
          <a:ln w="1908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3809880"/>
            <a:ext cx="5715000" cy="2362320"/>
          </a:xfrm>
          <a:prstGeom prst="rect">
            <a:avLst/>
          </a:prstGeom>
          <a:noFill/>
          <a:ln w="1908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8380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01016"/>
                </a:solidFill>
                <a:latin typeface="Times New Roman"/>
              </a:rPr>
              <a:t>Principales ambientes de cementación y tipos de cemento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3276720" y="1752480"/>
            <a:ext cx="2286000" cy="5335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3733560" y="2286000"/>
            <a:ext cx="1904760" cy="45720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3962520" y="2590560"/>
            <a:ext cx="1676160" cy="53316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4038480" y="2895120"/>
            <a:ext cx="1828800" cy="7621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19920" y="35812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38680" y="2590920"/>
            <a:ext cx="3733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28289e"/>
                </a:solidFill>
                <a:latin typeface="Times New Roman"/>
              </a:rPr>
              <a:t>Sintaxial, mosaico, poiquilotópico (LMC)</a:t>
            </a:r>
            <a:endParaRPr b="0" lang="en-US" sz="15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62720" y="2057400"/>
            <a:ext cx="2819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28289e"/>
                </a:solidFill>
                <a:latin typeface="Times New Roman"/>
              </a:rPr>
              <a:t>Menisco y gravitacional</a:t>
            </a:r>
            <a:r>
              <a:rPr b="0" lang="es-MX" sz="1500" spc="-1" strike="noStrike">
                <a:solidFill>
                  <a:srgbClr val="28289e"/>
                </a:solidFill>
                <a:latin typeface="Times New Roman"/>
              </a:rPr>
              <a:t> (LMC)</a:t>
            </a:r>
            <a:endParaRPr b="0" lang="en-US" sz="15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43600" y="3505320"/>
            <a:ext cx="2057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28289e"/>
                </a:solidFill>
                <a:latin typeface="Times New Roman"/>
              </a:rPr>
              <a:t>Drusy (HMC-arag)</a:t>
            </a:r>
            <a:endParaRPr b="0" lang="en-US" sz="15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15000" y="2971800"/>
            <a:ext cx="2362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28289e"/>
                </a:solidFill>
                <a:latin typeface="Times New Roman"/>
              </a:rPr>
              <a:t>Drusy y menisco (arag)</a:t>
            </a:r>
            <a:endParaRPr b="0" lang="en-US" sz="15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56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5861160" cy="42145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58000" y="914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10280" y="47242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685800"/>
            <a:ext cx="2895480" cy="50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Dos generacione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1° cemento drusy (fibroso-isópaco): </a:t>
            </a:r>
            <a:r>
              <a:rPr b="0" lang="es-MX" sz="1800" spc="-1" strike="noStrike">
                <a:solidFill>
                  <a:srgbClr val="101016"/>
                </a:solidFill>
                <a:latin typeface="Times New Roman"/>
              </a:rPr>
              <a:t>cx de igual tamaño alrededor de los granos. La fabrica fibrosa-radial correspnde a aragonito (originalmente)  invertido a calcita, ó a </a:t>
            </a: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HMC</a:t>
            </a:r>
            <a:r>
              <a:rPr b="0" lang="es-MX" sz="1800" spc="-1" strike="noStrike">
                <a:solidFill>
                  <a:srgbClr val="101016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     </a:t>
            </a: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Zona freático marin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2° cemento en mosaico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     </a:t>
            </a: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Zona freático         continental (LMC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Calcita ferrosa .      Condiciones reductoras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3049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cemen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57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6553080" cy="47401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914400" y="2286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cemen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2057400"/>
            <a:ext cx="167652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Times New Roman"/>
              </a:rPr>
              <a:t>Cemento en menisco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Times New Roman"/>
              </a:rPr>
              <a:t>Aguas meteóricas en zona vadosa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Times New Roman"/>
              </a:rPr>
              <a:t>LMC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952880" y="2666880"/>
            <a:ext cx="1981440" cy="1752840"/>
          </a:xfrm>
          <a:prstGeom prst="line">
            <a:avLst/>
          </a:prstGeom>
          <a:ln w="28440">
            <a:solidFill>
              <a:srgbClr val="94b9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885840" y="2362320"/>
            <a:ext cx="3048120" cy="990360"/>
          </a:xfrm>
          <a:prstGeom prst="line">
            <a:avLst/>
          </a:prstGeom>
          <a:ln w="28440">
            <a:solidFill>
              <a:srgbClr val="94b9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20:31:07Z</dcterms:created>
  <dc:creator>Carolita</dc:creator>
  <dc:description/>
  <dc:language>en-US</dc:language>
  <cp:lastModifiedBy>cliente</cp:lastModifiedBy>
  <dcterms:modified xsi:type="dcterms:W3CDTF">2004-08-13T02:55:14Z</dcterms:modified>
  <cp:revision>22</cp:revision>
  <dc:subject/>
  <dc:title>Presentación de PowerPoint</dc:title>
</cp:coreProperties>
</file>