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4B2-F8E7-4E2C-95F2-F2A63E3B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359-1FC4-44A9-AED9-243E2AA4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CA0-CE2C-46B5-A326-A61C5786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E86-D92E-400F-8CBA-35C88658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EEA5-3F97-4346-B918-44E6E323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7ACC-5DF6-4851-9D50-588D7BCF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3D49-9775-4CAF-B30A-6FC28317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F47E-07C6-49A1-AA92-A906F6D5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35A9-88D9-4C18-AC11-9E2B88CD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CF6D-47CC-44F6-8330-36ECC1AF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ABC7-DCF2-4683-96CE-6F8BCFCD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C52-6500-4A83-B2FA-A43992A5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FC58-423D-4605-A3C7-1895F51B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B1EF-3CA2-45A2-9842-323CAF9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6A7F-7A6B-4129-9992-57C6E0F3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A0E9-3A40-4268-9D0F-DF9B4812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9D56-0D0F-4C2E-A2C6-4B1B315E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297-A595-4E4E-B7B6-D5DA0CA6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54D-1F26-4BFB-AD07-7936C25B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E95-2946-40D8-8CD0-DB398C4A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6F4-C8BF-40C8-8A90-138F7E2E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FE8-2251-431E-9EBB-25A5F21E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540-B77A-4362-B16A-8D7E98F0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F43-0F51-4228-81FF-A8F99C5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808-313F-4EB6-9958-52B04C4706A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50ED-21D8-4060-A2FD-0CE5CCD7E71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198108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DIAGENES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E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ROCAS CARBONATAD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7" name="59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5943600" cy="44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72200" y="1752480"/>
            <a:ext cx="29718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Cemento gravitac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vadosa desde agua de poros marinas en zonas intermarteales o supramareales, o bien de aguas meteoricas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Cemento en mosaico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017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5294160" cy="4038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2743200"/>
            <a:ext cx="24382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poiquilotópi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loquemos dolomiti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60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5467320" cy="464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19920" y="2286000"/>
            <a:ext cx="28954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en mosaico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ción composicional de c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emento de calcita ferrosa precipita en condiciones reductor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 freático continental (LM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62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038480" cy="3484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8120" y="914400"/>
            <a:ext cx="4114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sintaxial (</a:t>
            </a: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)            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Zona freático continenta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7" name="68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4014720" cy="3504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228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75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715000" cy="4133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133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Pseudoesparita en la matriz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7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69736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3808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057400"/>
            <a:ext cx="2438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Dolomita en una matriz de pseudoesparita con parches de micrit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Notar diferencias de tamañ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676520"/>
            <a:ext cx="38862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Cemento (ortoesparita)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ristales sobre bordes de gran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olaridad de tamaños, aumentan los cx desde las paredes hasta el centro del por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uniones triples enfaciales (180°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rect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usencia de estructuras relict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ímite entre partículas y cemento bien defini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os ejes mayores de los cristaless se orientan perpendiculares a los plannos de crecimien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1676520"/>
            <a:ext cx="35812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Pseudoespa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bordes de granos difuso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polariadad de tamañ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uniones triples enfacia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sutura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Mosaicos cristalinos con cristales de varios tamaños diferent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artículas esparíticas intersectadas por cristales de espari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Granos flotando, que no pueden sostenerse por si mism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resencia de fantasm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0" name="porosidad%20copiar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84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88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819760" cy="429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5530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er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90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530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móld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28600"/>
            <a:ext cx="761976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ROCESOS DIAGENÉTIC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Micritiz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ompac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ducción porosidad prim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emen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llena espacios que compactación no eliminó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Disolu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reación porosidad secund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emplazo (silicificación, dolomitización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quím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cristalización (pseudoesparita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fís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9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6095880" cy="4593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1440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ra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Geopétal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52680" y="990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1" name="99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212" name="100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411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emplazo                              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5" name="102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3886200"/>
          </a:xfrm>
          <a:prstGeom prst="rect">
            <a:avLst/>
          </a:prstGeom>
          <a:ln w="0">
            <a:noFill/>
          </a:ln>
        </p:spPr>
      </p:pic>
      <p:pic>
        <p:nvPicPr>
          <p:cNvPr id="216" name="103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414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de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8" name="107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2674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108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                             silicific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1" name="Image8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334120" cy="4002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19920" y="20574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Oolitos silicific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52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334120" cy="4457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943600" y="16002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imes New Roman"/>
              </a:rPr>
              <a:t>Algas endolíticas (verde azules) excavan en materiales esqueléticos. Posteriormente, cuando mueren, los espacios son rellenados por mic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54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86400" cy="443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5880" y="2743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olitos micritiz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71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334120" cy="434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288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stráco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Image52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3233880" cy="1657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91320" y="129528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ompactació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Mecánica (temprana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Química (Presión-disolució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69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380200" cy="426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981080"/>
            <a:ext cx="2286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En peloides, deformación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Posterior precipitación de cemento esparít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49568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5715000" cy="236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762120"/>
            <a:ext cx="4495680" cy="289548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809880"/>
            <a:ext cx="5715000" cy="236232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8380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Principales ambientes de cementación y tipos de cement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76720" y="1752480"/>
            <a:ext cx="228600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733560" y="2286000"/>
            <a:ext cx="190476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962520" y="2590560"/>
            <a:ext cx="1676160" cy="5331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038480" y="289512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35812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2590920"/>
            <a:ext cx="373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Sintaxial, mosaico, poiquilotópico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057400"/>
            <a:ext cx="2819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Menisco y gravitacional</a:t>
            </a: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50532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Drusy (HMC-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97180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Drusy y menisco (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56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5861160" cy="4214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0" y="914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4724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685800"/>
            <a:ext cx="289548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Dos generacion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 cemento drusy (fibroso-isópaco): 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x de igual tamaño alrededor de los granos. La fabrica fibrosa-radial correspnde a aragonito (originalmente)  invertido a calcita, ó a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HMC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mari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 cemento en mosaico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        continental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alcita ferrosa .      Condiciones reductor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57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6553080" cy="4740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1440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2057400"/>
            <a:ext cx="16765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en menis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guas meteóricas en zona vado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952880" y="2666880"/>
            <a:ext cx="1981440" cy="175284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5840" y="2362320"/>
            <a:ext cx="3048120" cy="99036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20:31:07Z</dcterms:created>
  <dc:creator>Carolita</dc:creator>
  <dc:description/>
  <dc:language>en-US</dc:language>
  <cp:lastModifiedBy>cliente</cp:lastModifiedBy>
  <dcterms:modified xsi:type="dcterms:W3CDTF">2004-08-13T02:55:14Z</dcterms:modified>
  <cp:revision>22</cp:revision>
  <dc:subject/>
  <dc:title>Presentación de PowerPoint</dc:title>
</cp:coreProperties>
</file>