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971232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38057-9FA6-40E0-88B0-D12C1E8A1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7D6E4-75B9-4084-8A46-AD7DF748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E58CB-9A22-481E-B774-B2B2CCEB3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C5081-60DE-45A5-AF75-B58CB0819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A442-E1C2-4B61-A8C8-EC5281061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B1DA-F189-4ACD-A457-B3848E4A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EFD6-6DE0-4795-BF5C-465ABD34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81A0-C958-47D8-81A4-EF9E37B5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0F02-6A36-446C-811F-E31287B7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378C-0ADC-4879-BBAA-514168B5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8BD9-4C81-43BE-9779-1EDFFB01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21C52-88A7-412A-B9E9-715307BF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F4F2-5813-4BEA-9586-2A91103E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758A-4C60-48F7-BB5B-1A813953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718A-CF46-4A9B-BEF0-AF494780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BA11-352B-4370-A559-CB76090B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A75C-CF41-4485-B5EF-2A85D6E56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4C2CD-38F1-496E-BDCD-AAEA2411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0382B-F58E-4AE7-9CD3-F429C6B4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B8342-38D5-41B9-9B1D-4C0CD88B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A9F11-FEDF-4FF1-8E75-28141807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B3C8D-7505-467E-A472-7C75DA29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F33BC-D297-44CC-AB04-E16E2957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C5A19-D23A-4F71-AA20-B3EB5A98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5275-1ABC-4785-B9DC-D205675B0B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3D24-BC68-4407-9733-B303F2D517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457200"/>
            <a:ext cx="9448920" cy="60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glas del curso y 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ol 1: rocas carbonatadas y siliciclás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ol 2: interpretación de ambientes sedi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rtaciones sobre ambientes sedimentarios (2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C1 &lt; 4,5 =&gt; examen parte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C2 &lt; 4,5 =&gt; examen parte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final: C1*0.40 + C2*0.40 + Disert*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i examen(parte dada)(40%) + control x(40%) + disertaciòn (20%) &lt; 3.7 =&gt; reprob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3.7 &lt; examen(parte dada)(40%) + controlx(40%) + disertaciòn(20%) &lt; 4.0 =&gt; recuper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recuperativo reemplaza la nota correspond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14400" y="609480"/>
            <a:ext cx="73152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loque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ioclast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granos esqueléticos, fósiles): Restos completos o fragmentados de los equeletos construidos por organismos. Ej: moluscos (pelecípodos, gasterópodos, cefalópodos), braquiópodos, equinodermos, briozoos, foraminíferos, corales, algas calcáreas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entes de formación: cualquier ambiente marino o continental. Los diferentes grupos, géneros o especies están restringidos a determinados subamb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erencia entre las conc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40000" y="1125360"/>
            <a:ext cx="6264000" cy="538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09896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57400" y="4572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Gastrópodos y fragmentos de bival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638680" cy="40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23880" y="4572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spina de equinodermo (sección transvers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8068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23880" y="3808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lonia de Bryozoos (sección transvers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67216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515760" y="247680"/>
            <a:ext cx="211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Ostraco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604188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33720" y="380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oraminíferos (nummuli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98968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094840" y="304920"/>
            <a:ext cx="45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Foraminíferos (Miliólid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790960" cy="41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905120" y="304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rbitoideos (foraminífe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51024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680560" y="95400"/>
            <a:ext cx="36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arofi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(algas de agua dul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523200" cy="47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90512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f: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oca Carbonatada es aquella que está formada por más del 50% de minerales carbonatados (aragonito, calcita alta en Mg, calcita baja en Mg, dolomita, otr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0880" y="171360"/>
            <a:ext cx="282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lgas codiac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102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722400" y="171360"/>
            <a:ext cx="17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lga ro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09624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362320" y="533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raquióp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0786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828800" y="4572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ragmento braquióp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30720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5800" y="1371600"/>
            <a:ext cx="769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anos agregad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grapestones, lumps): granos complejos que consisten en varias partículas (bioclastos, ooides, peloides) unidas entre sí por micrita o cemento esparítico. Normalmente tienen formas lobulares irregulares subredondeadas y botroid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entes de formación: submareales o intermareales con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lación restringid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176640" y="24768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Grano agre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21180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62120" y="762120"/>
            <a:ext cx="7238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loide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ranos no equeléticos, de forma ovoidal, compuestos por micrita con una estructura interna masiva. Tamaños variables, aunque generalmente entre 0,1 y 0,5 mm de diáme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en: producto de la actividad fecal de organismos (pellets fecales), por destrucción y homogeneización de la estructura interna de partículas previas por abrasión mecánica o erosión biológica, retrabajo y redondeamiento de barros calcáreos (intraclastos fin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entes de formación: ambientes protegidos (lagoons y llanuras mareales), en cavidades dentro de arrecif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796200" y="17136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elo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91336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04920" y="923760"/>
            <a:ext cx="8610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traclast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gmentos retrabajados de sedimento débilmente consolidado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ntro de una cuenca de sediment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la acción de corrientes, oleaje, deslizamiento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orfología típica es de fragmentos generalmente angulosos, de tamaños variables compuestos de barro micrítico y/o fragmentos de bioclastos u otros gra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entes de formación: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alquier zona de plataforma, talud o llanura abisal, con aumentos bruscos de energía que retrabaja sedimentos previamente depositados. Areas intermareales o supramareales, canales mareales, taludes marino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ido a su modo de formación, los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ósitos de intraclastos muestran una fuerte homogeneidad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cuanto a las características externas e internas de estos fragm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627000" y="95400"/>
            <a:ext cx="19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Intracla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2946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69000" y="685800"/>
            <a:ext cx="592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s de rocas carbonatad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22240" y="2784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191628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cas carbonatadas detrític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 formadas por fragmentos procedentes de la erosión de rocas carbonatadas preexistentes. Genéticamente son similares a un sedimento terrígeno, pero con los granos de naturaleza carbonat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4343400"/>
            <a:ext cx="8077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izas autócton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   constituidas por componentes carbonáticos originados primariamente, por procesos químicos o bioquímicos, en un determinado ambiente de sedimentación (continental o marino). Estas constituyen la mayor parte de las rocas carbonatadas dentro del registro estratigrá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52280" y="1066680"/>
            <a:ext cx="8991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traclastos (litoclasto)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gmentos redondeados o angulosos procedentes de la erosión de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cas carbonatad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ás antiguas y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ternas al ambiente de sediment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uera de la cuenca). La estructura interna corresponda a la de la roca carbonatada que ha sufrido procesos de diagénesis mas o menos inten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la distinción entre intraclastos y extraclastos, un extraclasto pos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siles más antiguos al contenido fosilífero de la ro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ículas truncadas en el borde del cla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idencias de cementación bien desarro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   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cia de vetillas rellenas por cementos o compactación in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des desgas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732480" y="30492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xtracla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28812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04920" y="620640"/>
            <a:ext cx="861048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olitos (ooides)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ranos no esqueléticos, de forma esférca o subesférica, que consisten en una o más láminas concéntricas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res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rededor de un núcleo (grano de cuarzo, bioclasto,...). Tamaños usualmente </a:t>
            </a:r>
            <a:r>
              <a:rPr b="0" lang="es-MX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nores a 2 mm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recuentemente entre 0,2-0,5 mm, con buena selección (mayores a 2 mm se llaman pisoides o pisolito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olitos superficiales: sólo una lámina alrededor del núcl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olitos normales: varias láminas alrededor del núcl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olitos compuestos: varios aloquemos menores envueltos en conjunto por láminas concéntric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entes de formación: por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pitación inorgánica (química)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aguas marinas tropicales, en áreas de plataforma somera ( menos de 5 metros de profundidad, a veces hasta 10-15 m.)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alta energía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ambién lagoons, ríos y lag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514600" y="5335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ol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29460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124080" y="457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ol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29424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175248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ncolitos (oncoides)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ranos no esqueléticos, con laminación micrítica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regular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rededor de un núcleo. La precipitación de las láminas es debido a la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dad de alg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 diferencia de los oolitos).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maño muy variable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asta centímetros y decímetros, con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ala selec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 diferencia de los oolit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stromatolitos también son construidos por la acción de algas, son matas de algas fosilizadas. Estas matas son formadas por filamentos de algas verde-azules. Las láminas, frecuentemente, tienen una forma irregular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057400" y="533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ncol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129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514600" y="457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stromatolitos (bloque puli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2182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209680" y="5335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stromatolitos (cor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3072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78720" y="628560"/>
            <a:ext cx="283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ituyente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773360"/>
            <a:ext cx="815328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oquemos (aloquímicos)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Cualquier tipo de partícula carbonatada de origen bioquímico o químico, que denota un alto grado de organización y complejidad y que normalmente ha sufrido algún grado de transpor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oudyOlSt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 Material intergranular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620640"/>
            <a:ext cx="860436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icrit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atriz o barro carbonatado compuesto por un agregado de cristales finos menores a 4 micras de aragonito a calcita rica en Mg. Por diagénesis se transforman en cristales de calcita baja en M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microscopio se ve como una masa homogénea criptocristalina y oscura, normalmente de color par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rige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 -Precipitación química (lagoons hipersalin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recipitación bioquímica por fotosíntesis de algas (lagoons y lagos de agua dul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esintegración de algas verdes (halimeda, penicillu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ctividad bioero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egradación mecánica de esqueletos bioclá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ctividad bacter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aparazones de nanoplac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importante mencionar que la micrita es un material primario en la formación de la roc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76360" y="981000"/>
            <a:ext cx="634860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09480" y="160020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mbientes de formación: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os protegidos,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baja energí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n caso contrario los pequeños cristales serían dispersados por las aguas cuando hay agitación. (lagoons continentales, lagoons, plataforma profunda, fondos abisal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14400" y="1523880"/>
            <a:ext cx="754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sparit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ortoesparita):  Término usado genéricamente para los cementos carbonatados. El cemento esparítico es un agregado de cristales de carbonato (aragonito o calcita) de tamaños mayores a las 4 micras que precipitan en los huecos existentes entre los granos de un sedimento carbonatado, o en los huecos internos de estas partícu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esparita: se forma por procesos neomórficos de recristal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emento esparí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44754" t="29862" r="8007" b="23820"/>
          <a:stretch/>
        </p:blipFill>
        <p:spPr>
          <a:xfrm>
            <a:off x="971640" y="1674720"/>
            <a:ext cx="705636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16:09:18Z</dcterms:created>
  <dc:creator>Carolita</dc:creator>
  <dc:description/>
  <dc:language>en-US</dc:language>
  <cp:lastModifiedBy>cliente</cp:lastModifiedBy>
  <dcterms:modified xsi:type="dcterms:W3CDTF">2004-08-06T03:52:06Z</dcterms:modified>
  <cp:revision>14</cp:revision>
  <dc:subject/>
  <dc:title>  Rocas carbonatadas  </dc:title>
</cp:coreProperties>
</file>