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2CE4-E873-4877-AE2E-B36CD545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8422-21B8-454E-8B13-CF71A82C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76491-ED11-4D3D-BC5E-38CFCF50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A635-762E-4805-A676-31AA0B9B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B271-E623-4CB0-9422-EF2AED68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AA12-656C-4DD6-A1FA-C1E319D6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A5B2-FA7D-4EA4-A540-CD401690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C917-1699-43AD-9125-3DF58192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34B8-98AB-41FA-A42E-7B6881A0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9D6F-8240-4266-96DE-6B35F5F9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C26C-AA9E-4FB5-AB7B-9ABECA54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82FA-1A8A-46BE-B75A-0F38081E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B680-189F-4FD7-95B5-7748E35B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96F4-5A51-4871-A803-A7BF4A4E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2017-D5A6-4B01-B570-CDA4A8F0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3075-A679-4672-A762-7E409F2C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D751-7375-49DA-A954-2EB3612F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CE570-5E1E-4659-B39A-46676A39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2B1E-2557-48C1-8860-D9F38596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D4D0-6A81-481B-BAE2-7AE8DFA1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0D39-950F-4E1C-A024-DB71A3A8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9DE1-626E-4654-BD7E-4EA9639F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65BB2-8823-484D-8BB3-D695BDF0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2C184-B417-41B1-A3A4-C989F62D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0882-4576-4D5D-9889-7EB86D0271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0E20-E007-4323-AA11-E8728E90C0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57200"/>
            <a:ext cx="9448920" cy="60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glas del curso y 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1: rocas carbonatadas y siliciclá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2: interpretación de ambientes sedi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rtaciones sobre ambientes sedimentarios (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1 &lt; 4,5 =&gt; examen part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2 &lt; 4,5 =&gt; examen part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final: C1*0.40 + C2*0.40 + Disert*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examen(parte dada)(40%) + control x(40%) + disertaciòn (20%) &lt; 3.7 =&gt; reprob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.7 &lt; examen(parte dada)(40%) + controlx(40%) + disertaciòn(20%) &lt; 4.0 =&gt; recupe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recuperativo reemplaza la nota correspo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609480"/>
            <a:ext cx="73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oqu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o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nos esqueléticos, fósiles): Restos completos o fragmentados de los equeletos construidos por organismos. Ej: moluscos (pelecípodos, gasterópodos, cefalópodos), braquiópodos, equinodermos, briozoos, foraminíferos, corales, algas calcárea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cualquier ambiente marino o continental. Los diferentes grupos, géneros o especies están restringidos a determinados subamb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 entre las con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0000" y="1125360"/>
            <a:ext cx="62640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09896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57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astrópodos y fragmentos de bival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6386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3880" y="457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pina de equinodermo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8068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lonia de Bryozoos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721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515760" y="24768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straco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418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33720" y="380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raminíferos (nummul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9896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94840" y="3049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oraminíferos (Mili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90512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oideos (foraminífe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5102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680560" y="95400"/>
            <a:ext cx="36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rof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algas de agua dul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2320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9051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ca Carbonatada es aquella que está formada por más del 50% de minerales carbonatados (aragonito, calcita alta en Mg, calcita baja en Mg, dolomita, o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0880" y="171360"/>
            <a:ext cx="28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s codiac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102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22400" y="17136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 r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62320" y="533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786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828800" y="457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ragmento 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07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13716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anos agregad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pestones, lumps): granos complejos que consisten en varias partículas (bioclastos, ooides, peloides) unidas entre sí por micrita o cemento esparítico. Normalmente tienen formas lobulares irregulares subredondeadas y botroid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submareales o intermareales con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ción restringid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76640" y="2476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no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2118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762120"/>
            <a:ext cx="723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loid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queléticos, de forma ovoidal, compuestos por micrita con una estructura interna masiva. Tamaños variables, aunque generalmente entre 0,1 y 0,5 mm de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en: producto de la actividad fecal de organismos (pellets fecales), por destrucción y homogeneización de la estructura interna de partículas previas por abrasión mecánica o erosión biológica, retrabajo y redondeamiento de barros calcáreos (intraclastos fin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ambientes protegidos (lagoons y llanuras mareales), en cavidades dentro de arrecif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6200" y="17136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elo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9133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92376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ra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trabajados de sedimento débilmente consolidado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ntro de una cuenca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acción de corrientes, oleaje, deslizamient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orfología típica es de fragmentos generalmente angulosos, de tamaños variables compuestos de barro micrítico y/o fragmentos de bioclastos u otros gr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lquier zona de plataforma, talud o llanura abisal, con aumentos bruscos de energía que retrabaja sedimentos previamente depositados. Areas intermareales o supramareales, canales mareales, taludes marin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o a su modo de formación, los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ósitos de intraclastos muestran una fuerte homogene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cuanto a las características externas e internas de estos fra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27000" y="9540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tracla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2946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69000" y="685800"/>
            <a:ext cx="592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s de rocas carbonat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2240" y="278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9162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as carbonatadas detrític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 formadas por fragmentos procedentes de la erosión de rocas carbonatadas preexistentes. Genéticamente son similares a un sedimento terrígeno, pero con los granos de naturaleza carbon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34340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zas autócton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   constituidas por componentes carbonáticos originados primariamente, por procesos químicos o bioquímicos, en un determinado ambiente de sedimentación (continental o marino). Estas constituyen la mayor parte de las rocas carbonatadas dentro del registro estrati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06668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aclastos (litoclasto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dondeados o angulosos procedentes de la erosión de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cas carbonatad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ás antiguas y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ernas al ambiente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era de la cuenca). La estructura interna corresponda a la de la roca carbonatada que ha sufrido procesos de diagénesis mas o menos inten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distinción entre intraclastos y extraclastos, un extraclasto pos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iles más antiguos al contenido fosilífero de la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ículas truncadas en el borde del 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ias de cementación bien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ia de vetillas rellenas por cementos o compactación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desgas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732480" y="3049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tra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28812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620640"/>
            <a:ext cx="86104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olitos (ooides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de forma esférca o subesférica, que consisten en una o más láminas concéntricas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 (grano de cuarzo, bioclasto,...). Tamaños usualmente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nores a 2 mm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recuentemente entre 0,2-0,5 mm, con buena selección (mayores a 2 mm se llaman pisoides o pisolit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superficiales: sólo una lámina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normales: varias láminas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compuestos: varios aloquemos menores envueltos en conjunto por láminas concéntric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por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pitación inorgánica (química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aguas marinas tropicales, en áreas de plataforma somera ( menos de 5 metros de profundidad, a veces hasta 10-15 m.)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lta energía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ambién lagoons, ríos y lag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146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2946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124080" y="457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942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7524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colitos (oncoide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con laminación micrític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gula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. La precipitación de las láminas es debido a l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dad de alg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maño muy variabl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sta centímetros y decímetros, con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la selec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tromatolitos también son construidos por la acción de algas, son matas de algas fosilizadas. Estas matas son formadas por filamentos de algas verde-azules. Las láminas, frecuentemente, tienen una forma irregular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057400" y="533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nc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29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14600" y="457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bloque pul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218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09680" y="533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c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072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78720" y="628560"/>
            <a:ext cx="28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yent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773360"/>
            <a:ext cx="81532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quemos (aloquímico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ualquier tipo de partícula carbonatada de origen bioquímico o químico, que denota un alto grado de organización y complejidad y que normalmente ha sufrido algún grado de transpor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oudyOl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 Material intergranula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20640"/>
            <a:ext cx="86043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c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atriz o barro carbonatado compuesto por un agregado de cristales finos menores a 4 micras de aragonito a calcita rica en Mg. Por diagénesis se transforman en cristales de calcita baja en M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microscopio se ve como una masa homogénea criptocristalina y oscura, normalmente de color par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ige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-Precipitación química (lagoons hipersali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ecipitación bioquímica por fotosíntesis de algas (lagoons y lagos de agua dul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sintegración de algas verdes (halimeda, penicill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ioero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gradación mecánica de esqueletos biocl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acte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parazones de nanoplac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importante mencionar que la micrita es un material primario en la formación de la roc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34860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16002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mbientes de formación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os protegidos,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baja energí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 caso contrario los pequeños cristales serían dispersados por las aguas cuando hay agitación. (lagoons continentales, lagoons, plataforma profunda, fondos abisa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152388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a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toesparita):  Término usado genéricamente para los cementos carbonatados. El cemento esparítico es un agregado de cristales de carbonato (aragonito o calcita) de tamaños mayores a las 4 micras que precipitan en los huecos existentes entre los granos de un sedimento carbonatado, o en los huecos internos de estas partíc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esparita: se forma por procesos neomórficos de recrist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emento esparí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44754" t="29862" r="8007" b="23820"/>
          <a:stretch/>
        </p:blipFill>
        <p:spPr>
          <a:xfrm>
            <a:off x="971640" y="1674720"/>
            <a:ext cx="70563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6:09:18Z</dcterms:created>
  <dc:creator>Carolita</dc:creator>
  <dc:description/>
  <dc:language>en-US</dc:language>
  <cp:lastModifiedBy>cliente</cp:lastModifiedBy>
  <dcterms:modified xsi:type="dcterms:W3CDTF">2004-08-06T03:52:06Z</dcterms:modified>
  <cp:revision>14</cp:revision>
  <dc:subject/>
  <dc:title>  Rocas carbonatadas  </dc:title>
</cp:coreProperties>
</file>