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9712325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0769DE-88A8-43C6-9D70-5C9400B85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3B2C31-04B8-471E-B5A9-51966A9BD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192830-E210-4E72-8BAA-E7BCA896E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3FF6B7-F377-4067-AD6D-9340D2B3E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C5A2B-1D2B-4DF0-A16E-E72EA2AED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94C0C-D50C-4BF8-A046-30B9673B6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F5E8E-DAD6-4D3A-B66B-1ED3412CA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18CB7-E01A-4331-815B-01E8E41BF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DE370-C502-495A-AFA6-38112EA94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C1F8F-E9E3-44C6-9CE8-C7D7DC25F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278F9-B0DC-4907-BA79-32A12ABD2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D9A938-0D59-41FF-9BCA-622225F2E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C0CD7-2166-4523-9985-FF12FD5B9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2EFA6-EB78-4613-876C-375013814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C9AE6-6AFE-4CE0-8A86-ADB1377FB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29293-3A44-47E0-BA59-FAC681914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6EEBF-EC55-4671-A091-98ED6919B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BC9518-84D3-4D81-92CC-4E430843E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7435FB-B220-4274-B48B-2568AA717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2C82BE-A470-42E5-9B38-74C155B3F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1320FF-0EFA-45B5-9306-8E8CED81C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E0095D-97D3-45D1-8C26-3B1C157A0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0A1AFA-AF35-41E0-85DA-BFA6B01AB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10D483-82E7-4C71-9222-D16EA3206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24A40-E338-4A6F-9663-37F473AB949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87861-8707-42D9-A94A-74E59C7B05B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457200"/>
            <a:ext cx="9448920" cy="602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Reglas del curso y no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trol 1: rocas carbonatadas y siliciclást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trol 2: interpretación de ambientes sediment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isertaciones sobre ambientes sedimentarios (20%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i C1 &lt; 4,5 =&gt; examen parte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i C2 &lt; 4,5 =&gt; examen parte 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ota final: C1*0.40 + C2*0.40 + Disert*0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Si examen(parte dada)(40%) + control x(40%) + disertaciòn (20%) &lt; 3.7 =&gt; reprob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3.7 &lt; examen(parte dada)(40%) + controlx(40%) + disertaciòn(20%) &lt; 4.0 =&gt; recuperativ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El recuperativo reemplaza la nota correspondi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914400" y="609480"/>
            <a:ext cx="7315200" cy="49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Aloque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Bioclastos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granos esqueléticos, fósiles): Restos completos o fragmentados de los equeletos construidos por organismos. Ej: moluscos (pelecípodos, gasterópodos, cefalópodos), braquiópodos, equinodermos, briozoos, foraminíferos, corales, algas calcáreas.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bientes de formación: cualquier ambiente marino o continental. Los diferentes grupos, géneros o especies están restringidos a determinados subambien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erencia entre las conch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440000" y="1125360"/>
            <a:ext cx="6264000" cy="538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409896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057400" y="45720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Gastrópodos y fragmentos de bival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676520" y="1523880"/>
            <a:ext cx="5638680" cy="405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523880" y="457200"/>
            <a:ext cx="579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Espina de equinodermo (sección transvers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676520" y="1600200"/>
            <a:ext cx="5806800" cy="422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523880" y="38088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Colonia de Bryozoos (sección transvers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752480" y="1600200"/>
            <a:ext cx="5672160" cy="408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3515760" y="247680"/>
            <a:ext cx="211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Ostracodo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676520" y="1523880"/>
            <a:ext cx="6041880" cy="44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2133720" y="38088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Foraminíferos (nummulit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676520" y="1447920"/>
            <a:ext cx="5989680" cy="44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2094840" y="304920"/>
            <a:ext cx="455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Foraminíferos (Miliólido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676520" y="1523880"/>
            <a:ext cx="5790960" cy="411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905120" y="30492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Orbitoideos (foraminífer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447920" y="1219320"/>
            <a:ext cx="6510240" cy="46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680560" y="95400"/>
            <a:ext cx="3637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Carofit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(algas de agua dulc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523880" y="1447920"/>
            <a:ext cx="6523200" cy="47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1905120"/>
            <a:ext cx="9144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Def: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oca Carbonatada es aquella que está formada por más del 50% de minerales carbonatados (aragonito, calcita alta en Mg, calcita baja en Mg, dolomita, otro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3170880" y="171360"/>
            <a:ext cx="282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Algas codiace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1447920" y="1371600"/>
            <a:ext cx="6510240" cy="46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3722400" y="171360"/>
            <a:ext cx="170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Alga ro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1523880" y="1447920"/>
            <a:ext cx="6096240" cy="44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2362320" y="533520"/>
            <a:ext cx="39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Braquiópo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600200" y="1600200"/>
            <a:ext cx="6078600" cy="44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1828800" y="45720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Fragmento braquiópo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523880" y="1600200"/>
            <a:ext cx="6307200" cy="464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685800" y="1371600"/>
            <a:ext cx="76960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Granos agregados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grapestones, lumps): granos complejos que consisten en varias partículas (bioclastos, ooides, peloides) unidas entre sí por micrita o cemento esparítico. Normalmente tienen formas lobulares irregulares subredondeadas y botroida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bientes de formación: submareales o intermareales con 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rculación restringida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3176640" y="247680"/>
            <a:ext cx="279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Grano agreg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600200" y="1295280"/>
            <a:ext cx="6211800" cy="44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762120" y="762120"/>
            <a:ext cx="7238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Peloides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granos no equeléticos, de forma ovoidal, compuestos por micrita con una estructura interna masiva. Tamaños variables, aunque generalmente entre 0,1 y 0,5 mm de diámetr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igen: producto de la actividad fecal de organismos (pellets fecales), por destrucción y homogeneización de la estructura interna de partículas previas por abrasión mecánica o erosión biológica, retrabajo y redondeamiento de barros calcáreos (intraclastos fino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bientes de formación: ambientes protegidos (lagoons y llanuras mareales), en cavidades dentro de arrecif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3796200" y="171360"/>
            <a:ext cx="156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Peloi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600200" y="1371600"/>
            <a:ext cx="5913360" cy="430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304920" y="923760"/>
            <a:ext cx="86104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Intraclastos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Fragmentos retrabajados de sedimento débilmente consolidado </a:t>
            </a:r>
            <a:r>
              <a:rPr b="0" lang="es-MX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dentro de una cuenca de sedimentación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or la acción de corrientes, oleaje, deslizamientos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morfología típica es de fragmentos generalmente angulosos, de tamaños variables compuestos de barro micrítico y/o fragmentos de bioclastos u otros gran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bientes de formación: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ualquier zona de plataforma, talud o llanura abisal, con aumentos bruscos de energía que retrabaja sedimentos previamente depositados. Areas intermareales o supramareales, canales mareales, taludes marinos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bido a su modo de formación, los 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pósitos de intraclastos muestran una fuerte homogeneidad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n cuanto a las características externas e internas de estos fragment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3627000" y="95400"/>
            <a:ext cx="190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Intraclas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1523880" y="1143000"/>
            <a:ext cx="6294600" cy="45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269000" y="685800"/>
            <a:ext cx="5926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ipos de rocas carbonatad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822240" y="2784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11280" y="1916280"/>
            <a:ext cx="8153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cas carbonatadas detríticas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  formadas por fragmentos procedentes de la erosión de rocas carbonatadas preexistentes. Genéticamente son similares a un sedimento terrígeno, pero con los granos de naturaleza carbonatad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09480" y="4343400"/>
            <a:ext cx="80773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izas autóctonas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    constituidas por componentes carbonáticos originados primariamente, por procesos químicos o bioquímicos, en un determinado ambiente de sedimentación (continental o marino). Estas constituyen la mayor parte de las rocas carbonatadas dentro del registro estratigráfic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52280" y="1066680"/>
            <a:ext cx="89917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xtraclastos (litoclasto)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fragmentos redondeados o angulosos procedentes de la erosión de </a:t>
            </a:r>
            <a:r>
              <a:rPr b="0" lang="es-MX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ocas carbonatadas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ás antiguas y </a:t>
            </a:r>
            <a:r>
              <a:rPr b="0" lang="es-MX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xternas al ambiente de sedimentación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fuera de la cuenca). La estructura interna corresponda a la de la roca carbonatada que ha sufrido procesos de diagénesis mas o menos intens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 la distinción entre intraclastos y extraclastos, un extraclasto pose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siles más antiguos al contenido fosilífero de la ro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tículas truncadas en el borde del clas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idencias de cementación bien desarroll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    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encia de vetillas rellenas por cementos o compactación inter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rdes desgast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3732480" y="304920"/>
            <a:ext cx="155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Extraclas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1523880" y="1219320"/>
            <a:ext cx="6288120" cy="453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304920" y="620640"/>
            <a:ext cx="8610480" cy="579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Oolitos (ooides)</a:t>
            </a:r>
            <a:r>
              <a:rPr b="0" lang="es-MX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granos no esqueléticos, de forma esférca o subesférica, que consisten en una o más láminas concéntricas </a:t>
            </a:r>
            <a:r>
              <a:rPr b="1" lang="es-MX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ulares</a:t>
            </a:r>
            <a:r>
              <a:rPr b="0" lang="es-MX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lrededor de un núcleo (grano de cuarzo, bioclasto,...). Tamaños usualmente </a:t>
            </a:r>
            <a:r>
              <a:rPr b="0" lang="es-MX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menores a 2 mm</a:t>
            </a:r>
            <a:r>
              <a:rPr b="0" lang="es-MX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frecuentemente entre 0,2-0,5 mm, con buena selección (mayores a 2 mm se llaman pisoides o pisolitos)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olitos superficiales: sólo una lámina alrededor del núcle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olitos normales: varias láminas alrededor del núcle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olitos compuestos: varios aloquemos menores envueltos en conjunto por láminas concéntrica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bientes de formación: por </a:t>
            </a:r>
            <a:r>
              <a:rPr b="1" lang="es-MX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cipitación inorgánica (química)</a:t>
            </a:r>
            <a:r>
              <a:rPr b="0" lang="es-MX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n aguas marinas tropicales, en áreas de plataforma somera ( menos de 5 metros de profundidad, a veces hasta 10-15 m.) </a:t>
            </a:r>
            <a:r>
              <a:rPr b="1" lang="es-MX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 alta energía</a:t>
            </a:r>
            <a:r>
              <a:rPr b="0" lang="es-MX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También lagoons, ríos y lago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2514600" y="53352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Ooli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371600" y="1295280"/>
            <a:ext cx="6294600" cy="45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3124080" y="457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Ooli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1447920" y="1295280"/>
            <a:ext cx="6294240" cy="45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228600" y="1752480"/>
            <a:ext cx="8534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Oncolitos (oncoides)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granos no esqueléticos, con laminación micrítica 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rregular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lrededor de un núcleo. La precipitación de las láminas es debido a la 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idad de algas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a diferencia de los oolitos). </a:t>
            </a:r>
            <a:r>
              <a:rPr b="0" lang="es-MX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amaño muy variable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hasta centímetros y decímetros, con </a:t>
            </a:r>
            <a:r>
              <a:rPr b="0" lang="es-MX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mala selección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a diferencia de los oolito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s estromatolitos también son construidos por la acción de algas, son matas de algas fosilizadas. Estas matas son formadas por filamentos de algas verde-azules. Las láminas, frecuentemente, tienen una forma irregular.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2057400" y="53352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Oncoli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1447920" y="1371600"/>
            <a:ext cx="612936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2514600" y="45720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Estromatolitos (bloque pulid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1447920" y="1371600"/>
            <a:ext cx="6218280" cy="45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2209680" y="53352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Estromatolitos (cor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1523880" y="1523880"/>
            <a:ext cx="6307200" cy="44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078720" y="628560"/>
            <a:ext cx="283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tituyentes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68360" y="1773360"/>
            <a:ext cx="8153280" cy="233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oquemos (aloquímicos)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 Cualquier tipo de partícula carbonatada de origen bioquímico o químico, que denota un alto grado de organización y complejidad y que normalmente ha sufrido algún grado de transport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oudyOlSt B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2. Material intergranular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620640"/>
            <a:ext cx="8604360" cy="70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</a:t>
            </a:r>
            <a:r>
              <a:rPr b="1" lang="es-MX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Micrita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matriz o barro carbonatado compuesto por un agregado de cristales finos menores a 4 micras de aragonito a calcita rica en Mg. Por diagénesis se transforman en cristales de calcita baja en M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 microscopio se ve como una masa homogénea criptocristalina y oscura, normalmente de color par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Origen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     -Precipitación química (lagoons hipersalin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Precipitación bioquímica por fotosíntesis de algas (lagoons y lagos de agua dulc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desintegración de algas verdes (halimeda, penicillus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Actividad bioeros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Degradación mecánica de esqueletos bioclást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Actividad bacteri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Caparazones de nanoplact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 importante mencionar que la micrita es un material primario en la formación de la roca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476360" y="981000"/>
            <a:ext cx="6348600" cy="45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609480" y="1600200"/>
            <a:ext cx="8001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Ambientes de formación: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dios protegidos, 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 baja energía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en caso contrario los pequeños cristales serían dispersados por las aguas cuando hay agitación. (lagoons continentales, lagoons, plataforma profunda, fondos abisale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914400" y="1523880"/>
            <a:ext cx="75438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 </a:t>
            </a:r>
            <a:r>
              <a:rPr b="1" lang="es-MX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sparita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ortoesparita):  Término usado genéricamente para los cementos carbonatados. El cemento esparítico es un agregado de cristales de carbonato (aragonito o calcita) de tamaños mayores a las 4 micras que precipitan en los huecos existentes entre los granos de un sedimento carbonatado, o en los huecos internos de estas partícul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seudoesparita: se forma por procesos neomórficos de recristaliz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Cemento esparít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rcRect l="44754" t="29862" r="8007" b="23820"/>
          <a:stretch/>
        </p:blipFill>
        <p:spPr>
          <a:xfrm>
            <a:off x="971640" y="1674720"/>
            <a:ext cx="7056360" cy="456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9T16:09:18Z</dcterms:created>
  <dc:creator>Carolita</dc:creator>
  <dc:description/>
  <dc:language>en-US</dc:language>
  <cp:lastModifiedBy>cliente</cp:lastModifiedBy>
  <dcterms:modified xsi:type="dcterms:W3CDTF">2004-08-06T03:52:06Z</dcterms:modified>
  <cp:revision>14</cp:revision>
  <dc:subject/>
  <dc:title>  Rocas carbonatadas  </dc:title>
</cp:coreProperties>
</file>