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EB22-E4D5-413D-9FDB-327083A0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B469-2E80-4202-809B-D95EDCE6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573A-81CC-416A-B779-7EA90B8C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8F3B-CE23-46C8-B842-39E08C3D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CB12-279D-4751-8D96-4980C51A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D4BB-1F55-4B79-8033-1D12AF44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3BCE-084C-44B4-BADA-D5F61CD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3025-DB16-48C6-960F-922EECB4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B1E9-5DE4-4AF8-83B5-6D1257BE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C526-AA71-4F77-BED4-92E1253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6B7E-19AC-4F33-BDDC-70AD2277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6412-040F-4E4D-A9BD-922B1003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63F1-DB9B-4A33-AF8D-0DEA015C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DA33-8075-48BF-A975-92D5A863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BA1E-E2FD-4576-B3D7-39110B95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C631-8871-42B6-9962-A59DFE7A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F237-CC79-4C88-AA9F-8ED7CC94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B6CF-AC4B-4FC4-8243-7B067832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6C19-B876-4F9F-8533-DA23C52A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0E6C-9151-4EB3-92C0-119BD2DC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9268-328D-4EE3-B53E-222E1471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71F4-2E63-4FA1-9253-52AF0409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2491-CD2D-47AB-B648-99E0A13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2102-EBC0-4416-AC00-F60EF97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925A-F988-4C2C-BE28-BD348B4AA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1F28-F1DA-4BAB-9E4D-C0F2B01573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44892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l curso y 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1: rocas carbonatadas y silicic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2: interpretación de ambientes sed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rtaciones sobre ambientes sedimentarios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1 &lt; 4,5 =&gt; examen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2 &lt; 4,5 =&gt; examen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inal: C1*0.40 + C2*0.40 + Disert*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examen(parte dada)(40%) + control x(40%) + disertaciòn (20%) &lt; 3.7 =&gt; re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7 &lt; examen(parte dada)(40%) + controlx(40%) + disertaciòn(20%) &lt; 4.0 =&gt; recu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ecuperativo reemplaza la nota 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609480"/>
            <a:ext cx="73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oqu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o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nos esqueléticos, fósiles): Restos completos o fragmentados de los equeletos construidos por organismos. Ej: moluscos (pelecípodos, gasterópodos, cefalópodos), braquiópodos, equinodermos, briozoos, foraminíferos, corales, algas calcáre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cualquier ambiente marino o continental. Los diferentes grupos, géneros o especies están restringidos a determinados subamb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 entre las con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0000" y="1125360"/>
            <a:ext cx="62640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989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57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rópodos y fragmentos de bival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pina de equinodermo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0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nia de Bryozoos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72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15760" y="2476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strac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41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aminíferos (nummu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89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94840" y="304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oraminíferos (Mili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oideos (foraminíf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102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80560" y="9540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ro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algas de agua dul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23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a Carbonatada es aquella que está formada por más del 50% de minerales carbonatados (aragonito, calcita alta en Mg, calcita baja en Mg, dolomita, 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0880" y="17136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s codia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1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22400" y="171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 r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78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288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ragmento 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7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os agreg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pestones, lumps): granos complejos que consisten en varias partículas (bioclastos, ooides, peloides) unidas entre sí por micrita o cemento esparítico. Normalmente tienen formas lobulares irregulares subredondeadas y botr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submareales o intermareales c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ción restring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76640" y="2476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no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118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7621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oid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queléticos, de forma ovoidal, compuestos por micrita con una estructura interna masiva. Tamaños variables, aunque generalmente entre 0,1 y 0,5 m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: producto de la actividad fecal de organismos (pellets fecales), por destrucción y homogeneización de la estructura interna de partículas previas por abrasión mecánica o erosión biológica, retrabajo y redondeamiento de barros calcáreos (intraclastos fi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ambientes protegidos (lagoons y llanuras mareales), en cavidades dentro de arrecif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6200" y="17136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l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13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92376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a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trabajados de sedimento débilmente consolidad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ntro de una cuenca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acción de corrientes, oleaje, deslizami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rfología típica es de fragmentos generalmente angulosos, de tamaños variables compuestos de barro micrítico y/o fragmentos de bioclastos u otros gr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lquier zona de plataforma, talud o llanura abisal, con aumentos bruscos de energía que retrabaja sedimentos previamente depositados. Areas intermareales o supramareales, canales mareales, taludes mari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su modo de formación, l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ósitos de intraclastos muestran una fuerte homogene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cuanto a las características externas e internas de estos fra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27000" y="95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tracla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94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69000" y="68580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s de rocas carbonat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16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as carbonatadas detrít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formadas por fragmentos procedentes de la erosión de rocas carbonatadas preexistentes. Genéticamente son similares a un sedimento terrígeno, pero con los granos de naturaleza carbon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3434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zas autócto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   constituidas por componentes carbonáticos originados primariamente, por procesos químicos o bioquímicos, en un determinado ambiente de sedimentación (continental o marino). Estas constituyen la mayor parte de las rocas carbonatadas dentro del registro estrati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0666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lastos (litoclasto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dondeados o angulosos procedentes de la erosión d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as carbonatad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antiguas y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s al ambiente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era de la cuenca). La estructura interna corresponda a la de la roca carbonatada que ha sufrido procesos de diagénesis mas o men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distinción entre intraclastos y extraclastos, un extraclasto po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iles más antiguos al contenido fosilífero de la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ículas truncadas en el borde del 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s de cementación bien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ia de vetillas rellenas por cementos o compactación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32480" y="304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ra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81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620640"/>
            <a:ext cx="861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olitos (ooides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de forma esférca o subesférica, que consisten en una o más láminas concéntric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 (grano de cuarzo, bioclasto,...). Tamaños usualmente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ores a 2 mm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ecuentemente entre 0,2-0,5 mm, con buena selección (mayores a 2 mm se llaman pisoides o pisoli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superficiales: sólo una lámina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normales: varias láminas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compuestos: varios aloquemos menores envueltos en conjunto por láminas concént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por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ción inorgánica (química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aguas marinas tropicales, en áreas de plataforma somera ( menos de 5 metros de profundidad, a veces hasta 10-15 m.)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ta energ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mbién lagoons, ríos y la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94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24080" y="457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94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colitos (oncoide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con laminación micrít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. La precipitación de las láminas es debido a l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de alg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año muy variabl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centímetros y decímetros, co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la selec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romatolitos también son construidos por la acción de algas, son matas de algas fosilizadas. Estas matas son formadas por filamentos de algas verde-azules. Las láminas, frecuentemente, tienen una forma irregul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74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nc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460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bloque pul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8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09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c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07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78720" y="628560"/>
            <a:ext cx="28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ye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53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quemos (aloquímico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ualquier tipo de partícula carbonatada de origen bioquímico o químico, que denota un alto grado de organización y complejidad y que normalmente ha sufrido algún grado de transpor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oudyOl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Material intergranul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20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triz o barro carbonatado compuesto por un agregado de cristales finos menores a 4 micras de aragonito a calcita rica en Mg. Por diagénesis se transforman en cristales de calcita baja en M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microscopio se ve como una masa homogénea criptocristalina y oscura, normalmente de color p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ige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-Precipitación química (lagoons hipersal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cipitación bioquímica por fotosíntesis de algas (lagoons y lagos de agua dul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sintegración de algas verdes (halimeda, penicill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ioero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gradación mecánica de esquele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parazones de nanoplac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mencionar que la micrita es un material primario en la formación de la ro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3486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6002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bientes de formación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s protegido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aja energí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caso contrario los pequeños cristales serían dispersados por las aguas cuando hay agitación. (lagoons continentales, lagoons, plataforma profunda, fondos abis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52388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toesparita):  Término usado genéricamente para los cementos carbonatados. El cemento esparítico es un agregado de cristales de carbonato (aragonito o calcita) de tamaños mayores a las 4 micras que precipitan en los huecos existentes entre los granos de un sedimento carbonatado, o en los huecos internos de estas partíc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esparita: se forma por procesos neomórficos de recrist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emento espa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4754" t="29862" r="8007" b="23820"/>
          <a:stretch/>
        </p:blipFill>
        <p:spPr>
          <a:xfrm>
            <a:off x="971640" y="1674720"/>
            <a:ext cx="7056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09:18Z</dcterms:created>
  <dc:creator>Carolita</dc:creator>
  <dc:description/>
  <dc:language>en-US</dc:language>
  <cp:lastModifiedBy>cliente</cp:lastModifiedBy>
  <dcterms:modified xsi:type="dcterms:W3CDTF">2004-08-06T03:52:06Z</dcterms:modified>
  <cp:revision>14</cp:revision>
  <dc:subject/>
  <dc:title>  Rocas carbonatadas  </dc:title>
</cp:coreProperties>
</file>