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7123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3858B-567C-40D1-9D87-DBB88F61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43E75-3830-4A72-A828-16D619E8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10B18-FA29-4F44-9461-62E0F68C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2B1A3-CF9D-471C-8C91-F8D8AED2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F103-77C7-451B-B2B9-EEDCC417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4092-018E-4CF7-AA5D-8ABDFB6D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F37C-FAEA-41A6-A938-BF2527DC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6436-E327-468D-A3BB-F06A628E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B9CE-11AF-4CDF-8206-5FF6F178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D4B7-24F6-48C3-B164-6EC58C65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BE8A-453B-4640-AA42-D6EF8D02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F8366-182C-4835-BF9E-64BFE671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F3EA-DF9B-4C4E-9850-76C64178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E8D3-EEA5-4CE9-A54F-D2F02E5B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3F3C-0482-4BE8-90B1-BC9E96DB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BFC8-F5A0-4795-972A-4E3F1B69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9234-F833-4FD2-B888-7EA897FA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A354E-7288-4C5C-B24D-4E64A876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A2C04-A339-48AF-9B4C-49EA0A33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235C1-61EB-485D-834B-0B1D7EB6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9F979-DD82-493F-BD77-5343DCFA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4AF3C-796B-47A1-B090-237D4DBD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8461C-0A6C-4CD7-993A-F25A9350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A01E3-35EB-47DF-8809-12B043A5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3F94-FF68-4E9E-8C26-131E25986F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7D8C-800A-4371-BA99-8CF5343531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57200"/>
            <a:ext cx="9448920" cy="60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glas del curso y 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 1: rocas carbonatadas y siliciclá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 2: interpretación de ambientes sedi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rtaciones sobre ambientes sedimentarios (2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C1 &lt; 4,5 =&gt; examen part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C2 &lt; 4,5 =&gt; examen parte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final: C1*0.40 + C2*0.40 + Disert*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 examen(parte dada)(40%) + control x(40%) + disertaciòn (20%) &lt; 3.7 =&gt; reprob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.7 &lt; examen(parte dada)(40%) + controlx(40%) + disertaciòn(20%) &lt; 4.0 =&gt; recupe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recuperativo reemplaza la nota correspond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609480"/>
            <a:ext cx="73152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oque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ioclast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ranos esqueléticos, fósiles): Restos completos o fragmentados de los equeletos construidos por organismos. Ej: moluscos (pelecípodos, gasterópodos, cefalópodos), braquiópodos, equinodermos, briozoos, foraminíferos, corales, algas calcárea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cualquier ambiente marino o continental. Los diferentes grupos, géneros o especies están restringidos a determinados subamb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cia entre las conc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40000" y="1125360"/>
            <a:ext cx="6264000" cy="53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09896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457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astrópodos y fragmentos de bival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63868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3880" y="4572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pina de equinodermo (sección transver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8068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3880" y="380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lonia de Bryozoos (sección transver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67216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515760" y="24768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Ostraco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0418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33720" y="380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oraminíferos (nummuli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98968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94840" y="30492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oraminíferos (Milióli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9096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90512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rbitoideos (foraminífe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5102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680560" y="95400"/>
            <a:ext cx="36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rof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(algas de agua dul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52320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9051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f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ca Carbonatada es aquella que está formada por más del 50% de minerales carbonatados (aragonito, calcita alta en Mg, calcita baja en Mg, dolomita, ot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0880" y="171360"/>
            <a:ext cx="282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lgas codiac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102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722400" y="171360"/>
            <a:ext cx="1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lga ro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362320" y="533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raquióp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0786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828800" y="457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ragmento braquióp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072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13716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anos agregad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rapestones, lumps): granos complejos que consisten en varias partículas (bioclastos, ooides, peloides) unidas entre sí por micrita o cemento esparítico. Normalmente tienen formas lobulares irregulares subredondeadas y botroid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submareales o intermareales con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ción restringid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176640" y="24768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rano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2118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2120" y="762120"/>
            <a:ext cx="7238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loid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anos no equeléticos, de forma ovoidal, compuestos por micrita con una estructura interna masiva. Tamaños variables, aunque generalmente entre 0,1 y 0,5 mm de diá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en: producto de la actividad fecal de organismos (pellets fecales), por destrucción y homogeneización de la estructura interna de partículas previas por abrasión mecánica o erosión biológica, retrabajo y redondeamiento de barros calcáreos (intraclastos fin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ambientes protegidos (lagoons y llanuras mareales), en cavidades dentro de arrecif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796200" y="17136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elo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91336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923760"/>
            <a:ext cx="8610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raclast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gmentos retrabajados de sedimento débilmente consolidado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ntro de una cuenca de sediment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a acción de corrientes, oleaje, deslizamient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orfología típica es de fragmentos generalmente angulosos, de tamaños variables compuestos de barro micrítico y/o fragmentos de bioclastos u otros gr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alquier zona de plataforma, talud o llanura abisal, con aumentos bruscos de energía que retrabaja sedimentos previamente depositados. Areas intermareales o supramareales, canales mareales, taludes marin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do a su modo de formación, los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ósitos de intraclastos muestran una fuerte homogeneidad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cuanto a las características externas e internas de estos frag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27000" y="9540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tracla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2946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69000" y="685800"/>
            <a:ext cx="592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s de rocas carbonata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2240" y="278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91628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as carbonatadas detrític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 formadas por fragmentos procedentes de la erosión de rocas carbonatadas preexistentes. Genéticamente son similares a un sedimento terrígeno, pero con los granos de naturaleza carbon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343400"/>
            <a:ext cx="807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izas autócton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   constituidas por componentes carbonáticos originados primariamente, por procesos químicos o bioquímicos, en un determinado ambiente de sedimentación (continental o marino). Estas constituyen la mayor parte de las rocas carbonatadas dentro del registro estrati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280" y="106668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raclastos (litoclasto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gmentos redondeados o angulosos procedentes de la erosión de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cas carbonatad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ás antiguas y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ernas al ambiente de sediment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uera de la cuenca). La estructura interna corresponda a la de la roca carbonatada que ha sufrido procesos de diagénesis mas o menos inten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 distinción entre intraclastos y extraclastos, un extraclasto pos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iles más antiguos al contenido fosilífero de la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ículas truncadas en el borde del cla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ias de cementación bien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cia de vetillas rellenas por cementos o compactación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desgas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732480" y="30492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tracla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28812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4920" y="620640"/>
            <a:ext cx="86104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olitos (ooides)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anos no esqueléticos, de forma esférca o subesférica, que consisten en una o más láminas concéntricas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es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rededor de un núcleo (grano de cuarzo, bioclasto,...). Tamaños usualmente 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nores a 2 mm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recuentemente entre 0,2-0,5 mm, con buena selección (mayores a 2 mm se llaman pisoides o pisolito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litos superficiales: sólo una lámina alrededor del núcl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litos normales: varias láminas alrededor del núcl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litos compuestos: varios aloquemos menores envueltos en conjunto por láminas concéntric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por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pitación inorgánica (química)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aguas marinas tropicales, en áreas de plataforma somera ( menos de 5 metros de profundidad, a veces hasta 10-15 m.)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lta energía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ambién lagoons, ríos y lag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14600" y="533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2946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124080" y="457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9424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175248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ncolitos (oncoides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anos no esqueléticos, con laminación micrítica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gular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rededor de un núcleo. La precipitación de las láminas es debido a la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dad de alg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diferencia de los oolitos).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maño muy variabl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sta centímetros y decímetros, con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la selec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diferencia de los oolit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stromatolitos también son construidos por la acción de algas, son matas de algas fosilizadas. Estas matas son formadas por filamentos de algas verde-azules. Las láminas, frecuentemente, tienen una forma irregular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057400" y="533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nc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129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14600" y="457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romatolitos (bloque pul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2182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09680" y="533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romatolitos (c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3072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78720" y="628560"/>
            <a:ext cx="28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tuyente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773360"/>
            <a:ext cx="81532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quemos (aloquímicos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Cualquier tipo de partícula carbonatada de origen bioquímico o químico, que denota un alto grado de organización y complejidad y que normalmente ha sufrido algún grado de transpor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oudyOlS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 Material intergranula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20640"/>
            <a:ext cx="86043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crit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atriz o barro carbonatado compuesto por un agregado de cristales finos menores a 4 micras de aragonito a calcita rica en Mg. Por diagénesis se transforman en cristales de calcita baja en M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microscopio se ve como una masa homogénea criptocristalina y oscura, normalmente de color par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ige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-Precipitación química (lagoons hipersalin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ecipitación bioquímica por fotosíntesis de algas (lagoons y lagos de agua dul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sintegración de algas verdes (halimeda, penicill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ctividad bioero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gradación mecánica de esqueletos bioclá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ctividad bacter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aparazones de nanoplac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importante mencionar que la micrita es un material primario en la formación de la roc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34860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09480" y="16002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mbientes de formación: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os protegidos,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baja energí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 caso contrario los pequeños cristales serían dispersados por las aguas cuando hay agitación. (lagoons continentales, lagoons, plataforma profunda, fondos abisal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400" y="152388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parit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rtoesparita):  Término usado genéricamente para los cementos carbonatados. El cemento esparítico es un agregado de cristales de carbonato (aragonito o calcita) de tamaños mayores a las 4 micras que precipitan en los huecos existentes entre los granos de un sedimento carbonatado, o en los huecos internos de estas partícu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esparita: se forma por procesos neomórficos de recristal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emento esparí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44754" t="29862" r="8007" b="23820"/>
          <a:stretch/>
        </p:blipFill>
        <p:spPr>
          <a:xfrm>
            <a:off x="971640" y="1674720"/>
            <a:ext cx="705636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6:09:18Z</dcterms:created>
  <dc:creator>Carolita</dc:creator>
  <dc:description/>
  <dc:language>en-US</dc:language>
  <cp:lastModifiedBy>cliente</cp:lastModifiedBy>
  <dcterms:modified xsi:type="dcterms:W3CDTF">2004-08-06T03:52:06Z</dcterms:modified>
  <cp:revision>14</cp:revision>
  <dc:subject/>
  <dc:title>  Rocas carbonatadas  </dc:title>
</cp:coreProperties>
</file>