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4CDF-BF70-4FB6-832D-52BC1732C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A582-1D9B-40A4-9523-1C2352E4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777B-E886-499D-9E01-DD1D4A679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A149-9474-449F-9DBC-CE51B0D64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1956-9A72-453B-9F3F-8EF906DD9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BF36-08C5-4326-881E-C841E0F86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F5AD-140A-4DF7-B0E4-CF5B27BB9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1D2D-046E-4960-B5F5-CAD408C2C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F04A-7327-40BB-A82C-7A191E95B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01CD-BCB6-434D-B9C1-0C1FAF2F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09C0-B27B-471D-865C-5D429564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9DE4-92DF-4A17-A63D-96283C71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F29CC-CF23-43F2-ADA1-B0DACBD9BC6D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1523520"/>
            <a:ext cx="8763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Auxiliar 6</a:t>
            </a:r>
            <a:br>
              <a:rPr sz="4000"/>
            </a:br>
            <a:r>
              <a:rPr b="1" lang="es-ES_tradnl" sz="4800" spc="-1" strike="noStrike">
                <a:solidFill>
                  <a:srgbClr val="000000"/>
                </a:solidFill>
                <a:latin typeface="Times New Roman"/>
              </a:rPr>
              <a:t>ANALISIS DE PROCEDENCIA DE SEDIMENTOS TERRIGENOS</a:t>
            </a:r>
            <a:br>
              <a:rPr sz="4000"/>
            </a:br>
            <a:br>
              <a:rPr sz="40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viernes 10 de septiembre de 2004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51920" y="540972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stribución de las arenas derivadas de diferentes procedencias con base en los diagramas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FQtL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FQmLt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de Dickinson (198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381880" cy="307836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228240" y="2282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CEDENCIA Y AMBIENTE TECTON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INTRODUC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análisis de procedencia se utilizan para tratar de localizar el área fuente de la que derivan determinados sedimentos a partir de su estudio petrográf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rven para hacer reconstrucciones paleogeográficas, paleoclimas, régimen tectónico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e método NO se debe tomar con completa confianza. Se deben realizar otro tipo de estudios (geoquímica, catodoluminiscencia, geología regional, etc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arenas son los sedimentos detríticos más utilizados en estudios de proced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servan composición y textura original cuando están formadas por F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INTRODUC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to grado de madurez puede alterar interpretación de la composición de la roca total, ya que fragmentos menos resistentes se desintegran, enriquecendo relativamente granos más resist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dimentos con alto porcentaje de matriz (Wackas) NO permiten buena determinación de la fu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jor tipo de roca son arenitas inmaduras a submaduras y poco reemplazo o alteración post - depósi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étodo petrográfico más utilizado es el conteo de granos con el microscop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TIPOS DE GR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UARZ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M (Qzo monocristalino):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odos los qzos &gt; 0,0625 mm, aunque hayan varios granos jun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P (Qzo policristalino):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granos &lt; 0,0625 m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ELDESP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 distingue entre Pg y F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RAGMENTOS LITIC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 distingue entre LV (líticos volcánicos), LS (líticos sedimentarios + metamórfic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 granos son &gt; 0,0625 mm, se consideran como granos individuales (de Qz, Pg, FdK, et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R son todos aquellos formados por granos &lt; 0,0625 m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CALA DE MUESTR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360" y="4571640"/>
            <a:ext cx="8991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rimer orden: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áreas de drenaje local. Composición de sedimentos controladas por roca fu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Segundo orden: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st. Drenaje más regional. Composición de diversas áreas e influencia transporte. Ambiente tectónico determina roca expuesta de la fu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Tercer orden: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stemas fluviales mayores y ambientes costeros. Suma de todos los factores que influyeron en formación (clima, transporte, composición roca fuente, meteorización). Indicadores de ambientes tectónicos a nivel continental.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828800" y="1192320"/>
            <a:ext cx="5181480" cy="30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CEDENCIA Y AMBIENTE TECTON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540972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iagrama QFL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Dickinson, 1986). Q = cuarzo total, F = feldespatos monocristalinos totales, L = fragmentos líticos inestables totales (L = Lv + Ls), donde Lv = FL volcanogénicos y  Ls = FL sedimentarios y metasedimentarios, excepto chert y metachert. Flechas discontinuas indican incremento de madurez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447920" y="1247760"/>
            <a:ext cx="5943600" cy="39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OCEDENCIA Y AMBIENTE TECTON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RATON ESTABL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lataforma estable o en el interior del contin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eniscas cuarzosas (ricas en Qt) con altas relaciones Qm/Qp y K/P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cos fragmentos de rocas, en particular vocán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BASAMENTO LEVANTADO (basament uplift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orde de rift o rupura transform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eniscas cuarzofeldespáticas (ricas en Qm y 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centraciones de Lt y relaciones Qm/F y K/P similares a las de la fuente de apor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OCEDENCIA Y AMBIENTE TECTON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RCO MAGMAT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co de isla o arco contin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eniscas volcaniclásticas y feldespatolíticas (ricas en 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tas concentraciones de P/K y Lv/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 hay rx plutónica expuesta, entonces areniscas son qzo - feldepáticas (ricas en Qm y F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OROGENO RECICLAD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lejos de subducción o cinturones de pliegues y cabalgadu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eniscas cuarzolíticas (ricas en Qt y L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ajas concentraciones de F y L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laciones variables de Qm/Qp y Qp/L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76320" y="571464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iagramas de Dickinson (1986)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. Qt = qzo total, Qm = qzo monocristalino, Qp = qzo policristalino, F = feldespatos monocristalinos totales, P = Plagioclasa, K = feldespato potásico, L = FL totales + qzo policristalino, Lt = FL policristalinos totales, Lv = FL volcánicos, Ls = FL sedimenta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533520" y="304920"/>
            <a:ext cx="807696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CEDENCIA Y AMBIENTE TECTON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5800" y="1252440"/>
            <a:ext cx="754380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7T18:04:05Z</dcterms:created>
  <dc:creator>Marcelo Farías</dc:creator>
  <dc:description/>
  <dc:language>en-US</dc:language>
  <cp:lastModifiedBy>Marcelo Farías</cp:lastModifiedBy>
  <dcterms:modified xsi:type="dcterms:W3CDTF">2004-09-07T20:42:24Z</dcterms:modified>
  <cp:revision>5</cp:revision>
  <dc:subject/>
  <dc:title>ESCALA DE MUESTREO</dc:title>
</cp:coreProperties>
</file>