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994-E950-40DF-8B1B-A7F12824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473-A255-4E7A-AA7C-F8EA428A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0CC-F2E7-4DE3-B7DA-9B1E1D24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0A8-887F-4C0B-BC2F-F382EB46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FDA-F48A-4F94-932A-E599D1C4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8DC-CAA2-4539-9C9D-E1EB0313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E77-EE01-4CFD-B1BC-239008B3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7EA-04D0-43C7-88A6-F8F4A42E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DA4-0039-4532-8686-01F1D07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959-511F-47E8-BF4F-0873E367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883-807D-4D31-8AF4-32B3235E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863-8B34-48FC-93BD-1FAD2374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4D03-8FEE-4CE1-BA90-E9D96A009ED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35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uxiliar 6</a:t>
            </a:r>
            <a:br>
              <a:rPr sz="4000"/>
            </a:b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ALISIS DE PROCEDENCIA DE SEDIMENTOS TERRIGENOS</a:t>
            </a:r>
            <a:br>
              <a:rPr sz="40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iernes 10 de septiembre de 200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1920" y="54097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ribución de las arenas derivadas de diferentes procedencias con base en los diagrama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FQt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QmLt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de Dickinson (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3078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nálisis de procedencia se utilizan para tratar de localizar el área fuente de la que derivan determinados sedimentos a partir de su estudio petr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rven para hacer reconstrucciones paleogeográficas, paleoclimas, régimen tectón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método NO se debe tomar con completa confianza. Se deben realizar otro tipo de estudios (geoquímica, catodoluminiscencia, geología regional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arenas son los sedimentos detríticos más utilizados en estudios de proced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ervan composición y textura original cuando están formadas por F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o grado de madurez puede alterar interpretación de la composición de la roca total, ya que fragmentos menos resistentes se desintegran, enriquecendo relativamente granos má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dimentos con alto porcentaje de matriz (Wackas) NO permiten buena determinación de la fu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tipo de roca son arenitas inmaduras a submaduras y poco reemplazo o alteración post - depós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petrográfico más utilizado es el conteo de granos con el microscop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IPOS DE GR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RZ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M (Qzo mono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dos los qzos &gt; 0,0625 mm, aunque hayan varios granos j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P (Qzo policristalino)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LDESP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Pg y F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GMENTOS LI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tingue entre LV (líticos volcánicos), LS (líticos sedimentarios + metamór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granos son &gt; 0,0625 mm, se consideran como granos individuales (de Qz, Pg, FdK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 son todos aquellos formados por granos &lt; 0,0625 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ALA DE MUESTR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5716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im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 de drenaje local. Composición de sedimentos controladas por roc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gundo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. Drenaje más regional. Composición de diversas áreas e influencia transporte. Ambiente tectónico determina roca expuesta de la fu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ercer orde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fluviales mayores y ambientes costeros. Suma de todos los factores que influyeron en formación (clima, transporte, composición roca fuente, meteorización). Indicadores de ambientes tectónicos a nivel continental.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192320"/>
            <a:ext cx="51814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54097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QF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ickinson, 1986). Q = cuarzo total, F = feldespatos monocristalinos totales, L = fragmentos líticos inestables totales (L = Lv + Ls), donde Lv = FL volcanogénicos y  Ls = FL sedimentarios y metasedimentarios, excepto chert y metachert. Flechas discontinuas indican incremento de madu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59436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ATON ES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taforma estable o en el interior del conti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sas (ricas en Qt) con altas relaciones Qm/Qp y K/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s fragmentos de rocas, en particular vocá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ASAMENTO LEVANTADO (basament uplif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rde de rift o rupura transform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feldespáticas (ricas en Qm y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entraciones de Lt y relaciones Qm/F y K/P similares a las de la fuente de a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CO MAGMA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o de isla o arco contin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volcaniclásticas y feldespatolíticas (ricas en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s concentraciones de P/K y Lv/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hay rx plutónica expuesta, entonces areniscas son qzo - feldepáticas (ricas en Qm y 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OGENO RECICL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os de subducción o cinturones de pliegues y cabalgad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niscas cuarzolíticas (ricas en Qt y 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s concentraciones de F y L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 variables de Qm/Qp y Qp/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5714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s de Dickinson (1986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Qt = qzo total, Qm = qzo monocristalino, Qp = qzo policristalino, F = feldespatos monocristalinos totales, P = Plagioclasa, K = feldespato potásico, L = FL totales + qzo policristalino, Lt = FL policristalinos totales, Lv = FL volcánicos, Ls = FL sedimen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DENCIA Y AMBIENTE TECTO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52440"/>
            <a:ext cx="75438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4:05Z</dcterms:created>
  <dc:creator>Marcelo Farías</dc:creator>
  <dc:description/>
  <dc:language>en-US</dc:language>
  <cp:lastModifiedBy>Marcelo Farías</cp:lastModifiedBy>
  <dcterms:modified xsi:type="dcterms:W3CDTF">2004-09-07T20:42:24Z</dcterms:modified>
  <cp:revision>5</cp:revision>
  <dc:subject/>
  <dc:title>ESCALA DE MUESTREO</dc:title>
</cp:coreProperties>
</file>