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B8E-9715-4FDB-B178-01E5323B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2106-0422-4BB0-9C92-5AA4CF89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7A1-BBC1-4E4A-BDE0-1D5D7E14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7DD6-193A-4982-AA88-A817DC89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A4AC-76BB-4325-A7BE-334341CC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0C0-C1D5-4498-935A-2856B82F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CD6F-CF07-4AD3-9589-18228DCA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D3C-BD52-405A-B142-7E776532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47A-1B11-4E99-BEA5-6B3A6CAC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CE24-18FE-4A99-8D4E-095BB215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9D71-3541-4718-BF37-84243396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8B58-B50C-4ABF-8839-812414D8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B5CC-AC51-4BC5-AC46-8D4B999BA99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2352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uxiliar 6</a:t>
            </a:r>
            <a:br>
              <a:rPr sz="4000"/>
            </a:b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ANALISIS DE PROCEDENCIA DE SEDIMENTOS TERRIGENOS</a:t>
            </a:r>
            <a:br>
              <a:rPr sz="4000"/>
            </a:br>
            <a:br>
              <a:rPr sz="40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iernes 10 de septiembre de 2004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1920" y="54097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tribución de las arenas derivadas de diferentes procedencias con base en los diagramas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FQt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QmLt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de Dickinson (198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81880" cy="3078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análisis de procedencia se utilizan para tratar de localizar el área fuente de la que derivan determinados sedimentos a partir de su estudio petro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rven para hacer reconstrucciones paleogeográficas, paleoclimas, régimen tectónic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método NO se debe tomar con completa confianza. Se deben realizar otro tipo de estudios (geoquímica, catodoluminiscencia, geología regional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arenas son los sedimentos detríticos más utilizados en estudios de proced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ervan composición y textura original cuando están formadas por F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o grado de madurez puede alterar interpretación de la composición de la roca total, ya que fragmentos menos resistentes se desintegran, enriquecendo relativamente granos más res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dimentos con alto porcentaje de matriz (Wackas) NO permiten buena determinación de la fu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 tipo de roca son arenitas inmaduras a submaduras y poco reemplazo o alteración post - depós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étodo petrográfico más utilizado es el conteo de granos con el microscop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IPOS DE GR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RZ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M (Qzo monocristalino)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dos los qzos &gt; 0,0625 mm, aunque hayan varios granos j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P (Qzo policristalino)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ranos &lt; 0,0625 m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ELDESP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istingue entre Pg y F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GMENTOS LI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istingue entre LV (líticos volcánicos), LS (líticos sedimentarios + metamórf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 granos son &gt; 0,0625 mm, se consideran como granos individuales (de Qz, Pg, FdK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R son todos aquellos formados por granos &lt; 0,0625 m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ALA DE MUESTR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457164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imer orden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áreas de drenaje local. Composición de sedimentos controladas por roca fu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egundo orden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. Drenaje más regional. Composición de diversas áreas e influencia transporte. Ambiente tectónico determina roca expuesta de la fu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ercer orden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s fluviales mayores y ambientes costeros. Suma de todos los factores que influyeron en formación (clima, transporte, composición roca fuente, meteorización). Indicadores de ambientes tectónicos a nivel continental.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1192320"/>
            <a:ext cx="518148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54097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 QF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ickinson, 1986). Q = cuarzo total, F = feldespatos monocristalinos totales, L = fragmentos líticos inestables totales (L = Lv + Ls), donde Lv = FL volcanogénicos y  Ls = FL sedimentarios y metasedimentarios, excepto chert y metachert. Flechas discontinuas indican incremento de madur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1247760"/>
            <a:ext cx="594360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RATON ESTAB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taforma estable o en el interior del conti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sas (ricas en Qt) con altas relaciones Qm/Qp y K/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os fragmentos de rocas, en particular vocá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ASAMENTO LEVANTADO (basament uplift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rde de rift o rupura transform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feldespáticas (ricas en Qm y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centraciones de Lt y relaciones Qm/F y K/P similares a las de la fuente de a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RCO MAGMAT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co de isla o arco contin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volcaniclásticas y feldespatolíticas (ricas en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s concentraciones de P/K y Lv/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hay rx plutónica expuesta, entonces areniscas son qzo - feldepáticas (ricas en Qm y 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OGENO RECICL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lejos de subducción o cinturones de pliegues y cabalgad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líticas (ricas en Qt y 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as concentraciones de F y L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laciones variables de Qm/Qp y Qp/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320" y="57146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s de Dickinson (1986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Qt = qzo total, Qm = qzo monocristalino, Qp = qzo policristalino, F = feldespatos monocristalinos totales, P = Plagioclasa, K = feldespato potásico, L = FL totales + qzo policristalino, Lt = FL policristalinos totales, Lv = FL volcánicos, Ls = FL sediment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252440"/>
            <a:ext cx="754380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8:04:05Z</dcterms:created>
  <dc:creator>Marcelo Farías</dc:creator>
  <dc:description/>
  <dc:language>en-US</dc:language>
  <cp:lastModifiedBy>Marcelo Farías</cp:lastModifiedBy>
  <dcterms:modified xsi:type="dcterms:W3CDTF">2004-09-07T20:42:24Z</dcterms:modified>
  <cp:revision>5</cp:revision>
  <dc:subject/>
  <dc:title>ESCALA DE MUESTREO</dc:title>
</cp:coreProperties>
</file>