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660-014E-4DCD-9FF6-068B6871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035-4BB5-48F2-A158-12856269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B0C-5CA7-49A2-8114-5F3B37FD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774-3E5A-4860-A4C8-E5112592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98EE-4EEA-4E40-B8E9-8CDC9CDB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2406-EAC4-486D-A045-A985F4F9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5E1F-53F5-4D57-954F-1B96C10F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6A69-3AE3-452F-8799-013C82DE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20B6-A407-4E5F-9E97-318F433D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9410-531C-4308-A428-DA75460E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8F06-59E3-4EA7-920A-BDF8D02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3D3-C075-46A8-8C86-5460B5EC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0FBC-F6AA-4EC3-8B71-D4B1C095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E411-6C54-47C0-B120-4FABB8B5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C6EA-E3C8-4D31-90A4-3352417C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9164-200F-46F3-99F7-8E47405E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23CD-3BFA-4B17-8336-FDB671EF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0C5-A9F0-4A65-9AE8-A1464D45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8CE-02B5-4B26-8DF2-7921AFED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E64-65D2-4581-BB66-D5B23FAE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74F-9829-43C2-A9B5-B6A208E1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402-C386-48E6-BA15-00FDC35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F3A-34B0-41C7-80FB-002835B5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0C5-7F61-4094-B4A2-252172F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72A9-628B-4926-990B-69F99E6DF78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8AFF-7017-436E-85E6-DB7E93E9E2B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ROCAS SILICICLÁSTICAS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POLICRISTALINO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5229" t="21470" r="30582" b="16065"/>
          <a:stretch/>
        </p:blipFill>
        <p:spPr>
          <a:xfrm>
            <a:off x="1260360" y="1268280"/>
            <a:ext cx="662148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ESQUISTOSO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1270080"/>
            <a:ext cx="72723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POLICRISTALINO. NICOLES PARALELOS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33"/>
                </a:solidFill>
                <a:latin typeface="Garamond"/>
              </a:rPr>
              <a:t>CUARZO POLICRISTALIZADO. NICOLES CRUZADOS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Contactos suturados (metamórfico)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Matriz de cuarzo monocristalino y frag. de lutita o pizarra (café)</a:t>
            </a: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52560" y="2060640"/>
            <a:ext cx="7238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UARZO POLICRISTALINO CIZALLADO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(extinción ondulosa de los cx individuales producto del strain)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HERT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Qz de grano muy fino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matriz con frag subangulosos a suredondeados de qz, chert en cemento rico en oxidos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724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HERT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28183" t="21470" r="8536" b="16065"/>
          <a:stretch/>
        </p:blipFill>
        <p:spPr>
          <a:xfrm>
            <a:off x="1152360" y="1125360"/>
            <a:ext cx="68374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PLAGIOCLASA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294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MICROCLIN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0959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ORTOCLASA NIC. PARALELOS</a:t>
            </a:r>
            <a:br>
              <a:rPr sz="2900"/>
            </a:b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Alterado, cuarzo no alterado. Relieve &lt; bálsamo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17160" y="2461320"/>
            <a:ext cx="4907520" cy="2331360"/>
            <a:chOff x="2117160" y="2461320"/>
            <a:chExt cx="4907520" cy="2331360"/>
          </a:xfrm>
        </p:grpSpPr>
        <p:cxnSp>
          <p:nvCxnSpPr>
            <p:cNvPr id="90" name="_s47118"/>
            <p:cNvCxnSpPr>
              <a:stCxn id="91" idx="0"/>
              <a:endCxn id="92" idx="2"/>
            </p:cNvCxnSpPr>
            <p:nvPr/>
          </p:nvCxnSpPr>
          <p:spPr>
            <a:xfrm flipV="1" rot="16200000">
              <a:off x="5320080" y="2143080"/>
              <a:ext cx="215280" cy="171108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47117"/>
            <p:cNvCxnSpPr>
              <a:stCxn id="94" idx="0"/>
              <a:endCxn id="92" idx="2"/>
            </p:cNvCxnSpPr>
            <p:nvPr/>
          </p:nvCxnSpPr>
          <p:spPr>
            <a:xfrm flipV="1">
              <a:off x="4572360" y="2891160"/>
              <a:ext cx="2520" cy="21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47116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3607920" y="2141640"/>
              <a:ext cx="215280" cy="171432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47112"/>
            <p:cNvSpPr/>
            <p:nvPr/>
          </p:nvSpPr>
          <p:spPr>
            <a:xfrm>
              <a:off x="2541240" y="2461320"/>
              <a:ext cx="4059360" cy="429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OCA SEDIMENTARIA CLÁSTIC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47113"/>
            <p:cNvSpPr/>
            <p:nvPr/>
          </p:nvSpPr>
          <p:spPr>
            <a:xfrm>
              <a:off x="211716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Esquele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udáce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Samí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Pelí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47114"/>
            <p:cNvSpPr/>
            <p:nvPr/>
          </p:nvSpPr>
          <p:spPr>
            <a:xfrm>
              <a:off x="382932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reno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rcillo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Micrític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47115"/>
            <p:cNvSpPr/>
            <p:nvPr/>
          </p:nvSpPr>
          <p:spPr>
            <a:xfrm>
              <a:off x="554148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Cemen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ORTOCLASA NIC. CRUZADOS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0153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FRM (PIZARRA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05520" cy="4952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66920" y="3429000"/>
            <a:ext cx="4608720" cy="208764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FRM (ESQUISTO)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9102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FRS (AREN. NIC. PARALELOS)</a:t>
            </a:r>
            <a:br>
              <a:rPr sz="2900"/>
            </a:b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Se ven los límites de los granos a NP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88920" y="1413000"/>
            <a:ext cx="71643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259920"/>
            <a:ext cx="891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S (AREN. NIC. CRUZADOS)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Cemento de arcilla (probablemente) con altos colores de inreferencia 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0560" y="1484280"/>
            <a:ext cx="7021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 VOLCÁNICA</a:t>
            </a:r>
            <a:br>
              <a:rPr sz="2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Plag. en masa de grano muy fino (centro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Frag. con cx. de qz en matriz de prob. Arcilla (alta birrefringencia)  (derecha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Cx. individuales de qz y plag</a:t>
            </a: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5534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 IGNEA</a:t>
            </a:r>
            <a:br>
              <a:rPr sz="2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Izq. y centro: FRV básica(plag, px, opacos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Abajo: frag rx plutónicas de grano grueso (plag, feld, px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Der: anfíbola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Frag angulosos </a:t>
            </a:r>
            <a:r>
              <a:rPr b="1" lang="es-ES_tradnl" sz="1900" spc="-1" strike="noStrike">
                <a:solidFill>
                  <a:srgbClr val="006633"/>
                </a:solidFill>
                <a:latin typeface="Symbol"/>
                <a:ea typeface="Symbol"/>
              </a:rPr>
              <a:t></a:t>
            </a: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 poco transporte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19320" y="1916280"/>
            <a:ext cx="67053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MATRIZ ARCILLOSA</a:t>
            </a:r>
            <a:br>
              <a:rPr sz="2900"/>
            </a:br>
            <a:r>
              <a:rPr b="0" lang="es-ES_tradnl" sz="2100" spc="-1" strike="noStrike">
                <a:solidFill>
                  <a:srgbClr val="006633"/>
                </a:solidFill>
                <a:latin typeface="Garamond"/>
              </a:rPr>
              <a:t>Grauwacka (arenisca con más del 15% de matriz grano fino)</a:t>
            </a: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UARZO MONOCRISTALINO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436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867640" cy="3992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9907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476280"/>
            <a:ext cx="500688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inción levemente ond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gunas vacuolas y quizas microl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enomórfico (anhed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ípico de gra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33"/>
                </a:solidFill>
                <a:latin typeface="Times New Roman"/>
              </a:rPr>
              <a:t>CUARZO PLUT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PLUTÓ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60640" y="1413000"/>
            <a:ext cx="6822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VOLCÁ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247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VOLCÁ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760" y="259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UARZO CON INCLUSIONES FLUIDAS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Oscuras y formando líneas, comunmente de bajas temperaturas (ej:vetillas hidrotermales). 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En muestra de mano es lechoso. Matriz de clorita</a:t>
            </a: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6434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UARZO CON INCLUSIONES FLUIDAS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50920" y="1009800"/>
            <a:ext cx="6840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3:31:27Z</dcterms:created>
  <dc:creator>Sr. Espacio</dc:creator>
  <dc:description/>
  <dc:language>en-US</dc:language>
  <cp:lastModifiedBy>cliente</cp:lastModifiedBy>
  <dcterms:modified xsi:type="dcterms:W3CDTF">2004-08-26T03:20:20Z</dcterms:modified>
  <cp:revision>16</cp:revision>
  <dc:subject/>
  <dc:title>CUARZO MONOCRISTALINO</dc:title>
</cp:coreProperties>
</file>