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A9D-0CB6-4B56-981B-302CFC8C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168-9385-4C23-B62F-73EF5269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4FB-7136-4555-948C-8C15DE21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CD6-3428-4FBD-B627-758B2927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64AC-67E2-4E6D-9B32-5CFE50CC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FA7F-E9F3-4515-98AD-AA019D1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E714-9B3C-4A16-A296-BE95371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F098-86F4-49FF-AC69-4CD70E41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8ED1-44F6-4D63-B518-A7C73415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9026-6AE1-410A-823B-E7A7209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1049-7160-4A9E-9EB8-428E0A1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425-7DB8-46E3-8CB2-490BEE03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271D-2983-4002-B359-0124D239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1DF5-DDE5-4040-BC83-7255F9F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16F7-921E-4E22-ACD3-7B2BCF3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7575-F5ED-4575-92D7-D9967BCF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42C-B968-4138-889F-A2B40815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427-DFCE-4660-AB0B-B1F99FA6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D15-F2CC-4127-B330-691DF4DA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C17-021A-4B77-A7AC-F327B1F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6BD-BF9A-4291-94E3-5966208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3C1-8B57-4A75-9E43-DBE704A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211-8ECA-4659-A6EF-FF98036F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8E4-452B-4DC0-A04D-C3C15A5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E101-ED54-4FEE-82E7-C69F9E0627C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E0B7-295E-4CFE-A3ED-654B9C595B9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ROCAS SILICICLÁSTICAS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5229" t="21470" r="30582" b="16065"/>
          <a:stretch/>
        </p:blipFill>
        <p:spPr>
          <a:xfrm>
            <a:off x="1260360" y="1268280"/>
            <a:ext cx="66214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ESQUISTOS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270080"/>
            <a:ext cx="72723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. NICOLES PARALELOS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CUARZO POLICRISTALIZADO. NICOLES CRUZADO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ontactos suturados (metamórfico)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de cuarzo monocristalino y frag. de lutita o pizarra (café)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2560" y="206064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POLICRISTALINO CIZALLADO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(extinción ondulosa de los cx individuales producto del strain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Qz de grano muy fino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con frag subangulosos a suredondeados de qz, chert en cemento rico en oxi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724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28183" t="21470" r="8536" b="16065"/>
          <a:stretch/>
        </p:blipFill>
        <p:spPr>
          <a:xfrm>
            <a:off x="1152360" y="1125360"/>
            <a:ext cx="68374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PLAGIOCLASA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294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MICROCLIN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095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PARALELOS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Alterado, cuarzo no alterado. Relieve &lt; bálsam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17160" y="2461320"/>
            <a:ext cx="4907520" cy="2331360"/>
            <a:chOff x="2117160" y="2461320"/>
            <a:chExt cx="4907520" cy="2331360"/>
          </a:xfrm>
        </p:grpSpPr>
        <p:cxnSp>
          <p:nvCxnSpPr>
            <p:cNvPr id="90" name="_s4711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320080" y="2143080"/>
              <a:ext cx="215280" cy="171108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47117"/>
            <p:cNvCxnSpPr>
              <a:stCxn id="94" idx="0"/>
              <a:endCxn id="92" idx="2"/>
            </p:cNvCxnSpPr>
            <p:nvPr/>
          </p:nvCxnSpPr>
          <p:spPr>
            <a:xfrm flipV="1">
              <a:off x="4572360" y="2891160"/>
              <a:ext cx="2520" cy="21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47116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3607920" y="2141640"/>
              <a:ext cx="215280" cy="171432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47112"/>
            <p:cNvSpPr/>
            <p:nvPr/>
          </p:nvSpPr>
          <p:spPr>
            <a:xfrm>
              <a:off x="2541240" y="2461320"/>
              <a:ext cx="4059360" cy="429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OCA SEDIMENTARIA CLÁS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47113"/>
            <p:cNvSpPr/>
            <p:nvPr/>
          </p:nvSpPr>
          <p:spPr>
            <a:xfrm>
              <a:off x="211716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Esquele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udáce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Sam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Pel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47114"/>
            <p:cNvSpPr/>
            <p:nvPr/>
          </p:nvSpPr>
          <p:spPr>
            <a:xfrm>
              <a:off x="382932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en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cill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Micrí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47115"/>
            <p:cNvSpPr/>
            <p:nvPr/>
          </p:nvSpPr>
          <p:spPr>
            <a:xfrm>
              <a:off x="554148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Cem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CRUZADOS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153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FRM (PIZARRA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05520" cy="4952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M (ESQUISTO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102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S (AREN. NIC. PARALELOS)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Se ven los límites de los granos a NP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88920" y="1413000"/>
            <a:ext cx="7164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S (AREN. NIC. CRUZADOS)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emento de arcilla (probablemente) con altos colores de inreferencia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0560" y="1484280"/>
            <a:ext cx="7021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VOLCÁNIC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Plag. en masa de grano muy fino (centro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. con cx. de qz en matriz de prob. Arcilla (alta birrefringencia)  (derecha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Cx. individuales de qz y plag</a:t>
            </a: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5534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IGNE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Izq. y centro: FRV básica(plag, px, opacos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Abajo: frag rx plutónicas de grano grueso (plag, feld, px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Der: anfíbola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 angulosos </a:t>
            </a:r>
            <a:r>
              <a:rPr b="1" lang="es-ES_tradnl" sz="1900" spc="-1" strike="noStrike">
                <a:solidFill>
                  <a:srgbClr val="006633"/>
                </a:solidFill>
                <a:latin typeface="Symbol"/>
                <a:ea typeface="Symbol"/>
              </a:rPr>
              <a:t></a:t>
            </a: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 poco transporte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1916280"/>
            <a:ext cx="6705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MATRIZ ARCILLOSA</a:t>
            </a:r>
            <a:br>
              <a:rPr sz="2900"/>
            </a:br>
            <a:r>
              <a:rPr b="0" lang="es-ES_tradnl" sz="2100" spc="-1" strike="noStrike">
                <a:solidFill>
                  <a:srgbClr val="006633"/>
                </a:solidFill>
                <a:latin typeface="Garamond"/>
              </a:rPr>
              <a:t>Grauwacka (arenisca con más del 15% de matriz grano fino)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MONOCRISTALINO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436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399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76280"/>
            <a:ext cx="50068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quizas microl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33"/>
                </a:solidFill>
                <a:latin typeface="Times New Roman"/>
              </a:rPr>
              <a:t>CUARZO PLUT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PLUTÓ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60640" y="1413000"/>
            <a:ext cx="6822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47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760" y="259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Oscuras y formando líneas, comunmente de bajas temperaturas (ej:vetillas hidrotermales). 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En muestra de mano es lechoso. Matriz de clorita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6434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50920" y="1009800"/>
            <a:ext cx="6840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Sr. Espacio</dc:creator>
  <dc:description/>
  <dc:language>en-US</dc:language>
  <cp:lastModifiedBy>cliente</cp:lastModifiedBy>
  <dcterms:modified xsi:type="dcterms:W3CDTF">2004-08-26T03:20:20Z</dcterms:modified>
  <cp:revision>16</cp:revision>
  <dc:subject/>
  <dc:title>CUARZO MONOCRISTALINO</dc:title>
</cp:coreProperties>
</file>