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908-EBF4-4AB5-8B60-84518002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D6CB-9DF6-4B11-BE2F-AE03F3C5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48D-FBA5-41A3-958D-D3EFF011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1624-8B1D-4CF4-9000-F9121D61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76AA-FF0C-4950-89A8-CFF80CFF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8291-99CE-448C-A50B-7A188893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C99B-F126-4327-A918-1179EAA9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3C8B-89DB-4667-BB52-C52388F5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1FEB-1830-4502-A646-7EA99CEB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6124-2EE7-42E5-A97A-AEB751DB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E4EB-8266-43FC-ABA8-F95D3C48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F0C-1166-4177-A1CB-7793B120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ED8F-F38F-435B-A388-71B3C3D2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AB5A-D8E1-413B-9354-739D340B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E5B4-46F2-4247-9D12-A7E3A22D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7296-91F7-4BD5-98AF-3D44EEB6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A99E-6A10-444F-8436-A3E92FEE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671E-8E74-40FD-B32A-727B755B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7D7-43A7-4EEE-8259-4A54705C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E78-8F4B-4B44-9ED3-34904672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D43-07E6-4EA6-8322-8C5ED1EE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A51-D4F7-4BB2-817E-3412FDC9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B2F-8846-4DA4-9A57-336719E5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A786-79E7-4413-9082-6D9D0E5C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541C-6649-424A-86D8-DB7312F06E7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1866-3FC5-4C7C-9002-3CFAA7E452B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ROCAS SILICICLÁSTICAS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33"/>
                </a:solidFill>
                <a:latin typeface="Garamond"/>
              </a:rPr>
              <a:t>CUARZO POLICRISTALINO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5229" t="21470" r="30582" b="16065"/>
          <a:stretch/>
        </p:blipFill>
        <p:spPr>
          <a:xfrm>
            <a:off x="1260360" y="1268280"/>
            <a:ext cx="662148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33"/>
                </a:solidFill>
                <a:latin typeface="Garamond"/>
              </a:rPr>
              <a:t>CUARZO ESQUISTOSO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1270080"/>
            <a:ext cx="727236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33"/>
                </a:solidFill>
                <a:latin typeface="Garamond"/>
              </a:rPr>
              <a:t>CUARZO POLICRISTALINO. NICOLES PARALELOS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33"/>
                </a:solidFill>
                <a:latin typeface="Garamond"/>
              </a:rPr>
              <a:t>CUARZO POLICRISTALIZADO. NICOLES CRUZADOS</a:t>
            </a:r>
            <a:br>
              <a:rPr sz="29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Contactos suturados (metamórfico)</a:t>
            </a:r>
            <a:br>
              <a:rPr sz="21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Matriz de cuarzo monocristalino y frag. de lutita o pizarra (café)</a:t>
            </a: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52560" y="2060640"/>
            <a:ext cx="72388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CUARZO POLICRISTALINO CIZALLADO</a:t>
            </a:r>
            <a:br>
              <a:rPr sz="29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(extinción ondulosa de los cx individuales producto del strain)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1629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CHERT</a:t>
            </a:r>
            <a:br>
              <a:rPr sz="29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Qz de grano muy fino</a:t>
            </a:r>
            <a:br>
              <a:rPr sz="21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matriz con frag subangulosos a suredondeados de qz, chert en cemento rico en oxidos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724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CHERT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28183" t="21470" r="8536" b="16065"/>
          <a:stretch/>
        </p:blipFill>
        <p:spPr>
          <a:xfrm>
            <a:off x="1152360" y="1125360"/>
            <a:ext cx="683748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PLAGIOCLASA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1294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MICROCLIN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0959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ORTOCLASA NIC. PARALELOS</a:t>
            </a:r>
            <a:br>
              <a:rPr sz="2900"/>
            </a:b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Alterado, cuarzo no alterado. Relieve &lt; bálsamo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117160" y="2461320"/>
            <a:ext cx="4907520" cy="2331360"/>
            <a:chOff x="2117160" y="2461320"/>
            <a:chExt cx="4907520" cy="2331360"/>
          </a:xfrm>
        </p:grpSpPr>
        <p:cxnSp>
          <p:nvCxnSpPr>
            <p:cNvPr id="90" name="_s47118"/>
            <p:cNvCxnSpPr>
              <a:stCxn id="91" idx="0"/>
              <a:endCxn id="92" idx="2"/>
            </p:cNvCxnSpPr>
            <p:nvPr/>
          </p:nvCxnSpPr>
          <p:spPr>
            <a:xfrm flipV="1" rot="16200000">
              <a:off x="5320080" y="2143080"/>
              <a:ext cx="215280" cy="1711080"/>
            </a:xfrm>
            <a:prstGeom prst="bentConnector3">
              <a:avLst>
                <a:gd name="adj1" fmla="val 499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47117"/>
            <p:cNvCxnSpPr>
              <a:stCxn id="94" idx="0"/>
              <a:endCxn id="92" idx="2"/>
            </p:cNvCxnSpPr>
            <p:nvPr/>
          </p:nvCxnSpPr>
          <p:spPr>
            <a:xfrm flipV="1">
              <a:off x="4572360" y="2891160"/>
              <a:ext cx="2520" cy="21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47116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3607920" y="2141640"/>
              <a:ext cx="215280" cy="1714320"/>
            </a:xfrm>
            <a:prstGeom prst="bentConnector3">
              <a:avLst>
                <a:gd name="adj1" fmla="val 499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47112"/>
            <p:cNvSpPr/>
            <p:nvPr/>
          </p:nvSpPr>
          <p:spPr>
            <a:xfrm>
              <a:off x="2541240" y="2461320"/>
              <a:ext cx="4059360" cy="4298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OCA SEDIMENTARIA CLÁSTIC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47113"/>
            <p:cNvSpPr/>
            <p:nvPr/>
          </p:nvSpPr>
          <p:spPr>
            <a:xfrm>
              <a:off x="2117160" y="3106080"/>
              <a:ext cx="1483200" cy="1686600"/>
            </a:xfrm>
            <a:custGeom>
              <a:avLst/>
              <a:gdLst>
                <a:gd name="textAreaLeft" fmla="*/ 72360 w 1483200"/>
                <a:gd name="textAreaRight" fmla="*/ 1410840 w 1483200"/>
                <a:gd name="textAreaTop" fmla="*/ 72360 h 1686600"/>
                <a:gd name="textAreaBottom" fmla="*/ 1614240 h 1686600"/>
              </a:gdLst>
              <a:ahLst/>
              <a:rect l="textAreaLeft" t="textAreaTop" r="textAreaRight" b="textAreaBottom"/>
              <a:pathLst>
                <a:path w="21600" h="24561">
                  <a:moveTo>
                    <a:pt x="3600" y="0"/>
                  </a:moveTo>
                  <a:arcTo wR="3600" hR="3600" stAng="16200000" swAng="-5400000"/>
                  <a:lnTo>
                    <a:pt x="0" y="20961"/>
                  </a:lnTo>
                  <a:arcTo wR="3600" hR="3600" stAng="10800000" swAng="-5400000"/>
                  <a:lnTo>
                    <a:pt x="18000" y="2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Esquele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udáce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Samític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Pelític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47114"/>
            <p:cNvSpPr/>
            <p:nvPr/>
          </p:nvSpPr>
          <p:spPr>
            <a:xfrm>
              <a:off x="3829320" y="3106080"/>
              <a:ext cx="1483200" cy="1686600"/>
            </a:xfrm>
            <a:custGeom>
              <a:avLst/>
              <a:gdLst>
                <a:gd name="textAreaLeft" fmla="*/ 72360 w 1483200"/>
                <a:gd name="textAreaRight" fmla="*/ 1410840 w 1483200"/>
                <a:gd name="textAreaTop" fmla="*/ 72360 h 1686600"/>
                <a:gd name="textAreaBottom" fmla="*/ 1614240 h 1686600"/>
              </a:gdLst>
              <a:ahLst/>
              <a:rect l="textAreaLeft" t="textAreaTop" r="textAreaRight" b="textAreaBottom"/>
              <a:pathLst>
                <a:path w="21600" h="24561">
                  <a:moveTo>
                    <a:pt x="3600" y="0"/>
                  </a:moveTo>
                  <a:arcTo wR="3600" hR="3600" stAng="16200000" swAng="-5400000"/>
                  <a:lnTo>
                    <a:pt x="0" y="20961"/>
                  </a:lnTo>
                  <a:arcTo wR="3600" hR="3600" stAng="10800000" swAng="-5400000"/>
                  <a:lnTo>
                    <a:pt x="18000" y="2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Arenos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Arcillos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Micrític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47115"/>
            <p:cNvSpPr/>
            <p:nvPr/>
          </p:nvSpPr>
          <p:spPr>
            <a:xfrm>
              <a:off x="5541480" y="3106080"/>
              <a:ext cx="1483200" cy="1686600"/>
            </a:xfrm>
            <a:custGeom>
              <a:avLst/>
              <a:gdLst>
                <a:gd name="textAreaLeft" fmla="*/ 72360 w 1483200"/>
                <a:gd name="textAreaRight" fmla="*/ 1410840 w 1483200"/>
                <a:gd name="textAreaTop" fmla="*/ 72360 h 1686600"/>
                <a:gd name="textAreaBottom" fmla="*/ 1614240 h 1686600"/>
              </a:gdLst>
              <a:ahLst/>
              <a:rect l="textAreaLeft" t="textAreaTop" r="textAreaRight" b="textAreaBottom"/>
              <a:pathLst>
                <a:path w="21600" h="24561">
                  <a:moveTo>
                    <a:pt x="3600" y="0"/>
                  </a:moveTo>
                  <a:arcTo wR="3600" hR="3600" stAng="16200000" swAng="-5400000"/>
                  <a:lnTo>
                    <a:pt x="0" y="20961"/>
                  </a:lnTo>
                  <a:arcTo wR="3600" hR="3600" stAng="10800000" swAng="-5400000"/>
                  <a:lnTo>
                    <a:pt x="18000" y="2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Cemen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ORTOCLASA NIC. CRUZADOS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01532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FRM (PIZARRA)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05520" cy="4952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66920" y="3429000"/>
            <a:ext cx="4608720" cy="208764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FRM (ESQUISTO)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91020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FRS (AREN. NIC. PARALELOS)</a:t>
            </a:r>
            <a:br>
              <a:rPr sz="2900"/>
            </a:b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Se ven los límites de los granos a NP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88920" y="1413000"/>
            <a:ext cx="71643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259920"/>
            <a:ext cx="8915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FRS (AREN. NIC. CRUZADOS)</a:t>
            </a:r>
            <a:br>
              <a:rPr sz="29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Cemento de arcilla (probablemente) con altos colores de inreferencia 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60560" y="1484280"/>
            <a:ext cx="70214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FR VOLCÁNICA</a:t>
            </a:r>
            <a:br>
              <a:rPr sz="2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Plag. en masa de grano muy fino (centro)</a:t>
            </a:r>
            <a:br>
              <a:rPr sz="1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Frag. con cx. de qz en matriz de prob. Arcilla (alta birrefringencia)  (derecha)</a:t>
            </a:r>
            <a:br>
              <a:rPr sz="1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Cx. individuales de qz y plag</a:t>
            </a: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5534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FR IGNEA</a:t>
            </a:r>
            <a:br>
              <a:rPr sz="2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Izq. y centro: FRV básica(plag, px, opacos)</a:t>
            </a:r>
            <a:br>
              <a:rPr sz="1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Abajo: frag rx plutónicas de grano grueso (plag, feld, px)</a:t>
            </a:r>
            <a:br>
              <a:rPr sz="1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Der: anfíbola</a:t>
            </a:r>
            <a:br>
              <a:rPr sz="1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Frag angulosos </a:t>
            </a:r>
            <a:r>
              <a:rPr b="1" lang="es-ES_tradnl" sz="1900" spc="-1" strike="noStrike">
                <a:solidFill>
                  <a:srgbClr val="006633"/>
                </a:solidFill>
                <a:latin typeface="Symbol"/>
                <a:ea typeface="Symbol"/>
              </a:rPr>
              <a:t></a:t>
            </a: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 poco transporte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19320" y="1916280"/>
            <a:ext cx="670536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6633"/>
                </a:solidFill>
                <a:latin typeface="Garamond"/>
              </a:rPr>
              <a:t>MATRIZ ARCILLOSA</a:t>
            </a:r>
            <a:br>
              <a:rPr sz="2900"/>
            </a:br>
            <a:r>
              <a:rPr b="0" lang="es-ES_tradnl" sz="2100" spc="-1" strike="noStrike">
                <a:solidFill>
                  <a:srgbClr val="006633"/>
                </a:solidFill>
                <a:latin typeface="Garamond"/>
              </a:rPr>
              <a:t>Grauwacka (arenisca con más del 15% de matriz grano fino)</a:t>
            </a:r>
            <a:r>
              <a:rPr b="0" lang="es-ES_tradnl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388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CUARZO MONOCRISTALINO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4368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867640" cy="3992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9907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476280"/>
            <a:ext cx="500688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xinción levemente ond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gunas vacuolas y quizas microl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enomórfico (anhed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ípico de gran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09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33"/>
                </a:solidFill>
                <a:latin typeface="Times New Roman"/>
              </a:rPr>
              <a:t>CUARZO PLUT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006633"/>
                </a:solidFill>
                <a:latin typeface="Garamond"/>
              </a:rPr>
              <a:t>CUARZO PLUTÓNICO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60640" y="1413000"/>
            <a:ext cx="68227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006633"/>
                </a:solidFill>
                <a:latin typeface="Garamond"/>
              </a:rPr>
              <a:t>CUARZO VOLCÁNICO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62472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006633"/>
                </a:solidFill>
                <a:latin typeface="Garamond"/>
              </a:rPr>
              <a:t>CUARZO VOLCÁNICO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7694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760" y="259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CUARZO CON INCLUSIONES FLUIDAS</a:t>
            </a:r>
            <a:br>
              <a:rPr sz="29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Oscuras y formando líneas, comunmente de bajas temperaturas (ej:vetillas hidrotermales). </a:t>
            </a:r>
            <a:br>
              <a:rPr sz="21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En muestra de mano es lechoso. Matriz de clorita</a:t>
            </a: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6434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CUARZO CON INCLUSIONES FLUIDAS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50920" y="1009800"/>
            <a:ext cx="684072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03:31:27Z</dcterms:created>
  <dc:creator>Sr. Espacio</dc:creator>
  <dc:description/>
  <dc:language>en-US</dc:language>
  <cp:lastModifiedBy>cliente</cp:lastModifiedBy>
  <dcterms:modified xsi:type="dcterms:W3CDTF">2004-08-26T03:20:20Z</dcterms:modified>
  <cp:revision>16</cp:revision>
  <dc:subject/>
  <dc:title>CUARZO MONOCRISTALINO</dc:title>
</cp:coreProperties>
</file>