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5352-F854-4D81-B723-A5174D7A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5BF-9AED-46FA-95B9-23DAD37C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F945-E8F7-4CE8-AD00-3FB4616F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98F7-FAE6-41D0-8809-BD651D36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8AF2-DDFB-4262-A728-57874DC03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6981-77D6-408E-92AC-431FB357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425D-A641-4803-A8D9-491A3DEE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9B99-0F01-46D8-BDEB-B5C67ED9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92032-6BAF-45A5-998B-06A004638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D0BF2-BAFA-4FD5-8D56-D6C3CBD18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79BF-CF54-4757-A044-F7880710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FDD2-DCC2-4776-9D0A-FBD02427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DB58D-4882-44F0-BAEE-8CD8C2FA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B90FE-ECF1-4BB2-BF47-0FE2251E9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0C73A-E1AF-451B-865E-58DE50D3C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0A2A-D33D-4BDA-8B69-560A2D3DF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14227-FF7D-480D-941F-4EFC5D0A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D637-C41A-4CCC-904F-74CA7FB7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0A37-E974-482B-94DA-B3824C248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8D1A-1D10-4AA8-B4B7-22D55E6C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0C1E-D7D5-4D4D-BED7-D28A90BE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88A9-3A46-4009-93FB-52F8FF361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4F2-DEFB-4C3B-8934-E10A82E2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D47-2B01-4CFC-B7F4-06AB15DE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B9311-1E37-4A4E-ABA7-69B9FB85A85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F7AA3-F3B6-450F-B643-E1E362278EC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006633"/>
                </a:solidFill>
                <a:latin typeface="Garamond"/>
              </a:rPr>
              <a:t>ROCAS SILICICLÁSTICAS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33"/>
                </a:solidFill>
                <a:latin typeface="Garamond"/>
              </a:rPr>
              <a:t>CUARZO POLICRISTALINO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5229" t="21470" r="30582" b="16065"/>
          <a:stretch/>
        </p:blipFill>
        <p:spPr>
          <a:xfrm>
            <a:off x="1260360" y="1268280"/>
            <a:ext cx="662148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33"/>
                </a:solidFill>
                <a:latin typeface="Garamond"/>
              </a:rPr>
              <a:t>CUARZO ESQUISTOSO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900000" y="1270080"/>
            <a:ext cx="727236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6633"/>
                </a:solidFill>
                <a:latin typeface="Garamond"/>
              </a:rPr>
              <a:t>CUARZO POLICRISTALINO. NICOLES PARALELOS</a:t>
            </a: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23888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33"/>
                </a:solidFill>
                <a:latin typeface="Garamond"/>
              </a:rPr>
              <a:t>CUARZO POLICRISTALIZADO. NICOLES CRUZADOS</a:t>
            </a:r>
            <a:br>
              <a:rPr sz="29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Contactos suturados (metamórfico)</a:t>
            </a:r>
            <a:br>
              <a:rPr sz="21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Matriz de cuarzo monocristalino y frag. de lutita o pizarra (café)</a:t>
            </a: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52560" y="2060640"/>
            <a:ext cx="723888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33300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CUARZO POLICRISTALINO CIZALLADO</a:t>
            </a:r>
            <a:br>
              <a:rPr sz="29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(extinción ondulosa de los cx individuales producto del strain)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16292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CHERT</a:t>
            </a:r>
            <a:br>
              <a:rPr sz="29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Qz de grano muy fino</a:t>
            </a:r>
            <a:br>
              <a:rPr sz="21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matriz con frag subangulosos a suredondeados de qz, chert en cemento rico en oxidos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1600200"/>
            <a:ext cx="697248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CHERT</a:t>
            </a:r>
            <a:br>
              <a:rPr sz="29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28183" t="21470" r="8536" b="16065"/>
          <a:stretch/>
        </p:blipFill>
        <p:spPr>
          <a:xfrm>
            <a:off x="1152360" y="1125360"/>
            <a:ext cx="683748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PLAGIOCLASA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71294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MICROCLINA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709596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ORTOCLASA NIC. PARALELOS</a:t>
            </a:r>
            <a:br>
              <a:rPr sz="2900"/>
            </a:b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Alterado, cuarzo no alterado. Relieve &lt; bálsamo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49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117160" y="2461320"/>
            <a:ext cx="4907520" cy="2331360"/>
            <a:chOff x="2117160" y="2461320"/>
            <a:chExt cx="4907520" cy="2331360"/>
          </a:xfrm>
        </p:grpSpPr>
        <p:cxnSp>
          <p:nvCxnSpPr>
            <p:cNvPr id="90" name="_s47118"/>
            <p:cNvCxnSpPr>
              <a:stCxn id="91" idx="0"/>
              <a:endCxn id="92" idx="2"/>
            </p:cNvCxnSpPr>
            <p:nvPr/>
          </p:nvCxnSpPr>
          <p:spPr>
            <a:xfrm flipV="1" rot="16200000">
              <a:off x="5320080" y="2143080"/>
              <a:ext cx="215280" cy="1711080"/>
            </a:xfrm>
            <a:prstGeom prst="bentConnector3">
              <a:avLst>
                <a:gd name="adj1" fmla="val 499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3" name="_s47117"/>
            <p:cNvCxnSpPr>
              <a:stCxn id="94" idx="0"/>
              <a:endCxn id="92" idx="2"/>
            </p:cNvCxnSpPr>
            <p:nvPr/>
          </p:nvCxnSpPr>
          <p:spPr>
            <a:xfrm flipV="1">
              <a:off x="4572360" y="2891160"/>
              <a:ext cx="2520" cy="215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5" name="_s47116"/>
            <p:cNvCxnSpPr>
              <a:stCxn id="96" idx="0"/>
              <a:endCxn id="92" idx="2"/>
            </p:cNvCxnSpPr>
            <p:nvPr/>
          </p:nvCxnSpPr>
          <p:spPr>
            <a:xfrm flipH="1" flipV="1" rot="5400000">
              <a:off x="3607920" y="2141640"/>
              <a:ext cx="215280" cy="1714320"/>
            </a:xfrm>
            <a:prstGeom prst="bentConnector3">
              <a:avLst>
                <a:gd name="adj1" fmla="val 4991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2" name="_s47112"/>
            <p:cNvSpPr/>
            <p:nvPr/>
          </p:nvSpPr>
          <p:spPr>
            <a:xfrm>
              <a:off x="2541240" y="2461320"/>
              <a:ext cx="4059360" cy="4298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OCA SEDIMENTARIA CLÁSTIC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_s47113"/>
            <p:cNvSpPr/>
            <p:nvPr/>
          </p:nvSpPr>
          <p:spPr>
            <a:xfrm>
              <a:off x="2117160" y="3106080"/>
              <a:ext cx="1483200" cy="1686600"/>
            </a:xfrm>
            <a:custGeom>
              <a:avLst/>
              <a:gdLst>
                <a:gd name="textAreaLeft" fmla="*/ 72360 w 1483200"/>
                <a:gd name="textAreaRight" fmla="*/ 1410840 w 1483200"/>
                <a:gd name="textAreaTop" fmla="*/ 72360 h 1686600"/>
                <a:gd name="textAreaBottom" fmla="*/ 1614240 h 1686600"/>
              </a:gdLst>
              <a:ahLst/>
              <a:rect l="textAreaLeft" t="textAreaTop" r="textAreaRight" b="textAreaBottom"/>
              <a:pathLst>
                <a:path w="21600" h="24561">
                  <a:moveTo>
                    <a:pt x="3600" y="0"/>
                  </a:moveTo>
                  <a:arcTo wR="3600" hR="3600" stAng="16200000" swAng="-5400000"/>
                  <a:lnTo>
                    <a:pt x="0" y="20961"/>
                  </a:lnTo>
                  <a:arcTo wR="3600" hR="3600" stAng="10800000" swAng="-5400000"/>
                  <a:lnTo>
                    <a:pt x="18000" y="2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Esquele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udáce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Samític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Pelítica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_s47114"/>
            <p:cNvSpPr/>
            <p:nvPr/>
          </p:nvSpPr>
          <p:spPr>
            <a:xfrm>
              <a:off x="3829320" y="3106080"/>
              <a:ext cx="1483200" cy="1686600"/>
            </a:xfrm>
            <a:custGeom>
              <a:avLst/>
              <a:gdLst>
                <a:gd name="textAreaLeft" fmla="*/ 72360 w 1483200"/>
                <a:gd name="textAreaRight" fmla="*/ 1410840 w 1483200"/>
                <a:gd name="textAreaTop" fmla="*/ 72360 h 1686600"/>
                <a:gd name="textAreaBottom" fmla="*/ 1614240 h 1686600"/>
              </a:gdLst>
              <a:ahLst/>
              <a:rect l="textAreaLeft" t="textAreaTop" r="textAreaRight" b="textAreaBottom"/>
              <a:pathLst>
                <a:path w="21600" h="24561">
                  <a:moveTo>
                    <a:pt x="3600" y="0"/>
                  </a:moveTo>
                  <a:arcTo wR="3600" hR="3600" stAng="16200000" swAng="-5400000"/>
                  <a:lnTo>
                    <a:pt x="0" y="20961"/>
                  </a:lnTo>
                  <a:arcTo wR="3600" hR="3600" stAng="10800000" swAng="-5400000"/>
                  <a:lnTo>
                    <a:pt x="18000" y="2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Matriz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Arenos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Arcillos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Micrític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_s47115"/>
            <p:cNvSpPr/>
            <p:nvPr/>
          </p:nvSpPr>
          <p:spPr>
            <a:xfrm>
              <a:off x="5541480" y="3106080"/>
              <a:ext cx="1483200" cy="1686600"/>
            </a:xfrm>
            <a:custGeom>
              <a:avLst/>
              <a:gdLst>
                <a:gd name="textAreaLeft" fmla="*/ 72360 w 1483200"/>
                <a:gd name="textAreaRight" fmla="*/ 1410840 w 1483200"/>
                <a:gd name="textAreaTop" fmla="*/ 72360 h 1686600"/>
                <a:gd name="textAreaBottom" fmla="*/ 1614240 h 1686600"/>
              </a:gdLst>
              <a:ahLst/>
              <a:rect l="textAreaLeft" t="textAreaTop" r="textAreaRight" b="textAreaBottom"/>
              <a:pathLst>
                <a:path w="21600" h="24561">
                  <a:moveTo>
                    <a:pt x="3600" y="0"/>
                  </a:moveTo>
                  <a:arcTo wR="3600" hR="3600" stAng="16200000" swAng="-5400000"/>
                  <a:lnTo>
                    <a:pt x="0" y="20961"/>
                  </a:lnTo>
                  <a:arcTo wR="3600" hR="3600" stAng="10800000" swAng="-5400000"/>
                  <a:lnTo>
                    <a:pt x="18000" y="245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4680" rIns="9468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Cement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ORTOCLASA NIC. CRUZADOS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914400" y="1523880"/>
            <a:ext cx="701532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FRM (PIZARRA)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05520" cy="4952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66920" y="3429000"/>
            <a:ext cx="4608720" cy="2087640"/>
          </a:xfrm>
          <a:prstGeom prst="ellipse">
            <a:avLst/>
          </a:prstGeom>
          <a:noFill/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FRM (ESQUISTO)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6910200" cy="49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FRS (AREN. NIC. PARALELOS)</a:t>
            </a:r>
            <a:br>
              <a:rPr sz="2900"/>
            </a:br>
            <a:r>
              <a:rPr b="1" lang="en-US" sz="2100" spc="-1" strike="noStrike">
                <a:solidFill>
                  <a:srgbClr val="006633"/>
                </a:solidFill>
                <a:latin typeface="Garamond"/>
              </a:rPr>
              <a:t>Se ven los límites de los granos a NP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988920" y="1413000"/>
            <a:ext cx="71643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259920"/>
            <a:ext cx="8915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FRS (AREN. NIC. CRUZADOS)</a:t>
            </a:r>
            <a:br>
              <a:rPr sz="29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Cemento de arcilla (probablemente) con altos colores de inreferencia 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060560" y="1484280"/>
            <a:ext cx="702144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FR VOLCÁNICA</a:t>
            </a:r>
            <a:br>
              <a:rPr sz="2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Plag. en masa de grano muy fino (centro)</a:t>
            </a:r>
            <a:br>
              <a:rPr sz="1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Frag. con cx. de qz en matriz de prob. Arcilla (alta birrefringencia)  (derecha)</a:t>
            </a:r>
            <a:br>
              <a:rPr sz="1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Cx. individuales de qz y plag</a:t>
            </a: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55344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FR IGNEA</a:t>
            </a:r>
            <a:br>
              <a:rPr sz="2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Izq. y centro: FRV básica(plag, px, opacos)</a:t>
            </a:r>
            <a:br>
              <a:rPr sz="1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Abajo: frag rx plutónicas de grano grueso (plag, feld, px)</a:t>
            </a:r>
            <a:br>
              <a:rPr sz="1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Der: anfíbola</a:t>
            </a:r>
            <a:br>
              <a:rPr sz="1900"/>
            </a:b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Frag angulosos </a:t>
            </a:r>
            <a:r>
              <a:rPr b="1" lang="es-ES_tradnl" sz="1900" spc="-1" strike="noStrike">
                <a:solidFill>
                  <a:srgbClr val="006633"/>
                </a:solidFill>
                <a:latin typeface="Symbol"/>
                <a:ea typeface="Symbol"/>
              </a:rPr>
              <a:t></a:t>
            </a:r>
            <a:r>
              <a:rPr b="1" lang="es-ES_tradnl" sz="1900" spc="-1" strike="noStrike">
                <a:solidFill>
                  <a:srgbClr val="006633"/>
                </a:solidFill>
                <a:latin typeface="Garamond"/>
              </a:rPr>
              <a:t> poco transporte</a:t>
            </a:r>
            <a:endParaRPr b="0" lang="en-US" sz="1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19320" y="1916280"/>
            <a:ext cx="670536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6633"/>
                </a:solidFill>
                <a:latin typeface="Garamond"/>
              </a:rPr>
              <a:t>MATRIZ ARCILLOSA</a:t>
            </a:r>
            <a:br>
              <a:rPr sz="2900"/>
            </a:br>
            <a:r>
              <a:rPr b="0" lang="es-ES_tradnl" sz="2100" spc="-1" strike="noStrike">
                <a:solidFill>
                  <a:srgbClr val="006633"/>
                </a:solidFill>
                <a:latin typeface="Garamond"/>
              </a:rPr>
              <a:t>Grauwacka (arenisca con más del 15% de matriz grano fino)</a:t>
            </a:r>
            <a:r>
              <a:rPr b="0" lang="es-ES_tradnl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71388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CUARZO MONOCRISTALINO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694368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5867640" cy="3992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9907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0" y="476280"/>
            <a:ext cx="5006880" cy="15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xinción levemente ond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gunas vacuolas y quizas microl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enomórfico (anhed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ípico de gran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609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6633"/>
                </a:solidFill>
                <a:latin typeface="Times New Roman"/>
              </a:rPr>
              <a:t>CUARZO PLUT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006633"/>
                </a:solidFill>
                <a:latin typeface="Garamond"/>
              </a:rPr>
              <a:t>CUARZO PLUTÓNICO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60640" y="1413000"/>
            <a:ext cx="6822720" cy="48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006633"/>
                </a:solidFill>
                <a:latin typeface="Garamond"/>
              </a:rPr>
              <a:t>CUARZO VOLCÁNICO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62472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006633"/>
                </a:solidFill>
                <a:latin typeface="Garamond"/>
              </a:rPr>
              <a:t>CUARZO VOLCÁNICO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76944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760" y="259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CUARZO CON INCLUSIONES FLUIDAS</a:t>
            </a:r>
            <a:br>
              <a:rPr sz="29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Oscuras y formando líneas, comunmente de bajas temperaturas (ej:vetillas hidrotermales). </a:t>
            </a:r>
            <a:br>
              <a:rPr sz="2100"/>
            </a:br>
            <a:r>
              <a:rPr b="1" lang="es-ES_tradnl" sz="2100" spc="-1" strike="noStrike">
                <a:solidFill>
                  <a:srgbClr val="006633"/>
                </a:solidFill>
                <a:latin typeface="Garamond"/>
              </a:rPr>
              <a:t>En muestra de mano es lechoso. Matriz de clorita</a:t>
            </a:r>
            <a:r>
              <a:rPr b="1" lang="es-ES_tradnl" sz="2900" spc="-1" strike="noStrike">
                <a:solidFill>
                  <a:srgbClr val="006633"/>
                </a:solidFill>
                <a:latin typeface="Garamond"/>
              </a:rPr>
              <a:t> 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64344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CUARZO CON INCLUSIONES FLUIDAS</a:t>
            </a:r>
            <a:br>
              <a:rPr sz="2900"/>
            </a:b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50920" y="1009800"/>
            <a:ext cx="684072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03:31:27Z</dcterms:created>
  <dc:creator>Sr. Espacio</dc:creator>
  <dc:description/>
  <dc:language>en-US</dc:language>
  <cp:lastModifiedBy>cliente</cp:lastModifiedBy>
  <dcterms:modified xsi:type="dcterms:W3CDTF">2004-08-26T03:20:20Z</dcterms:modified>
  <cp:revision>16</cp:revision>
  <dc:subject/>
  <dc:title>CUARZO MONOCRISTALINO</dc:title>
</cp:coreProperties>
</file>