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957-7174-44F0-AC64-E4756916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3A8-CAA1-4D74-B766-97C2CD12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3F1-70A8-47F0-B7D8-23D72570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3DD-1840-4FF7-A6D2-E1A181A8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EFA5-00D0-478E-99C0-4243A636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A0FD-FF4B-4FE3-9F86-7F2F438B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E931-7696-4A3B-9989-FFF9CBC4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1087-74A5-405D-9FCE-3D7D56AC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BDA0-ECC0-4DE9-A71B-7D609195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C685-11EE-44E3-A7DC-5DF061D6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6A92-AC5F-4724-9B0E-649BD2CB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645-F407-4492-B074-7AB05C30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1FA3-C70A-4C96-A254-64F70A34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5F09-7405-4B3F-8AEE-D0A4FCD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E4B1-DD42-41BB-AB49-96C954FB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E55C-49BB-4AAE-AD8A-A5D49F6C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5A0C-7FB6-4B29-9F15-A02863EE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F25-6953-466F-9ADC-AEF02B12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3E3-76AE-42C7-B4F3-055CAD4A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367-C55B-4347-890F-C0A699DA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FEC-6D36-48BB-BCE4-57F1538F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EF7-7549-4BD1-BD51-31AA6489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F96-3ACA-4F33-9BE5-341FB307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C22-506A-42C9-AD4A-255D9AA4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7F90-10DB-443E-A77C-36C10459DD94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B7B2-C61B-4F5A-B28F-2B36519591DE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95280" y="220968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ROCAS CARBONA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207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85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OSPARITE or GRAIN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55627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678280" cy="3740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33920" y="838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Biomicrit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37040" cy="3690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57600" y="762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76920" cy="404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7672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pel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484960" cy="3943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2680" y="7621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rasparrud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832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9880" y="685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l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94640" cy="4102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19520" y="5335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lit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stromatoporoi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ffl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31960" y="1000080"/>
            <a:ext cx="60404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03480" y="1747800"/>
            <a:ext cx="4937040" cy="3360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195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esparita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03480" y="1736640"/>
            <a:ext cx="4937040" cy="338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146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esparita pobremente la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57320" y="380880"/>
            <a:ext cx="6791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334120" cy="3603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668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micrita empaque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4125960" cy="278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4160880" cy="281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791320" y="1219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micrita disp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830920" cy="3878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62320" y="533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esparita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416560" cy="3571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14600" y="457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lesparita mal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170680" cy="3610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raesparita mal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52480" y="1994040"/>
            <a:ext cx="5639040" cy="3713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52480" y="609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icrita fosilí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727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lesparita pobremente la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INTERPRETACION DE AMBIENTES EN ROCAS CARBONATICA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Grande"/>
              </a:rPr>
              <a:t>MICROFACIE: </a:t>
            </a: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Cjto. De criterios paleontológicos y sedimentológicos (petrológicos) que pueden ser determinados en secciones delgadas. Sirve para tener interpretación genétic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Los datos aportados por sección delgada deben ser complementados con observaciones de mayor escal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Datos paleontológic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tipos de organismos, diversidad, icnofósiles. Connotaciones ecológicas o paleoecológica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Datos sedimentológicos - petrológic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tipos de partículas, aspectos texturales (tamaño, selección, redondez), fábrica (empaquetamiento, orientación, relación granos/matriz, etc), tipos de cemento, tipos de huecos, tipos de reemplazo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INTERPRETACION DE AMBIENTES EN ROCAS CARBONATICA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Según Wilson (1970, 1974), los medios carbonatados más frecuentes so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isla barrera - lagoon con salinidad normal. En el lagoon se encontrarán gran cantidad de fósiles de organismos que vivían a baja profundida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isla barrera - lagoon con circulación restringida (hipersalino). Se encontrarán evaporitas, estromatolitos y oncolitos. Muy pocos o ningún fósil de otro organismo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arrecife - lagoon con salinidad normal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ELEMENTOS INDICADORES DE AMBIENTE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El hecho de existir rx´s carbonáceas ya 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climas cálidos y con poca cantidad de aporte de terrígenos continentale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Presencia de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micrit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indic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ambiente de sedimentación tranquil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, ya sea por encima o por debajo del nivel de oleaje. Su ausencia no implica necesariamente oleaj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de alta energí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Extraclast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y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 terrígen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proximidad a áreas emergida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strácod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viven en cualquier ambiente (marino o continental), pero en general aparecen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profund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as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carófit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sólo viven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agua dulce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os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nc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y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estromat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se forman en medios mareales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hipersalin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as Algas rojas pueden vivir en arrecifes, lagoones y profundidades de hasta 250 m. También habitan cualquier tipo de clima. Resto de algas sólo vive en climas cálidos y baja profundida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9051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05120" y="380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lk (1959, 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ELEMENTOS EN AMBIENTES SEDIMENTARIO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Zonas profunda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micrita, radiolarios, diatomeas, espículas de esponjas y globigerinas, es decir, organismos planctónico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Islas barrera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oolitos, coquinas, conchas fracturadas, orientadas y algo redondeadas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No se encuentra micrit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(Grainstones)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Zonas de arrecife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organismos arrecifales, a veces grainston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Lagoones con circulación normal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gran cantidad de fósiles de organismos que viven a baja profundidad (foraminíferos bentónicos, briozoos, bivalvos, etc), micrita, peloides y granos agregado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Lagoones con circulación restringid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: evaporitas, estromatolitos, oncolitos. Procesos de dolomitizació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9051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Lucida Grande"/>
              </a:rPr>
              <a:t>SECUENCIA DE BANDAS DE FACIES (WILSON, 1975)</a:t>
            </a:r>
            <a:endParaRPr b="1" lang="en-US" sz="2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6868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66400" cy="513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90720" y="3049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asificacón de Dunham modificada por Klovan y Embry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53080" y="6172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osparrud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324480" y="6324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ospa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77120" y="6324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ospa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4857840" cy="181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OMICRITE or MUDSTONE / WACK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4879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Farías</cp:lastModifiedBy>
  <dcterms:modified xsi:type="dcterms:W3CDTF">2004-08-19T20:48:27Z</dcterms:modified>
  <cp:revision>15</cp:revision>
  <dc:subject/>
  <dc:title>Presentación de PowerPoint</dc:title>
</cp:coreProperties>
</file>