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28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1.jpeg" ContentType="image/jpeg"/>
  <Override PartName="/ppt/media/image9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DB90-D120-4169-BB9C-255F29F4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08B-F5A8-423B-90DE-61A1ACB8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DF0-2353-4E4B-B8EB-40693ACC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485-3775-4352-8AF0-BE09568E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5278-0C3E-4902-9EAB-85A6A5AF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F220-8060-4291-8152-8E14C9D5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7609-982D-44B1-9013-3E2088EB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524C-F51D-4D10-9616-D2283D8D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5BB9-0AA9-4AC9-854D-9F6B84E0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51C7-23F6-4D2C-83CB-BFC614F8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CD48-E8F4-4274-B0C1-1D0654B8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753-35D2-4447-9FE7-99C831F4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A3CD-F2CA-46E4-98CD-CD4A032A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9FCB-7098-4E9F-B5D2-A9F1D5D9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A62D-046F-425A-B065-4E20F6FF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11AA-646D-4DAE-A977-202DFCA7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26F6-5093-47AE-8977-E1ED66B0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990-3549-493D-B6E6-0A6DF08F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2596-128B-4E2B-8FED-FA6FEDC2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420-40CB-4AC7-A94F-4792B7F8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110-3535-42AF-95F0-5F2AF758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76E7-0005-4049-82A9-C37DE383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FA61-1348-4C55-8678-0AB1E288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87AF-ECFD-4DF1-A254-7BCF236A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3595-8F9B-4D2C-B00B-B9DF46AD713A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ED40-F3F0-48BA-A491-B390BF23B44F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95280" y="2209680"/>
            <a:ext cx="6705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Black"/>
              </a:rPr>
              <a:t>CLASIF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 Black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Black"/>
              </a:rPr>
              <a:t>ROCAS CARBONA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562720" cy="2076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685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IOSPARITE or GRAIN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828800" y="3962520"/>
            <a:ext cx="55627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678280" cy="3740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733920" y="838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Biomicrit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837040" cy="3690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657600" y="7621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iospari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76920" cy="4049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7672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iopelspari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484960" cy="3943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352680" y="7621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trasparrudi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583240" cy="3722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09880" y="685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lspari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894640" cy="4102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19520" y="53352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ioliti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stromatoporoi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867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affles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31960" y="1000080"/>
            <a:ext cx="604044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03480" y="1747800"/>
            <a:ext cx="4937040" cy="3360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819520" y="533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esparita sele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03480" y="1736640"/>
            <a:ext cx="4937040" cy="338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14600" y="533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esparita pobremente la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57320" y="380880"/>
            <a:ext cx="6791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334120" cy="3603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666880" y="6094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iomicrita empaque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4125960" cy="2789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4160880" cy="2811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791320" y="12193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iomicrita disp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5830920" cy="3878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362320" y="5335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ioesparita sele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416560" cy="3571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14600" y="457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lesparita mal sele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5170680" cy="3610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raesparita mal sele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52480" y="1994040"/>
            <a:ext cx="5639040" cy="3713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52480" y="6094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icrita fosilí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410440" cy="3727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8600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lesparita pobremente la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INTERPRETACION DE AMBIENTES EN ROCAS CARBONATICAS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87488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Grande"/>
              </a:rPr>
              <a:t>MICROFACIE: </a:t>
            </a:r>
            <a:r>
              <a:rPr b="0" lang="es-ES_tradnl" sz="2400" spc="-1" strike="noStrike">
                <a:solidFill>
                  <a:srgbClr val="000000"/>
                </a:solidFill>
                <a:latin typeface="Lucida Grande"/>
              </a:rPr>
              <a:t>Cjto. De criterios paleontológicos y sedimentológicos (petrológicos) que pueden ser determinados en secciones delgadas. Sirve para tener interpretación genética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Grande"/>
              </a:rPr>
              <a:t>Los datos aportados por sección delgada deben ser complementados con observaciones de mayor escala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Datos paleontológic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tipos de organismos, diversidad, icnofósiles. Connotaciones ecológicas o paleoecológica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Datos sedimentológicos - petrológic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tipos de partículas, aspectos texturales (tamaño, selección, redondez), fábrica (empaquetamiento, orientación, relación granos/matriz, etc), tipos de cemento, tipos de huecos, tipos de reemplazo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INTERPRETACION DE AMBIENTES EN ROCAS CARBONATICAS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87488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Grande"/>
              </a:rPr>
              <a:t>Según Wilson (1970, 1974), los medios carbonatados más frecuentes son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Carbonatos profundos - isla barrera - lagoon con salinidad normal. En el lagoon se encontrarán gran cantidad de fósiles de organismos que vivían a baja profundidad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Carbonatos profundos - isla barrera - lagoon con circulación restringida (hipersalino). Se encontrarán evaporitas, estromatolitos y oncolitos. Muy pocos o ningún fósil de otro organismo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Carbonatos profundos - arrecife - lagoon con salinidad normal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ELEMENTOS INDICADORES DE AMBIENTES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El hecho de existir rx´s carbonáceas ya indica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climas cálidos y con poca cantidad de aporte de terrígenos continentale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Presencia de </a:t>
            </a: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micrita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indica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ambiente de sedimentación tranquila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, ya sea por encima o por debajo del nivel de oleaje. Su ausencia no implica necesariamente oleaje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Oolito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indica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zonas de alta energía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Extraclastos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y</a:t>
            </a: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 terrígenos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indica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proximidad a áreas emergida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Ostrácodos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viven en cualquier ambiente (marino o continental), pero en general aparecen e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zonas profunda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Las </a:t>
            </a: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carófita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sólo viven e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agua dulce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Los </a:t>
            </a: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Oncolito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y </a:t>
            </a: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estromatolito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se forman en medios mareales e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zonas hipersalina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Las Algas rojas pueden vivir en arrecifes, lagoones y profundidades de hasta 250 m. También habitan cualquier tipo de clima. Resto de algas sólo vive en climas cálidos y baja profundidad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9051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05120" y="380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olk (1959, 196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ELEMENTOS EN AMBIENTES SEDIMENTARIOS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Zonas profundas: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micrita, radiolarios, diatomeas, espículas de esponjas y globigerinas, es decir, organismos planctónico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Islas barreras: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oolitos, coquinas, conchas fracturadas, orientadas y algo redondeadas.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No se encuentra micrita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(Grainstones)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Zonas de arrecifes: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organismos arrecifales, a veces grainstone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Lagoones con circulación normal: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gran cantidad de fósiles de organismos que viven a baja profundidad (foraminíferos bentónicos, briozoos, bivalvos, etc), micrita, peloides y granos agregado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Lagoones con circulación restringida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: evaporitas, estromatolitos, oncolitos. Procesos de dolomitización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9051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Lucida Grande"/>
              </a:rPr>
              <a:t>SECUENCIA DE BANDAS DE FACIES (WILSON, 1975)</a:t>
            </a:r>
            <a:endParaRPr b="1" lang="en-US" sz="2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6868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66400" cy="5132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90720" y="3049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lasificacón de Dunham modificada por Klovan y Embry (19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553080" y="6172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osparrud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324480" y="6324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ospar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477120" y="6324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ospar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4857840" cy="1817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IOMICRITE or MUDSTONE / WACKE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828800" y="3962520"/>
            <a:ext cx="48798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celo Farías</cp:lastModifiedBy>
  <dcterms:modified xsi:type="dcterms:W3CDTF">2004-08-19T20:48:27Z</dcterms:modified>
  <cp:revision>15</cp:revision>
  <dc:subject/>
  <dc:title>Presentación de PowerPoint</dc:title>
</cp:coreProperties>
</file>