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10D-8F29-456D-BDCF-28BCCE76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576-B01D-4CCB-9E9C-33BA69AA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79C-B84D-44AF-94C7-90BB307A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E78-3277-49E8-9A9D-5E4282AB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BE8B-CF4B-4022-B042-017D1012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E66E-7424-443E-B5AF-3EE43A8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6783-8EE2-4A77-A509-14494D0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E39A-E073-4645-994D-7E74F21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F06F-A45D-4264-B63C-EAFEE00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138E-4677-42D2-A365-8A79D29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25F-6ED3-4259-BC89-0FF7C18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4E9-ECC8-4F80-88D0-E783E17F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6FC3-EF7E-43DA-9DEE-CE948A1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E182-E668-4DC3-BDEA-D880B0D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D143-D9E7-4AE7-922F-CA56586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745-6BBB-4732-8E4E-5842D199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7A46-2193-4C44-BBBC-9EC37670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9BD-F8A5-476C-8844-C89AF161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7BC-8ABD-4BEB-B2B8-D7CD4B0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F55-D968-46F0-820E-503F1BE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EC8-777B-4CC5-82F7-E263DB7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05A-F727-4062-ADBA-AC42926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E32-99C0-4105-A300-1EB15FC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796-61D9-477A-8FCB-099AED5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F8D9-10B4-4C04-98F1-509C79A13B8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401A-9433-4491-93DB-3E8CD074855B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220968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ROCAS CARBONA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85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SPARITE or GRAIN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562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78280" cy="374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339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iomicrit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37040" cy="369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57600" y="762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769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484960" cy="3943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2680" y="762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rasparrud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832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9880" y="685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lspar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94640" cy="410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9520" y="533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liti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tromatoporoi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ff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31960" y="1000080"/>
            <a:ext cx="60404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03480" y="1747800"/>
            <a:ext cx="4937040" cy="336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03480" y="1736640"/>
            <a:ext cx="4937040" cy="338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57320" y="380880"/>
            <a:ext cx="6791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3603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empaque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125960" cy="278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4160880" cy="2811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1219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micrita disp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830920" cy="3878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33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ioesparita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6560" cy="3571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457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70680" cy="361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esparita mal sele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994040"/>
            <a:ext cx="563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52480" y="609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crita fosilí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72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lesparita pobremente 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Grande"/>
              </a:rPr>
              <a:t>MICROFACIE: </a:t>
            </a: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Cjto. De criterios paleontológicos y sedimentológicos (petrológicos) que pueden ser determinados en secciones delgadas. Sirve para tener interpretación genétic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Los datos aportados por sección delgada deben ser complementados con observaciones de mayor escal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paleont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organismos, diversidad, icnofósiles. Connotaciones ecológicas o paleoecológica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Datos sedimentológicos - petrológic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tipos de partículas, aspectos texturales (tamaño, selección, redondez), fábrica (empaquetamiento, orientación, relación granos/matriz, etc), tipos de cemento, tipos de huecos, tipos de reemplaz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INTERPRETACION DE AMBIENTES EN ROCAS CARBONATICA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Grande"/>
              </a:rPr>
              <a:t>Según Wilson (1970, 1974), los medios carbonatados más frecuentes so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salinidad normal. En el lagoon se encontrarán gran cantidad de fósiles de organismos que vivían a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isla barrera - lagoon con circulación restringida (hipersalino). Se encontrarán evaporitas, estromatolitos y oncolitos. Muy pocos o ningún fósil de otro organismo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Carbonatos profundos - arrecife - lagoon con salinidad norm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INDICADORES DE AMBIENTE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El hecho de existir rx´s carbonáceas ya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climas cálidos y con poca cantidad de aporte de terrígenos continentale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Presencia de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mbiente de sedimentación tranquil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, ya sea por encima o por debajo del nivel de oleaje. Su ausencia no implica necesariamente oleaj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de alta energí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xtraclast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y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 terrígen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indica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proximidad a áreas emergida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strácodos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viven en cualquier ambiente (marino o continental), pero en general aparec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profund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carófit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ólo viven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agua dulce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os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Onc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estromatolito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se forman en medios mareales en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zonas hipersalinas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Las Algas rojas pueden vivir en arrecifes, lagoones y profundidades de hasta 250 m. También habitan cualquier tipo de clima. Resto de algas sólo vive en climas cálidos y baja profundida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lk (1959, 19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EMENTOS EN AMBIENTES SEDIMENTARIOS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profund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micrita, radiolarios, diatomeas, espículas de esponjas y globigerinas, es decir, organismos planctónic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Islas barrera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olitos, coquinas, conchas fracturadas, orientadas y algo redondeadas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Lucida Grande"/>
              </a:rPr>
              <a:t>No se encuentra micrit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 (Grainstones)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Zonas de arrecifes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organismos arrecifales, a veces grainston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normal: 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gran cantidad de fósiles de organismos que viven a baja profundidad (foraminíferos bentónicos, briozoos, bivalvos, etc), micrita, peloides y granos agregado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Lucida Grande"/>
              </a:rPr>
              <a:t>Lagoones con circulación restringida</a:t>
            </a:r>
            <a:r>
              <a:rPr b="0" lang="es-ES_tradnl" sz="2000" spc="-1" strike="noStrike">
                <a:solidFill>
                  <a:srgbClr val="000000"/>
                </a:solidFill>
                <a:latin typeface="Lucida Grande"/>
              </a:rPr>
              <a:t>: evaporitas, estromatolitos, oncolitos. Procesos de dolomitizació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051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Lucida Grande"/>
              </a:rPr>
              <a:t>SECUENCIA DE BANDAS DE FACIES (WILSON, 1975)</a:t>
            </a:r>
            <a:endParaRPr b="1" lang="en-US" sz="2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6868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66400" cy="513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304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lasificacón de Dunham modificada por Klovan y Embry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530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osparru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771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ospa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857840" cy="181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IOMICRITE or MUDSTONE / WACK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4879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Farías</cp:lastModifiedBy>
  <dcterms:modified xsi:type="dcterms:W3CDTF">2004-08-19T20:48:27Z</dcterms:modified>
  <cp:revision>15</cp:revision>
  <dc:subject/>
  <dc:title>Presentación de PowerPoint</dc:title>
</cp:coreProperties>
</file>